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BC47-95B8-4A56-A661-58C16B1946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F833-86FE-4391-8CC9-439476CAF9F8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709-BA28-4693-85E4-BC07A0FE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21C-70C5-4E73-8060-8B45782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783-86AE-488F-8189-7309DFC1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4B1-F9BE-4D9A-9380-51F24162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E0B0-BB10-4266-AECD-81B7297B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3C22-9040-4DF0-BFBE-F6A6E2BE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DDE4-BD5C-41F3-909E-515B59C3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AE23-F9B3-4E58-AE8F-14F61B32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BC69-805D-412D-92D7-2A1F5159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B9AA-FD39-4C77-8467-01721E27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8664-F5A0-494E-B628-648763EA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732-464A-4F23-B4B3-740FBEDB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EC41-E950-4057-B6F2-F0A71C7D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4D6D-01B1-42F4-AF48-402F26B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6DF9-10C3-41A2-B29D-41E3A1AC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0F1A-1B62-4236-8D39-421DBBA3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7F05-EE44-4E67-A6E0-F3F2A61F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EC1-975F-4A8D-BF37-FA0742B2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145-6F33-4DE6-9CA6-296768B0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0EC-0321-4E6C-9F15-BE1499C0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89C-1C47-4E1A-95EE-EC656FCD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DCC-C6DB-4D68-83C1-E4383958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26C-BC89-42A2-B9D7-6899E64F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2F8-15BC-4898-AB8E-2D7C129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3ECB-8072-497E-B8CC-FC9245C8472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03DF-8C92-4919-BCBC-85D606EF9DD4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5: 13 de noviembre d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8" descr="Fig1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cardenas</cp:lastModifiedBy>
  <dcterms:modified xsi:type="dcterms:W3CDTF">2012-11-08T14:08:24Z</dcterms:modified>
  <cp:revision>119</cp:revision>
  <dc:subject/>
  <dc:title>Derecho Constitucional Económico</dc:title>
</cp:coreProperties>
</file>