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21EE-C2BB-4700-A74C-613B6E5B3E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BD1F-2377-45CB-8663-AC5872579842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D0E-0E80-42A3-B415-1B6930CD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130-9302-4454-8955-E5ACCC6D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9F9-DD8D-4418-8515-A653AC2A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4CD-5488-4975-A1DD-79CC72DE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C7AD-9BA5-4AC9-8F6B-991CF0AE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267E-5C6F-4A87-83B4-39997779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DBB1-6222-4D5B-B3A7-EDEFA561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BA9C-BE64-4130-B7B9-ADE0DB6E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4190-BAA6-4703-9826-63C2F202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E09A-2079-47E4-B2E8-27ECB678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73F9-FD27-4D9E-BDA6-2649E28D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071-7A27-4C5C-9869-68B483FF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25BA-8827-4E6B-B3D3-8C6E9022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E574-B269-4755-83A4-FE173D36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770A-A228-49E6-A842-4CC3BEC2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6CB5-E2E5-473C-A274-911D5B83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3DE9-C8A9-4876-A637-3E7D293D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78F-936B-481F-ADB1-EF5AA167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922-4A19-40A0-A11B-B59807EC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90D6-7BBD-4D34-AC44-F2F446BA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908-A0B8-4E23-A0A1-D028DD93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495-6441-4A76-92C7-1FD2480B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45E-5573-474A-B628-EF1A4158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F4C-3F67-44E7-9B4A-184ED210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B9C3-DA1F-4151-A4E3-3873018A898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6629400" y="6172200"/>
            <a:ext cx="2133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9FE7-DC99-4703-BCB6-E4E2D98FECDA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gundo Semestr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8F85-757D-4546-ADD4-738B6C12EB5D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lerosis Múltiple”; art. 19 N°s 1 y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ncer de Mamas”; art. 19 N°1 + tratad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os en las relaciones de intercambio del “bien salud”. ¿Quién paga el costo f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3EAC-D55B-46B2-A9D5-4C0998CC28E2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a protección de la salud y a la seguridad social son de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naturaleza prestacional o de la segunda generación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, involucrando conductas activas de los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órganos estatales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y de los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articulares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para materializarlos en la práctica, habida consideración de que la satisfacción de tales exigencias representa un rasgo distintivo de la legitimidad sustantiva del Estado Social en la democracia constitucional contemporáne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 (TC – Rol N° 1287)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E746-1E8B-4502-A52B-732BCA1D6C9E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Lleva la “dinámica constitucional” necesariamente a maximizar el “bien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afecta al “mercado de la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elementos juegan en contra y cuáles a fav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n otros mercados el resultado es el mis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305F-1FA3-4C47-9E49-56740AF2B123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procesos son “forzados” por esta dinám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encuentran los incentivos bien pues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realiza “políticas públicas” a través de los fallos en materias constituciona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B1A2-CAA1-4FD2-AB5B-133183807DDF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nder qué fenómenos desencadena la “dinámica constitucional” en los mercados, especialmente los “montados” sobre derechos y garantías constitucionales (salud, educación, seguridad social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mo se desencadenan dichos fenóm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B028-D162-4FF1-BA70-4849635608A8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ar una “mirada crítica” a estos fenómenos, desde el punto de vista de la “economía del bienestar” 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welfare economic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: Eficiencia productiva y efectos (re)distributivo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1B9C-F288-4C22-9AF8-36589CC60F1F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es expositivas funda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 lecturas y estudios de casos conocidos en la práctica por nuestros tribunales de justicia. Se efectuarán discusiones en torno a los mismos y trabajos en grupos de alum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ementos interdisciplinarios: participación de no abogados para ciertas mate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cia del ing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527D-BA58-4A94-9AA6-6136EA0934A4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sistencia será obligatoria en un 70% y será controlada en forma efectiva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se efectuará de la siguiente 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ación de un requerimiento de inaplicabilidad por inconstitucionalidad (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ación de un requerimiento de inconstitucionalidad (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ación de un informe en derecho sobre un tema de constitucionalidad (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son trabajos grupales; se evalúa estructura argu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a seguir discutiendo … Twitt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@PepoCarden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39A8-4308-46F5-8188-E1BDC9C9F28D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FFDF-B27E-47E9-B1DC-6FCCADF336EA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ciente importancia del derecho constitucional en la estructuración de las relaciones económ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l catalizador de las nuevas facultadas del TC, tras reforma de 2005 (Ley N° 20.05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erimientos de inaplicabilidad por inconstitucionalidad + declaraciones de inconstitucionalidad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FFEB-5340-489C-9D31-290FE18ED381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ecto relativo vs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rga o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de Protección (art. 20 CP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n parte de los conflictos de connotación pública terminan directa o indirectamente en el 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6983-5075-48DC-9058-091F9DB4E8C3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laciones Bi-direccion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4114800" y="2286000"/>
            <a:ext cx="1600200" cy="685800"/>
          </a:xfrm>
          <a:prstGeom prst="flowChart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41972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2209680" y="4495680"/>
            <a:ext cx="175284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5791320" y="4572000"/>
            <a:ext cx="167616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4382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019920" y="4648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 flipV="1">
            <a:off x="3048120" y="3124080"/>
            <a:ext cx="160020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 flipV="1">
            <a:off x="5105160" y="3124080"/>
            <a:ext cx="152388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 flipH="1">
            <a:off x="2819160" y="3048120"/>
            <a:ext cx="1523880" cy="1295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5410080" y="3124080"/>
            <a:ext cx="1371600" cy="12193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3962520" y="4724280"/>
            <a:ext cx="17524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 flipH="1">
            <a:off x="3962520" y="4876920"/>
            <a:ext cx="167616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048120" y="29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2286000" y="3429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cion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657600" y="3962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Acc. Const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3886200" y="51055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Intereses C° relevant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7010280" y="4114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6019920" y="297180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seudo-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osición dominant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81B2-DA90-4058-93D2-C84555D20204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fectos (Re-)Estructuran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ntes: Control preventivo de constitucionalidad art. 93 N°s 1 y 3 C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estructurantes: Control correctivo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dinámica con influencia en oferta, demanda, bienes y serv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92DC-75BA-4020-B66C-E9C642183721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Libertades, D°s &amp; Garantí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iamente Económicos: Art. 19 N° 2, 20, 21, 22, 23, 24 y 25 (influyen y sustentan directamente producción, intercambio, distribución y consu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 “potencialidades” económicas: pueden implicar costos o beneficios. Art. 19 N°s 1, 8, 9, 11, 15, 16, 18, 19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epto de Orden Públic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7201-BD34-4075-9AA2-4F3A3ACE72EA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a connot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rcado 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” (presenta numerosas “fall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vención regulatoria correctiva ¿nuevas fal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F9A9-0471-42A7-B0A3-334B32657AB9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3962520" y="2286000"/>
            <a:ext cx="2133360" cy="6094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267080" y="2506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828800" y="464832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98108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acient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5943600" y="457200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9436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Asegur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2971800" y="2971440"/>
            <a:ext cx="144792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 flipH="1" flipV="1">
            <a:off x="5714640" y="2971440"/>
            <a:ext cx="68580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3581280" y="5029200"/>
            <a:ext cx="205740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248520" y="3124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úblicos vs. Privado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2743200" y="2971800"/>
            <a:ext cx="1371600" cy="1523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3657600" y="5562720"/>
            <a:ext cx="2133720" cy="3808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4038480" y="5562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V="1">
            <a:off x="5791320" y="5334120"/>
            <a:ext cx="838080" cy="380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4724280" y="2971440"/>
            <a:ext cx="0" cy="25909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26F6-631C-4290-A212-947B9604884D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uede ser maximizado el “bien salud” teniendo como base la “dinámica constitucional” y un mercado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visión del precio base; inciso 3° del art. 197 del D.F.L. N° 1 de 2005 (19 N° 24 CPR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bla de factores”; art. 199 del D.F.L. N° 1 de 2005 (19 N°s 9 y 24 CP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7:01:40Z</dcterms:created>
  <dc:creator>jlcarden</dc:creator>
  <dc:description/>
  <dc:language>en-US</dc:language>
  <cp:lastModifiedBy>jcardenas</cp:lastModifiedBy>
  <dcterms:modified xsi:type="dcterms:W3CDTF">2012-08-30T14:51:58Z</dcterms:modified>
  <cp:revision>11</cp:revision>
  <dc:subject/>
  <dc:title>Derecho Constitucional Económico</dc:title>
</cp:coreProperties>
</file>