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7469-2FC8-494F-9070-4246A3D4DF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A350-4D10-4EC6-880A-4BA7E87F224E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D32-52DB-460A-974B-63E4A6B2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946-8155-4C53-BD44-6F862A19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4E0-7576-4826-BFE5-5897E48C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FCB-1735-49B3-B243-F841E133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9A6F-5565-4122-9280-AC0B9A9E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EFF2-86B1-4A1F-98C1-C2AAE732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B07E-9804-4ACB-AB62-D04FDAD5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E3F6-AAF6-4DE6-94BD-FBA67991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16EF-A64E-4E1D-9081-219928F0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A7D3-9072-4047-9435-C8D55411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E19E-71FC-48C1-8DBE-74523D11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771-21E8-4BAB-915E-DB2A607F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B8C9-9BCB-4546-BB51-E0FEA0C3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2DE6-DFA9-4AF3-99C2-6CE1969A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004D-D538-47A8-AC4D-EB4FD23C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048E-1968-4C4E-AF8C-226EEE2D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A910-97FA-47DB-BF7E-C072BBE0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17A-9132-4DE9-85E9-2B30AC6E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191-A693-4AF1-9333-F6AF3ACA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529-A54D-498C-B9F8-F9DD2152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18D-9EFF-417D-9C99-3D268377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53D-9CF2-42F8-8837-8B8EC113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AF7-BCFF-41D3-BB5E-2CC592B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972-C633-4077-8B72-71E73706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6F62-01D4-4DEF-A729-1E6D937567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629400" y="61722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63C0-3064-4553-9760-29DC1B8A8660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gundo Semest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ACAE-6349-4A8C-B6EA-CC2E19A97D99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538A-E0A9-4F8D-97A2-910DD9E5F1F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6FD1-E264-411A-87C3-6BE5A520A80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n otros mercados el resultado es el m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6690-FBBD-4818-BD73-1823077EAAA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9E04-BC1F-44D1-A783-CF4427AB97DB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, especialmente los “montados” sobre derechos y garantías constitucionales (salud, educación, seguridad social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D542-379A-4919-A116-BD2E008C544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2FEE-5E9C-4490-83EA-D1097159714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10F3-6B60-458C-B658-5D3D13CFA9A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aplicabilidad por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informe en derecho sobre un tema de constitucionalidad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son trabajos grupales; se evalúa estructura argu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seguir discutiendo … Twitt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@PepoCarden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C875-F3E3-4C53-851E-AF0974FBC1D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CE9E-708E-4633-A7D5-B7CDD03638BC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42E1-4F91-4586-B740-5AAE2866AC23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C16-8939-4D21-9C39-DC1C12BED42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4197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791320" y="457200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19920" y="4648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9BD-080E-4FDC-97ED-108D5A507DC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F902-DA7B-4ACA-B257-67693FABAD7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41E3-2365-4946-A8F5-6E5C766ACA4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BE4E-D500-497A-A933-B217B9F56C0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2040-A120-4A48-8E7F-E7FEF77F446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01:40Z</dcterms:created>
  <dc:creator>jlcarden</dc:creator>
  <dc:description/>
  <dc:language>en-US</dc:language>
  <cp:lastModifiedBy>jcardenas</cp:lastModifiedBy>
  <dcterms:modified xsi:type="dcterms:W3CDTF">2012-08-30T14:51:58Z</dcterms:modified>
  <cp:revision>11</cp:revision>
  <dc:subject/>
  <dc:title>Derecho Constitucional Económico</dc:title>
</cp:coreProperties>
</file>