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56EA-7F64-454B-917D-4E0DE39D6E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6A25-54C5-4F8B-A510-0133AA776E60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BC2-C6A2-47A7-B8BD-51371379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DD5-8B2A-4182-A66B-6A25C01C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EF1-8E1A-49B1-827D-B47DD279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885-2614-4D54-BCF0-B489E89F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9CA3-35C9-47AA-B35A-3E2AA50E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B3B0-15F4-4068-9CB4-661ADE69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7508-38AE-41F2-8F82-B5752B32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CD9B-7F18-4B5E-8DB8-58D8CB31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FAE0-265B-43E1-8369-24F9D140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FABC-0AEA-4AA9-A67B-93025A4B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AF7A-1493-4956-89C9-FBAC1296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15A-539E-415D-A7E5-E509D996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66E0-D3CC-41B7-AD08-7EC6101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9376-45E1-4DAA-97AA-5B080138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D7BD-69DD-4230-A249-6BFD1BD5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AD62-7446-457E-AAD2-FCF62CAB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606A-68A4-44F2-B46C-5C66C828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F37-6CF5-4728-A755-65CC87A4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76C-3BC3-46DD-A07B-478056B4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817-DCAB-40C8-B2B5-559FA3EE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EE8-1165-49F8-B52F-F74B2BB9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7DE-7D37-4CB9-8ED4-225D6D58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1FF-4E6B-49A3-93CD-C3E39F7E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17F-09AB-4BD0-8761-4B7ECEA4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7B91-E6B4-42A3-964C-C9520D7B79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6629400" y="617220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A5A9-FFE7-447C-9B4C-C111A8A023E1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gundo Semest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0340-1A0E-4B5D-A4AD-E2738CCEBBD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AA15-1842-4F81-8D8D-EB3ECE649AF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0667-D866-4180-A8F6-707761733EDA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n otros mercados el resultado es el mi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4B36-8D7C-4E3F-9229-A62A5CC0956B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A8DD-98D7-46F2-BFEC-E1428F2D35D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, especialmente los “montados” sobre derechos y garantías constitucionales (salud, educación, seguridad social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031D-0E28-4E22-B0B9-5EFE884A5C89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EAC0-C7FB-45D1-9850-868FD3B37C1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70B9-3ADF-40A0-A2AA-50E019B4B6F0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aplicabilidad por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informe en derecho sobre un tema de constitucionalidad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son trabajos grupales; se evalúa estructura argu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seguir discutiendo … Twitt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@PepoCarden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C293-729C-4721-8409-F9963F47E49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4745-DFA9-4B14-A4F9-E6D934E4E2E6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2551-09CE-448A-B1E2-7654BE45AC1C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3DEC-9D29-4E5B-B06F-B71E310E2D5D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41972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791320" y="457200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019920" y="4648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79AE-196E-466B-8987-C9FF1EF620F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2A3D-F81F-47DD-82E3-C2D510CACF4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E33C-36E8-48CB-8E9D-589397557B59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81B0-0729-4DC1-9093-CD20CDF4C519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CE59-F350-4E1D-8339-FF7910AF76D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7:01:40Z</dcterms:created>
  <dc:creator>jlcarden</dc:creator>
  <dc:description/>
  <dc:language>en-US</dc:language>
  <cp:lastModifiedBy>jcardenas</cp:lastModifiedBy>
  <dcterms:modified xsi:type="dcterms:W3CDTF">2012-08-30T14:51:58Z</dcterms:modified>
  <cp:revision>11</cp:revision>
  <dc:subject/>
  <dc:title>Derecho Constitucional Económico</dc:title>
</cp:coreProperties>
</file>