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49E2-2486-46BB-9F17-2280B60850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A1B8-A626-492C-AC4F-8C3F6BEA1FF1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803-B336-407C-8F97-78EA4F08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771-6F09-41A8-9C8C-6D8B14A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C73-E6E9-4B04-B404-7772A5B7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BDF-A19B-4C08-85B2-8DFAE009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CF5-BD3C-478A-A369-DF9EC666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E957-2C75-4671-81F1-AB1D1858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143-8CEC-4BCA-8B4D-B283314A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9008-2486-4443-B3C4-A4902AB4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DC3A-15AC-4B29-891E-6AAD0433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326F-638D-4C86-B2AE-274EB721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4498-DDC7-49D7-819F-E2C27A6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5A9-168B-456F-8911-37333CC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6745-D844-42C8-9800-6D1D6D5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253A-13EB-4878-892A-06CF388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0EB6-2D16-4BA5-AF02-3C8B3639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4FE2-1589-4373-AFC7-8E281232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B453-85B9-4D06-9D57-E231AFFF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39C-25DE-4F0C-A419-8FCE8B8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C4F-9E3C-4F1E-B108-3A42A3C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B1F-AE18-4E5A-B791-B12B4B5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DDD-3343-4AB8-BFD2-760EE6BE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BEA-281B-42F0-A9ED-361229B9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FB6-846F-4DEC-8085-EBE1B19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D0B-A1A9-4072-8B93-5889E22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D2B3-41C8-4CCD-B97F-C786D2E664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629400" y="6172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1CBA-A32F-4661-B449-94C7B453D4A8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undo Semest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0C9-5509-40D3-8FD8-BC04417B966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F27-99E0-4FFE-8822-D18B1BD5C41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C763-15B1-4AA8-AF49-8D0A02ACF87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n otros mercados el resultado es el m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CC3-7EEE-4C65-A91E-EE1A715822F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BE4F-DF25-45D6-B413-CBAF8DB74E2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, especialmente los “montados” sobre derechos y garantías constitucionales (salud, educación, seguridad soci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3E4C-2AD8-489A-AA6C-252A851B77A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0A2-C18C-4EF0-B462-27F88EB28CE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015D-D5DC-48A4-BDCF-75CB81D628D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aplicabilidad por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informe en derecho sobre un tema de constitucionalidad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son trabajos grupales; se evalúa estructura argu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seguir discutiendo … Twitt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@PepoCarden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823-62C7-47DB-B4D6-AA66A1F9F81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F2BD-FB28-4CB4-BDDC-C595F2EB4216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1037-2F13-4D7D-B2AC-E74D3F73D48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D51C-6B76-48DD-83EF-1554989D35C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9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791320" y="457200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19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42C2-382D-4BE8-AB34-D9C46440B8F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5CC-CC0C-4A7F-823F-9D32F4A1D99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12FE-9E36-4777-A02F-FCD617308BC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1A9D-9D5A-47CE-AC4D-8C3AD8201CF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8562-B0F1-4281-A426-814755DD241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01:40Z</dcterms:created>
  <dc:creator>jlcarden</dc:creator>
  <dc:description/>
  <dc:language>en-US</dc:language>
  <cp:lastModifiedBy>jcardenas</cp:lastModifiedBy>
  <dcterms:modified xsi:type="dcterms:W3CDTF">2012-08-30T14:51:58Z</dcterms:modified>
  <cp:revision>11</cp:revision>
  <dc:subject/>
  <dc:title>Derecho Constitucional Económico</dc:title>
</cp:coreProperties>
</file>