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634D-B87A-4104-AE16-C5516DBF36D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8551-777C-4851-B93A-259E428F82F3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1C7-A17D-40A5-8EF4-611FB6AD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718-BB80-4798-A57A-04864362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F61-4EDC-419B-822F-54F5E170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E8B-B343-41C6-B4A3-D5F51309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1A7B-DE31-4E3A-940C-10DCC7D6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7C80-8315-4D77-BD68-E041C06D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454F-4A96-4516-891D-57C3DD81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D2E8-2E76-4FF2-870F-5A84574F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3DB4-C247-4A74-AF0A-8B483B2B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8805-85D5-4813-B0B4-BAC07C4D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CDD8-6AA6-465F-AADC-557FA84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CE49-0618-4C9C-8A40-03EE7E95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4232-8954-4256-B4B5-951FB5F1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C47B-4B3E-46BC-95C2-2BE8818A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66D-3557-4062-85A8-8123A6F2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460C-2A6D-4683-A04A-3E15D335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551F-803B-4102-93A5-1A323206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4741-309C-4ADA-A29C-B2F728D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905-C95D-4311-A832-71197E07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904-15C5-4B8E-840F-6A962576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D0C-3532-49B7-8B2B-7DFA0397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6C0-92D0-4EBE-BC46-48B3A54F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F23-EAE9-4136-B2D7-C8F6B169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83D-1249-40F2-9ADE-BB6DBE28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4A9A-DC35-41B2-902E-BF0DB6DF09D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6629400" y="61722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88B3-3175-41A9-923C-1EC17721077C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gundo Semest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D554-6FC0-4775-963E-0B3452E16C9D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lerosis Múltiple”; art. 19 N°s 1 y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ncer de Mamas”; art. 19 N°1 + tratad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mbios en las relaciones de intercambio del “bien salud”. ¿Quién paga el costo fi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59A4-D9BA-425E-9BC8-129BFE90359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a protección de la salud y a la seguridad social son de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naturaleza prestacional o de la segunda generación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, involucrando conductas activas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órganos estatal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y de los </a:t>
            </a:r>
            <a:r>
              <a:rPr b="1" i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articulares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para materializarlos en la práctica, habida consideración de que la satisfacción de tales exigencias representa un rasgo distintivo de la legitimidad sustantiva del Estado Social en la democracia constitucional contemporáne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” (TC – Rol N° 1287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82A1-98EC-42A8-AAAD-185475FEC360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Lleva la “dinámica constitucional” necesariamente a maximizar el “bien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afecta al “mercado de la salu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elementos juegan en contra y cuáles a fav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n otros mercados el resultado es el mis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4FD6-43D5-4A6B-904B-10938735FE9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egunta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Qué procesos son “forzados” por esta dinám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encuentran los incentivos bien pues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Se realiza “políticas públicas” a través de los fallos en materias constitucional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E810-FEF1-487F-8C06-16F4FD819BF4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nder qué fenómenos desencadena la “dinámica constitucional” en los mercados, especialmente los “montados” sobre derechos y garantías constitucionales (salud, educación, seguridad social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mo se desencadenan dichos fenóme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E562-EEC5-43F9-9F85-99EDC170C469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arrollar una “mirada crítica” a estos fenómenos, desde el punto de vista de la “economía del bienestar” (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welfare economic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: Eficiencia productiva y efectos (re)distributivo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AB66-5671-4867-84DB-1F8F5EF1518A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ses expositivas fundament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 de lecturas y estudios de casos conocidos en la práctica por nuestros tribunales de justicia. Se efectuarán discusiones en torno a los mismos y trabajos en grupos de alumn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ementos interdisciplinarios: participación de no abogados para ciertas mate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cia del ingl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BAEF-9824-4890-ABF8-A2A616E3CBAB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Misceláne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sistencia será obligatoria en un 70% y será controlada en forma efectiva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valuación se efectuará de la siguie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aplicabilidad por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requerimiento de inconstitucionalidad (3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paración de un informe en derecho sobre un tema de constitucionalidad (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son trabajos grupales; se evalúa estructura argume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seguir discutiendo … Twitt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@PepoCarden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59DC-42FC-4CFD-8680-4FF5064C5B90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D845-76FD-4840-907B-D60ABFB0155B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 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eciente importancia del derecho constitucional en la estructuración de las relaciones económ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l catalizador de las nuevas facultadas del TC, tras reforma de 2005 (Ley N° 20.05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erimientos de inaplicabilidad por inconstitucionalidad + declaraciones de inconstitucionalidad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2707-2637-4EE6-B32E-1F2E2B3AF707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anorama Actu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ecto relativo vs.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erga o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ursos de Protección (art. 20 CP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ran parte de los conflictos de connotación pública terminan directa o indirectamente en el 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8750-F324-4106-858B-706E1C977B1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laciones Bi-direccional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114800" y="2286000"/>
            <a:ext cx="1600200" cy="685800"/>
          </a:xfrm>
          <a:prstGeom prst="flowChart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419720" y="2438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2209680" y="4495680"/>
            <a:ext cx="175284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5791320" y="4572000"/>
            <a:ext cx="1676160" cy="457200"/>
          </a:xfrm>
          <a:prstGeom prst="flowChartTerminator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3828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019920" y="4648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ivado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 flipV="1">
            <a:off x="3048120" y="3124080"/>
            <a:ext cx="160020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5105160" y="3124080"/>
            <a:ext cx="1523880" cy="13716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819160" y="3048120"/>
            <a:ext cx="1523880" cy="12952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5410080" y="3124080"/>
            <a:ext cx="1371600" cy="12193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962520" y="4724280"/>
            <a:ext cx="17524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H="1">
            <a:off x="3962520" y="4876920"/>
            <a:ext cx="167616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304812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2286000" y="34290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cional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657600" y="3962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Acc. Const.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3886200" y="510552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Intereses C° relevant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70102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6019920" y="297180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seudo-regulador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osición dominante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797E-0BE4-424D-9653-FAE180B461D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Efectos (Re-)Estructurant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ructurantes: Control preventivo de constitucionalidad art. 93 N°s 1 y 3 CP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estructurantes: Control correctivo (art. 93 N°s 6 y 7 CP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dinámica con influencia en oferta, demanda, bienes y serv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6655-50E0-4A34-901A-4B7111C528A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Libertades, D°s &amp; Garantí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piamente Económicos: Art. 19 N° 2, 20, 21, 22, 23, 24 y 25 (influyen y sustentan directamente producción, intercambio, distribución y consum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 “potencialidades” económicas: pueden implicar costos o beneficios. Art. 19 N°s 1, 8, 9, 11, 15, 16, 18, 19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epto de Orden Públic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27C3-EB65-4CB6-925A-1695D62E2F01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a connotac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ercado “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” (presenta numerosas “falla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tervención regulatoria correctiva ¿nuevas fall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2B40-2E52-4FCF-99AF-8E29A8BEA98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roducción:</a:t>
            </a:r>
            <a:br>
              <a:rPr sz="4200"/>
            </a:b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¿Mercado de la Salud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3962520" y="2286000"/>
            <a:ext cx="2133360" cy="6094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267080" y="2506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rest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828800" y="464832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98108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Pacient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943600" y="4572000"/>
            <a:ext cx="1752480" cy="68580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943600" y="4724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Aseguradore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2971800" y="2971440"/>
            <a:ext cx="144792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H="1" flipV="1">
            <a:off x="5714640" y="2971440"/>
            <a:ext cx="685800" cy="16002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3581280" y="5029200"/>
            <a:ext cx="205740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6248520" y="312408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6666"/>
                </a:solidFill>
                <a:latin typeface="Arial"/>
              </a:rPr>
              <a:t>Públicos vs. Privados</a:t>
            </a: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2743200" y="2971800"/>
            <a:ext cx="1371600" cy="1523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3657600" y="5562720"/>
            <a:ext cx="2133720" cy="380880"/>
          </a:xfrm>
          <a:prstGeom prst="flowChartAlternateProcess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4038480" y="55627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6666"/>
                </a:solidFill>
                <a:latin typeface="Arial"/>
              </a:rPr>
              <a:t>Regulador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 flipV="1">
            <a:off x="5791320" y="5334120"/>
            <a:ext cx="838080" cy="38088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4724280" y="2971440"/>
            <a:ext cx="0" cy="259092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0000-C809-4570-BB3B-D3313F6401B5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uede ser maximizado el “bien salud” teniendo como base la “dinámica constitucional” y un mercado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atíp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cientes tendencias jurispruden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visión del precio base; inciso 3° del art. 197 del D.F.L. N° 1 de 2005 (19 N° 24 CPR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bla de factores”; art. 199 del D.F.L. N° 1 de 2005 (19 N°s 9 y 24 CP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7:01:40Z</dcterms:created>
  <dc:creator>jlcarden</dc:creator>
  <dc:description/>
  <dc:language>en-US</dc:language>
  <cp:lastModifiedBy>jcardenas</cp:lastModifiedBy>
  <dcterms:modified xsi:type="dcterms:W3CDTF">2012-08-30T14:51:58Z</dcterms:modified>
  <cp:revision>11</cp:revision>
  <dc:subject/>
  <dc:title>Derecho Constitucional Económico</dc:title>
</cp:coreProperties>
</file>