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3269-F210-46B3-8426-39E78E8042B4}"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30A6-781B-4898-BB70-C1F2DAF5B2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0B6B-2165-4853-8C57-363663957B4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24DB-9D8D-4731-B07F-4381CB83FA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5831-40EB-45E3-A55A-FF2D9206F1C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6364-2C18-46DA-BB79-C148463D0EC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F83B-E034-4606-8C92-8B956DFDB50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E4C0-44C5-4802-9432-EFED558E09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E19A-4083-4A4B-B672-D648C30C119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139A-35FC-4413-B878-96F8714E8A0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55B1-A912-4CE0-89DA-4984781324A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CDF05-0290-4C1A-AA9F-265E5015D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13098-1244-4ACF-9830-57D68B519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70C3C-0B56-4435-A4FE-AC4EF6DAB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6ED7E-4929-4B44-883E-B43FE77B1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D3692-F09F-4796-B53C-A8B381EBD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25FD6-6BEF-4B23-8398-0D68219BD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266A6-CA97-4D0D-B09F-06026DBED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2768C-23E5-4EB5-8AB5-715D55EB5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C5F54-4484-4269-B698-0FD349D4C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8008A-F270-4CFA-BB5B-3BF535FD6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C0104-564C-4A0E-9851-EA929F98F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9436B-5F45-4AF3-9C8B-DCF7A0AE4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2DAFC-99EB-4D08-AAEB-888900599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73FA7-76E1-459E-B4B6-0DB92B640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1AAF1-07A6-4D24-B32C-6825D8AD3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5601A-6781-42BA-844D-223348947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FBD37-8990-423A-8D0D-F8EA0CDFA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F1408AD-DB54-4B42-8DE5-E68C54F0CA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636F004-0EAC-468A-A1BA-759564701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ADD7D0-2C6A-4AA9-98C1-3A147E25F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354581A-F252-42CD-8270-75FE61F57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71A1CB-6FB3-45C5-9567-54EC4AD6A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6374-8324-4956-A09C-3456DD110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B28A3C-E2E9-4E2D-A455-B6A5F80C2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D2ACD2-A366-4DDB-A126-C5EB0E833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2D2F88-7F10-43E4-AF05-DC9A651A0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AEF1E2-2981-4E1D-8571-7DC1D3559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2D923B-D474-47C3-9E41-A5A865E50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9CA3E0E-6D08-4222-ADD6-7A5D059229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97C9E6D-B48B-4A83-934A-582462FE30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D91725-2EF5-4A4E-BEF3-4AFBCDBED7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E145B0-7B6F-4314-B259-50FCD8C66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DF164F-41E2-4605-B7EE-66981458B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F9958-7BB8-4F40-BD66-13DB6ECEA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05C92-2AF6-45D4-94B0-37E80A507C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8583D-FDAE-41DD-BA92-0B25305700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2AA9C-9EA3-4795-B98A-039741253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A0E4E-4DB1-4EA7-933E-1AA9D8A2B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F27FD-7309-4091-92AC-F6B733EB8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2437B-60F6-4A66-9F16-E468C167A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F3BCB3-62AE-42D6-9229-6BCAD1541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FFC69D-2774-41E3-9637-31217C19FE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E463C8-FB4A-4D10-B674-002BF738F6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F83C5-AF7B-4C0F-9356-D0A039C22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124B6-880A-4C9D-8691-325FE4305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02815-EC48-46FE-9057-814ADB5E9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D2F2-1366-4768-B927-EF23BA28C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F0AF-7BF2-411B-A75E-9581F5B76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F4EA-5960-4BAB-B9A4-9ABE478AA488}"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22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3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4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5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6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6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9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0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8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73DB-B3CA-4046-A80A-96D3C723E95B}"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AE56-9E11-474E-854E-E15A1EF69C0F}"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375D-83AC-4710-97BA-DF1E1A2C98AF}"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Juicio Ordinari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78920" y="259920"/>
            <a:ext cx="4953240" cy="175284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Georgia"/>
            </a:endParaRPr>
          </a:p>
        </p:txBody>
      </p:sp>
      <p:sp>
        <p:nvSpPr>
          <p:cNvPr id="223" name="3 CuadroTexto"/>
          <p:cNvSpPr/>
          <p:nvPr/>
        </p:nvSpPr>
        <p:spPr>
          <a:xfrm>
            <a:off x="5651640" y="4653000"/>
            <a:ext cx="295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proximación legal y práctica al proced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8362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a:t>
            </a:r>
            <a:endParaRPr b="0" lang="en-US" sz="2800" spc="-1" strike="noStrike">
              <a:solidFill>
                <a:srgbClr val="424456"/>
              </a:solidFill>
              <a:latin typeface="Trebuchet MS"/>
            </a:endParaRPr>
          </a:p>
        </p:txBody>
      </p:sp>
      <p:sp>
        <p:nvSpPr>
          <p:cNvPr id="245" name=""/>
          <p:cNvSpPr txBox="1"/>
          <p:nvPr/>
        </p:nvSpPr>
        <p:spPr>
          <a:xfrm>
            <a:off x="468360" y="1695240"/>
            <a:ext cx="8229600" cy="38941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Requisitos: comunes a todo escrito + Arts. 30, 31, 254 CPC</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 anterior implic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e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dividualización Tribun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mbre, domicilio, profesión u oficio demandante y su representante,</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pecificando la naturaleza de la representación</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Nombre, domicilio, profesión u oficio demandado.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xposición clara de los hechos y fundamentos de derecho</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nunciación precisa y clara de las pretensiones</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signación de abogado patrocinante y constitución de mandatario judicial (art. 6 CPC)</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irma y rut actor, abogado patrocinante y mandatario judici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981000"/>
            <a:ext cx="8229600" cy="5592960"/>
          </a:xfrm>
          <a:prstGeom prst="rect">
            <a:avLst/>
          </a:prstGeom>
          <a:noFill/>
          <a:ln w="0">
            <a:noFill/>
          </a:ln>
        </p:spPr>
        <p:txBody>
          <a:bodyPr anchor="t">
            <a:normAutofit fontScale="93000"/>
          </a:bodyPr>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otros aspectos prácticos:</a:t>
            </a:r>
            <a:endParaRPr b="0" lang="en-US" sz="1800" spc="-1" strike="noStrike">
              <a:solidFill>
                <a:srgbClr val="000000"/>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senta en la secretaría del tribunal (recibe el oficial de sala en mesón)</a:t>
            </a:r>
            <a:endParaRPr b="0" lang="en-US" sz="1800" spc="-1" strike="noStrike">
              <a:solidFill>
                <a:srgbClr val="000000"/>
              </a:solidFill>
              <a:latin typeface="Georgia"/>
            </a:endParaRPr>
          </a:p>
          <a:p>
            <a:pPr lvl="2" marL="857520" indent="-20340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los tribunales civiles de Santiago dada la regla de distribución de causas la presentación es en la oficina de distribución  de corte ubicada en Morandé con Compañía. Las causas que queden radicadas en los tribunales que están en el plan piloto (</a:t>
            </a:r>
            <a:r>
              <a:rPr b="0" lang="es-CL" sz="1400" spc="-1" strike="noStrike">
                <a:solidFill>
                  <a:srgbClr val="53548a"/>
                </a:solidFill>
                <a:latin typeface="Georgia"/>
              </a:rPr>
              <a:t>1, 5, 6, 7, 8, 9, 12, 13, 14, 15, 17, 18, 25, 26) hay que esperar la resolución  que ordena autorizar poder en 8 días. Se autoriza en el mismo tribunal con el secretario. Si la demanda viene con documentos hay que  acompañarlos en fotocopia el mismo día que se autorice poder. No hay expediente físico. De ahí en adelante la presentación los escritos se presentan en las ventanillas del primer piso de tribunales. En los restantes tribunales  la demanda se autoriza una vez que llega al tribunal (por lo general 3 días) . Si la demanda viene con documentos, se pueden acompañar los originales o  fotocopias en la misma demanda. Hay expediente físico, y los escritos se presentan en cada tribunal, solicitando el expediente.         </a:t>
            </a:r>
            <a:endParaRPr b="0" lang="en-US" sz="1400" spc="-1" strike="noStrike">
              <a:solidFill>
                <a:srgbClr val="53548a"/>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debe asignarle un rol a la causa, otorgarle una carátula y enumerar cada foja</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empre se acompañan tantas copias como partes que deben ser notificadas (adicionales a la copia para el expediente)</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segúrese que el encargado del mesón de atención de público timbre TODOS los ejemplares. </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be pedirse al secretario del tribunal la custodia de los documentos originales acompañados que su “desaparición” genere la frustración de la acción.</a:t>
            </a:r>
            <a:endParaRPr b="0" lang="en-US" sz="1600" spc="-1" strike="noStrike">
              <a:solidFill>
                <a:srgbClr val="000000"/>
              </a:solidFill>
              <a:latin typeface="Georgia"/>
            </a:endParaRPr>
          </a:p>
          <a:p>
            <a:pPr lvl="1" marL="611280" indent="-22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i="1" lang="es-ES" sz="1600" spc="-1" strike="noStrike">
                <a:solidFill>
                  <a:srgbClr val="438086"/>
                </a:solidFill>
                <a:latin typeface="Georgia"/>
              </a:rPr>
              <a:t>Ejemplo : cheques, pagaré y en general documentos de crédito</a:t>
            </a:r>
            <a:endParaRPr b="0" lang="en-US" sz="1600" spc="-1" strike="noStrike">
              <a:solidFill>
                <a:srgbClr val="438086"/>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691920"/>
            <a:ext cx="7139160" cy="6165720"/>
          </a:xfrm>
          <a:prstGeom prst="rect">
            <a:avLst/>
          </a:prstGeom>
          <a:noFill/>
          <a:ln w="0">
            <a:noFill/>
          </a:ln>
        </p:spPr>
        <p:txBody>
          <a:bodyPr anchor="t">
            <a:normAutofit/>
          </a:bodyPr>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Procedimient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Ordinario.</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Materia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Indemnización de perjuici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nte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Abog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epresentante legal</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EN LO PRINCIPAL</a:t>
            </a:r>
            <a:r>
              <a:rPr b="0" lang="es-MX" sz="1100" spc="-1" strike="noStrike">
                <a:solidFill>
                  <a:srgbClr val="000000"/>
                </a:solidFill>
                <a:latin typeface="Arial"/>
                <a:ea typeface="SimSun"/>
              </a:rPr>
              <a:t>: Demanda de Indemnización de perjuicios por incumplimiento de contrato;</a:t>
            </a:r>
            <a:r>
              <a:rPr b="1" lang="es-MX" sz="1100" spc="-1" strike="noStrike">
                <a:solidFill>
                  <a:srgbClr val="000000"/>
                </a:solidFill>
                <a:latin typeface="Arial"/>
                <a:ea typeface="SimSun"/>
              </a:rPr>
              <a:t> PRIMER OTROSÍ</a:t>
            </a:r>
            <a:r>
              <a:rPr b="0" lang="es-MX" sz="1100" spc="-1" strike="noStrike">
                <a:solidFill>
                  <a:srgbClr val="000000"/>
                </a:solidFill>
                <a:latin typeface="Arial"/>
                <a:ea typeface="SimSun"/>
              </a:rPr>
              <a:t>: Acompaña documentos con citación y solicita custodia; </a:t>
            </a: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Patrocinio y poder.</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 J. L. de Santiag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Demandante,</a:t>
            </a:r>
            <a:r>
              <a:rPr b="0" lang="es-MX" sz="1100" spc="-1" strike="noStrike">
                <a:solidFill>
                  <a:srgbClr val="000000"/>
                </a:solidFill>
                <a:latin typeface="Arial"/>
                <a:ea typeface="SimSun"/>
              </a:rPr>
              <a:t> profesión, domicilio, comuna, cédula nacional de identidad Nº xxxxxxxxx a US. Respetuosamente dig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r>
              <a:rPr b="0" lang="es-MX" sz="1100" spc="-1" strike="noStrike">
                <a:solidFill>
                  <a:srgbClr val="000000"/>
                </a:solidFill>
                <a:latin typeface="Arial"/>
                <a:ea typeface="SimSun"/>
              </a:rPr>
              <a:t>Atendido lo dispuesto en los artículos 1489 y siguientes del Código Civil y artículos 254 y siguientes del Código de Procedimiento Civil,  </a:t>
            </a:r>
            <a:r>
              <a:rPr b="1" lang="es-MX" sz="1100" spc="-1" strike="noStrike">
                <a:solidFill>
                  <a:srgbClr val="000000"/>
                </a:solidFill>
                <a:latin typeface="Arial"/>
                <a:ea typeface="SimSun"/>
              </a:rPr>
              <a:t>vengo en presentar demanda</a:t>
            </a:r>
            <a:r>
              <a:rPr b="0" lang="es-MX" sz="1100" spc="-1" strike="noStrike">
                <a:solidFill>
                  <a:srgbClr val="000000"/>
                </a:solidFill>
                <a:latin typeface="Arial"/>
                <a:ea typeface="SimSun"/>
              </a:rPr>
              <a:t> de Indemnización de Perjuicios en contra de  </a:t>
            </a:r>
            <a:r>
              <a:rPr b="1" lang="es-MX" sz="1100" spc="-1" strike="noStrike">
                <a:solidFill>
                  <a:srgbClr val="000000"/>
                </a:solidFill>
                <a:latin typeface="Arial"/>
                <a:ea typeface="SimSun"/>
              </a:rPr>
              <a:t>Demandada</a:t>
            </a:r>
            <a:r>
              <a:rPr b="0" lang="es-MX" sz="1100" spc="-1" strike="noStrike">
                <a:solidFill>
                  <a:srgbClr val="000000"/>
                </a:solidFill>
                <a:latin typeface="Arial"/>
                <a:ea typeface="SimSun"/>
              </a:rPr>
              <a:t>,  rol único tributario XXXXX, representada por XXXXX, ambos con domicilio en XXXXX, en adelante también la demandada, por los siguientes antecedentes de hecho y de derecho que a continuación se exponen:</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 Los Hechos </a:t>
            </a:r>
            <a:r>
              <a:rPr b="0" lang="es-MX" sz="1100" spc="-1" strike="noStrike">
                <a:solidFill>
                  <a:srgbClr val="000000"/>
                </a:solidFill>
                <a:latin typeface="Arial"/>
                <a:ea typeface="SimSun"/>
              </a:rPr>
              <a:t>(párrafos cortos y precisos)</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Ej. Distinción los distintos tipos de daños que concurren en el cas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I El Derecho</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0" i="1" lang="es-MX" sz="1100" spc="-1" strike="noStrike">
                <a:solidFill>
                  <a:srgbClr val="000000"/>
                </a:solidFill>
                <a:latin typeface="Arial"/>
                <a:ea typeface="SimSun"/>
              </a:rPr>
              <a:t>Ej. Por qué y cuáles perjuicios deben ser indemnizad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SimSun"/>
              </a:rPr>
              <a:t>POR TANTO</a:t>
            </a:r>
            <a:r>
              <a:rPr b="0" lang="es-ES" sz="1100" spc="-1" strike="noStrike">
                <a:solidFill>
                  <a:srgbClr val="000000"/>
                </a:solidFill>
                <a:latin typeface="Times New Roman"/>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SimSun"/>
              </a:rPr>
              <a:t>SOLICITO (PIDO/RUEGO)  A US.:</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se sirva tener por interpuesta demanda…</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dar lugar a ella  en todas sus partes</a:t>
            </a:r>
            <a:r>
              <a:rPr b="0" lang="es-ES" sz="1100" spc="-1" strike="noStrike">
                <a:solidFill>
                  <a:srgbClr val="000000"/>
                </a:solidFill>
                <a:latin typeface="Arial"/>
                <a:ea typeface="SimSun"/>
              </a:rPr>
              <a:t> y,</a:t>
            </a:r>
            <a:r>
              <a:rPr b="0" lang="es-MX" sz="1100" spc="-1" strike="noStrike">
                <a:solidFill>
                  <a:srgbClr val="000000"/>
                </a:solidFill>
                <a:latin typeface="Arial"/>
                <a:ea typeface="SimSun"/>
              </a:rPr>
              <a:t> más los </a:t>
            </a:r>
            <a:r>
              <a:rPr b="1" lang="es-MX" sz="1100" spc="-1" strike="noStrike">
                <a:solidFill>
                  <a:srgbClr val="000000"/>
                </a:solidFill>
                <a:latin typeface="Arial"/>
                <a:ea typeface="SimSun"/>
              </a:rPr>
              <a:t>reajustes </a:t>
            </a:r>
            <a:r>
              <a:rPr b="0" lang="es-MX" sz="1100" spc="-1" strike="noStrike">
                <a:solidFill>
                  <a:srgbClr val="000000"/>
                </a:solidFill>
                <a:latin typeface="Arial"/>
                <a:ea typeface="SimSun"/>
              </a:rPr>
              <a:t>según el alza que experimente el IPC, desde la presentación de la demanda hasta el entero pago efectivo, mediante liquidación que efectúe el Sr. Secretario de este tribunal; más los </a:t>
            </a:r>
            <a:r>
              <a:rPr b="1" lang="es-MX" sz="1100" spc="-1" strike="noStrike">
                <a:solidFill>
                  <a:srgbClr val="000000"/>
                </a:solidFill>
                <a:latin typeface="Arial"/>
                <a:ea typeface="SimSun"/>
              </a:rPr>
              <a:t>intereses y  sea el demandado expresamente condenado en las costas</a:t>
            </a:r>
            <a:r>
              <a:rPr b="0" lang="es-MX" sz="1100" spc="-1" strike="noStrike">
                <a:solidFill>
                  <a:srgbClr val="000000"/>
                </a:solidFill>
                <a:latin typeface="Arial"/>
                <a:ea typeface="SimSun"/>
              </a:rPr>
              <a:t> de este juici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a:t>
            </a:r>
            <a:r>
              <a:rPr b="1" lang="es-MX" sz="1100" spc="-1" strike="noStrike">
                <a:solidFill>
                  <a:srgbClr val="000000"/>
                </a:solidFill>
                <a:latin typeface="Arial"/>
                <a:ea typeface="SimSun"/>
              </a:rPr>
              <a:t>PRIMER OTROSÍ:</a:t>
            </a:r>
            <a:r>
              <a:rPr b="0" lang="es-MX" sz="1100" spc="-1" strike="noStrike">
                <a:solidFill>
                  <a:srgbClr val="000000"/>
                </a:solidFill>
                <a:latin typeface="Arial"/>
                <a:ea typeface="SimSun"/>
              </a:rPr>
              <a:t> Pido a US. </a:t>
            </a:r>
            <a:r>
              <a:rPr b="1" lang="es-MX" sz="1100" spc="-1" strike="noStrike">
                <a:solidFill>
                  <a:srgbClr val="000000"/>
                </a:solidFill>
                <a:latin typeface="Arial"/>
                <a:ea typeface="SimSun"/>
              </a:rPr>
              <a:t>tener por acompañados</a:t>
            </a:r>
            <a:r>
              <a:rPr b="0" lang="es-MX" sz="1100" spc="-1" strike="noStrike">
                <a:solidFill>
                  <a:srgbClr val="000000"/>
                </a:solidFill>
                <a:latin typeface="Arial"/>
                <a:ea typeface="SimSun"/>
              </a:rPr>
              <a:t> los siguientes </a:t>
            </a:r>
            <a:r>
              <a:rPr b="1" lang="es-MX" sz="1100" spc="-1" strike="noStrike">
                <a:solidFill>
                  <a:srgbClr val="000000"/>
                </a:solidFill>
                <a:latin typeface="Arial"/>
                <a:ea typeface="SimSun"/>
              </a:rPr>
              <a:t>documentos</a:t>
            </a:r>
            <a:r>
              <a:rPr b="0" lang="es-MX" sz="1100" spc="-1" strike="noStrike">
                <a:solidFill>
                  <a:srgbClr val="000000"/>
                </a:solidFill>
                <a:latin typeface="Arial"/>
                <a:ea typeface="SimSun"/>
              </a:rPr>
              <a:t>, con citación: </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prestación de servicios.</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compraventa celebrado con Viña Vino Tinto.</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Informe de perdidas elaborado por X.</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Sírvase US. tener presente que </a:t>
            </a:r>
            <a:r>
              <a:rPr b="1" lang="es-MX" sz="1100" spc="-1" strike="noStrike">
                <a:solidFill>
                  <a:srgbClr val="000000"/>
                </a:solidFill>
                <a:latin typeface="Arial"/>
                <a:ea typeface="SimSun"/>
              </a:rPr>
              <a:t>designo abogado patrocinante y confiero poder</a:t>
            </a:r>
            <a:r>
              <a:rPr b="0" lang="es-MX" sz="1100" spc="-1" strike="noStrike">
                <a:solidFill>
                  <a:srgbClr val="000000"/>
                </a:solidFill>
                <a:latin typeface="Arial"/>
                <a:ea typeface="SimSun"/>
              </a:rPr>
              <a:t> a XXXX, rut, domiciliado para estos efectos en Dirección, ciudad. Asimismo, confiero </a:t>
            </a:r>
            <a:r>
              <a:rPr b="1" lang="es-MX" sz="1100" spc="-1" strike="noStrike">
                <a:solidFill>
                  <a:srgbClr val="000000"/>
                </a:solidFill>
                <a:latin typeface="Arial"/>
                <a:ea typeface="SimSun"/>
              </a:rPr>
              <a:t>poder</a:t>
            </a:r>
            <a:r>
              <a:rPr b="0" lang="es-MX" sz="1100" spc="-1" strike="noStrike">
                <a:solidFill>
                  <a:srgbClr val="000000"/>
                </a:solidFill>
                <a:latin typeface="Arial"/>
                <a:ea typeface="SimSun"/>
              </a:rPr>
              <a:t> al estudiante</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habilitado YYYY, rut , domicilio.</a:t>
            </a:r>
            <a:endParaRPr b="0" lang="en-US" sz="1100" spc="-1" strike="noStrike">
              <a:solidFill>
                <a:srgbClr val="000000"/>
              </a:solidFill>
              <a:latin typeface="Georgia"/>
            </a:endParaRPr>
          </a:p>
          <a:p>
            <a:pPr marL="343080" indent="106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3000"/>
            <a:ext cx="8229600" cy="3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Emplazamiento</a:t>
            </a:r>
            <a:endParaRPr b="0" lang="en-US" sz="28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a:bodyPr>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artes: </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 </a:t>
            </a:r>
            <a:r>
              <a:rPr b="0" lang="es-ES" sz="1600" spc="-1" strike="noStrike">
                <a:solidFill>
                  <a:srgbClr val="783a7a"/>
                </a:solidFill>
                <a:latin typeface="Georgia"/>
              </a:rPr>
              <a:t>1)Notificación </a:t>
            </a:r>
            <a:r>
              <a:rPr b="0" lang="es-ES" sz="1600" spc="-1" strike="noStrike">
                <a:solidFill>
                  <a:srgbClr val="438086"/>
                </a:solidFill>
                <a:latin typeface="Georgia"/>
              </a:rPr>
              <a:t>demanda y resolución íntegra personalmente o subsidiariamente conforme del Art.44 CPC al demandado y por estado al demandante</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609480" indent="-6094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En Santiago a veinte de enero de 2007, siendo las 12:30 horas, me constituí en el domicilio del demandado ubicado en calle Miramar 223, comuna de Macul, Santiago, donde notifique personalmente a don Francisco Torres Marcel, quien se negó a firma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Firma del recepto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2)Plazo Contestación: (en relación lugar notificación)</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a comuna asiento tribunal: 15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o territorio jurisdiccional pero fuera de la comuna: 18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erritorio diverso o fuera de la República: 18 días+tabla de emplazamiento.</a:t>
            </a:r>
            <a:endParaRPr b="0" lang="en-US" sz="1600" spc="-1" strike="noStrike">
              <a:solidFill>
                <a:srgbClr val="438086"/>
              </a:solidFill>
              <a:latin typeface="Georgia"/>
            </a:endParaRPr>
          </a:p>
          <a:p>
            <a:pPr marL="609480" indent="-60948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fectos:</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a) Procesales: </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Queda formada la relación procesal (ddado-ddante-trib)</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l tribunal está obligado a dictar sentencia.</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mandado debe defenderse (surge carga procesa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b) Extraprocesale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constituye en mora al deudor</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interrumpe la prescripción civi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ransforma su derecho en litigioso para efectos de su cesión</a:t>
            </a:r>
            <a:endParaRPr b="0" lang="en-US" sz="1600" spc="-1" strike="noStrike">
              <a:solidFill>
                <a:srgbClr val="438086"/>
              </a:solidFill>
              <a:latin typeface="Georgia"/>
            </a:endParaRPr>
          </a:p>
          <a:p>
            <a:pPr marL="609480" indent="-6094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50" name="4 Rectángulo"/>
          <p:cNvSpPr/>
          <p:nvPr/>
        </p:nvSpPr>
        <p:spPr>
          <a:xfrm>
            <a:off x="826920" y="2276640"/>
            <a:ext cx="7848720" cy="1296720"/>
          </a:xfrm>
          <a:prstGeom prst="rect">
            <a:avLst/>
          </a:prstGeom>
          <a:noFill/>
          <a:ln w="19080">
            <a:solidFill>
              <a:srgbClr val="3e3f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628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24456"/>
                </a:solidFill>
                <a:latin typeface="Trebuchet MS"/>
              </a:rPr>
              <a:t>Contestación Demanda</a:t>
            </a:r>
            <a:endParaRPr b="0" lang="en-US" sz="3400" spc="-1" strike="noStrike">
              <a:solidFill>
                <a:srgbClr val="424456"/>
              </a:solidFill>
              <a:latin typeface="Trebuchet MS"/>
            </a:endParaRPr>
          </a:p>
        </p:txBody>
      </p:sp>
      <p:sp>
        <p:nvSpPr>
          <p:cNvPr id="252" name=""/>
          <p:cNvSpPr txBox="1"/>
          <p:nvPr/>
        </p:nvSpPr>
        <p:spPr>
          <a:xfrm>
            <a:off x="457200" y="1484280"/>
            <a:ext cx="8229600" cy="324000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 de todo escrito + del Art.309CPC, esto es:</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ignación tribunal</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mbre, domicilio, profesión u oficio demandado</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xcepciones que se oponen a la demanda y la exposición clara de los hechos y fundamentos de derecho en que se apoya.</a:t>
            </a:r>
            <a:endParaRPr b="0" lang="en-US" sz="2200" spc="-1" strike="noStrike">
              <a:solidFill>
                <a:srgbClr val="000000"/>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xcepciones: dilatorias (Art. 303), perentorias,  anómalas</a:t>
            </a: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nunciación precisa y clara consignada en la conclusión, de las peticiones que se someten al fallo del tribunal.</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53" name="5 CuadroTexto"/>
          <p:cNvSpPr/>
          <p:nvPr/>
        </p:nvSpPr>
        <p:spPr>
          <a:xfrm>
            <a:off x="684360" y="4508640"/>
            <a:ext cx="7775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Georgia"/>
              </a:rPr>
              <a:t>O b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2200" spc="-1" strike="noStrike">
                <a:solidFill>
                  <a:srgbClr val="000000"/>
                </a:solidFill>
                <a:latin typeface="Georgia"/>
              </a:rPr>
              <a:t>Rebeldía </a:t>
            </a:r>
            <a:r>
              <a:rPr b="0" lang="es-CL" sz="2000" spc="-1" strike="noStrike">
                <a:solidFill>
                  <a:srgbClr val="438086"/>
                </a:solidFill>
                <a:latin typeface="Georgia"/>
              </a:rPr>
              <a:t>(oposición  y negación a todo lo alegado en la demand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llanamiento</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Demanda Reconvencional </a:t>
            </a:r>
            <a:r>
              <a:rPr b="0" lang="es-CL" sz="2000" spc="-1" strike="noStrike">
                <a:solidFill>
                  <a:srgbClr val="438086"/>
                </a:solidFill>
                <a:latin typeface="Georgia"/>
              </a:rPr>
              <a:t>(no hay mejor defensa que un buen ata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92280"/>
            <a:ext cx="8229600" cy="588168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esuma )</a:t>
            </a:r>
            <a:endParaRPr b="0" lang="en-US" sz="1500" spc="-1" strike="noStrike">
              <a:solidFill>
                <a:srgbClr val="000000"/>
              </a:solidFill>
              <a:latin typeface="Georgi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EN LO PRINCIPAL</a:t>
            </a:r>
            <a:r>
              <a:rPr b="0" lang="es-ES" sz="1500" spc="-1" strike="noStrike">
                <a:solidFill>
                  <a:srgbClr val="000000"/>
                </a:solidFill>
                <a:latin typeface="Arial"/>
                <a:ea typeface="Times New Roman"/>
              </a:rPr>
              <a:t>: Contesta la demanda; </a:t>
            </a:r>
            <a:r>
              <a:rPr b="1" lang="es-ES" sz="1500" spc="-1" strike="noStrike">
                <a:solidFill>
                  <a:srgbClr val="000000"/>
                </a:solidFill>
                <a:latin typeface="Arial"/>
                <a:ea typeface="Times New Roman"/>
              </a:rPr>
              <a:t>EN EL PRIMER OTROSI:</a:t>
            </a:r>
            <a:r>
              <a:rPr b="0" lang="es-ES" sz="1500" spc="-1" strike="noStrike">
                <a:solidFill>
                  <a:srgbClr val="000000"/>
                </a:solidFill>
                <a:latin typeface="Arial"/>
                <a:ea typeface="Times New Roman"/>
              </a:rPr>
              <a:t> acompaña documentos, con citación; </a:t>
            </a:r>
            <a:r>
              <a:rPr b="1" lang="es-ES" sz="1500" spc="-1" strike="noStrike">
                <a:solidFill>
                  <a:srgbClr val="000000"/>
                </a:solidFill>
                <a:latin typeface="Arial"/>
                <a:ea typeface="Times New Roman"/>
              </a:rPr>
              <a:t>EN EL SEGUNDO OTROSÍ:</a:t>
            </a:r>
            <a:r>
              <a:rPr b="0" lang="es-ES" sz="1500" spc="-1" strike="noStrike">
                <a:solidFill>
                  <a:srgbClr val="000000"/>
                </a:solidFill>
                <a:latin typeface="Arial"/>
                <a:ea typeface="Times New Roman"/>
              </a:rPr>
              <a:t> patrocinio y poder.</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S. J. L. en lo Civil de Santiago (20°)</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MX" sz="1500" spc="-1" strike="noStrike">
                <a:solidFill>
                  <a:srgbClr val="000000"/>
                </a:solidFill>
                <a:latin typeface="Arial"/>
                <a:ea typeface="Times New Roman"/>
              </a:rPr>
              <a:t>Individualización demandada</a:t>
            </a:r>
            <a:r>
              <a:rPr b="0" lang="es-ES" sz="1500" spc="-1" strike="noStrike">
                <a:solidFill>
                  <a:srgbClr val="000000"/>
                </a:solidFill>
                <a:latin typeface="Arial"/>
                <a:ea typeface="Times New Roman"/>
              </a:rPr>
              <a:t>, rut, en autos ordinarios sobre indemnización de perjuicios por incumplimiento de contrato, caratulados X, rol XXXXX a US., respetuosamente, dig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Que encontrándome dentro de plazo y atendido lo dispuesto en el artículos 1489 y siguientes del Código Civil y articulo 303 y siguientes del código de procedimiento civil, </a:t>
            </a:r>
            <a:r>
              <a:rPr b="1" lang="es-ES" sz="1500" spc="-1" strike="noStrike">
                <a:solidFill>
                  <a:srgbClr val="000000"/>
                </a:solidFill>
                <a:latin typeface="Arial"/>
                <a:ea typeface="Times New Roman"/>
              </a:rPr>
              <a:t>vengo en evacuar traslado</a:t>
            </a:r>
            <a:r>
              <a:rPr b="0" lang="es-ES" sz="1500" spc="-1" strike="noStrike">
                <a:solidFill>
                  <a:srgbClr val="000000"/>
                </a:solidFill>
                <a:latin typeface="Arial"/>
                <a:ea typeface="Times New Roman"/>
              </a:rPr>
              <a:t>  conferido a mi representada a fs. 5, respecto de la demanda interpuesta en su contra en los siguientes términ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on demandante ha presentado demanda ordinaria, en contra de “demandada”, fundado los perjuicios causados  por incumplimiento de contrato y ha pedido que demandada X. sea condenada a pagar la suma de $500.000.000 y al pago de las costas de la causa.</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icha demanda deber ser desestimada, totalmente, pue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HECH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DERECH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OR TANTO,</a:t>
            </a:r>
            <a:r>
              <a:rPr b="0" lang="es-ES" sz="1500" spc="-1" strike="noStrike">
                <a:solidFill>
                  <a:srgbClr val="000000"/>
                </a:solidFill>
                <a:latin typeface="Times New Roman"/>
                <a:ea typeface="Times New Roman"/>
              </a:rPr>
              <a:t> </a:t>
            </a:r>
            <a:r>
              <a:rPr b="1" lang="es-ES" sz="1500" spc="-1" strike="noStrike">
                <a:solidFill>
                  <a:srgbClr val="000000"/>
                </a:solidFill>
                <a:latin typeface="Arial"/>
                <a:ea typeface="Times New Roman"/>
              </a:rPr>
              <a:t> A US. PIDO: Tener por evacuado</a:t>
            </a:r>
            <a:r>
              <a:rPr b="0" lang="es-ES" sz="1500" spc="-1" strike="noStrike">
                <a:solidFill>
                  <a:srgbClr val="000000"/>
                </a:solidFill>
                <a:latin typeface="Arial"/>
                <a:ea typeface="Times New Roman"/>
              </a:rPr>
              <a:t> por esta parte </a:t>
            </a:r>
            <a:r>
              <a:rPr b="1" lang="es-ES" sz="1500" spc="-1" strike="noStrike">
                <a:solidFill>
                  <a:srgbClr val="000000"/>
                </a:solidFill>
                <a:latin typeface="Arial"/>
                <a:ea typeface="Times New Roman"/>
              </a:rPr>
              <a:t>el traslado</a:t>
            </a:r>
            <a:r>
              <a:rPr b="0" lang="es-ES" sz="1500" spc="-1" strike="noStrike">
                <a:solidFill>
                  <a:srgbClr val="000000"/>
                </a:solidFill>
                <a:latin typeface="Arial"/>
                <a:ea typeface="Times New Roman"/>
              </a:rPr>
              <a:t> de fs. 5  </a:t>
            </a:r>
            <a:r>
              <a:rPr b="1" lang="es-ES" sz="1500" spc="-1" strike="noStrike">
                <a:solidFill>
                  <a:srgbClr val="000000"/>
                </a:solidFill>
                <a:latin typeface="Arial"/>
                <a:ea typeface="Times New Roman"/>
              </a:rPr>
              <a:t>y por contestada la demanda</a:t>
            </a:r>
            <a:r>
              <a:rPr b="0" lang="es-ES" sz="1500" spc="-1" strike="noStrike">
                <a:solidFill>
                  <a:srgbClr val="000000"/>
                </a:solidFill>
                <a:latin typeface="Arial"/>
                <a:ea typeface="Times New Roman"/>
              </a:rPr>
              <a:t> de autos, y negar lugar a ella, en todas sus partes, con costa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RIMER OTROSI: Ruego a US</a:t>
            </a:r>
            <a:r>
              <a:rPr b="0" lang="es-ES" sz="1500" spc="-1" strike="noStrike">
                <a:solidFill>
                  <a:srgbClr val="000000"/>
                </a:solidFill>
                <a:latin typeface="Arial"/>
                <a:ea typeface="Times New Roman"/>
              </a:rPr>
              <a:t>. Se sirva tener por acompañados, con citación, los siguientes documentos… </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SimSun"/>
              </a:rPr>
              <a:t>      </a:t>
            </a:r>
            <a:r>
              <a:rPr b="1" lang="es-ES" sz="1500" spc="-1" strike="noStrike">
                <a:solidFill>
                  <a:srgbClr val="000000"/>
                </a:solidFill>
                <a:latin typeface="Arial"/>
                <a:ea typeface="SimSun"/>
              </a:rPr>
              <a:t>SEGUNDO OTROSI: </a:t>
            </a:r>
            <a:r>
              <a:rPr b="0" lang="es-ES" sz="1500" spc="-1" strike="noStrike">
                <a:solidFill>
                  <a:srgbClr val="000000"/>
                </a:solidFill>
                <a:latin typeface="Arial"/>
                <a:ea typeface="SimSun"/>
              </a:rPr>
              <a:t>Sírvase</a:t>
            </a:r>
            <a:r>
              <a:rPr b="1" lang="es-ES" sz="1500" spc="-1" strike="noStrike">
                <a:solidFill>
                  <a:srgbClr val="000000"/>
                </a:solidFill>
                <a:latin typeface="Arial"/>
                <a:ea typeface="SimSun"/>
              </a:rPr>
              <a:t> </a:t>
            </a:r>
            <a:r>
              <a:rPr b="0" lang="es-ES" sz="1500" spc="-1" strike="noStrike">
                <a:solidFill>
                  <a:srgbClr val="000000"/>
                </a:solidFill>
                <a:latin typeface="Arial"/>
                <a:ea typeface="SimSun"/>
              </a:rPr>
              <a:t> US. Tener presente que </a:t>
            </a:r>
            <a:r>
              <a:rPr b="1" lang="es-ES" sz="1500" spc="-1" strike="noStrike">
                <a:solidFill>
                  <a:srgbClr val="000000"/>
                </a:solidFill>
                <a:latin typeface="Arial"/>
                <a:ea typeface="SimSun"/>
              </a:rPr>
              <a:t>designo abogado patrocinante y confiero poder </a:t>
            </a:r>
            <a:r>
              <a:rPr b="0" lang="es-ES" sz="1500" spc="-1" strike="noStrike">
                <a:solidFill>
                  <a:srgbClr val="000000"/>
                </a:solidFill>
                <a:latin typeface="Arial"/>
                <a:ea typeface="SimSun"/>
              </a:rPr>
              <a:t>a don X, Abogado habilitado para el ejercicio de la profesión, domiciliado para estos efectos en Los Cerezos Nº456, Nuñoa Santiago.</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500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 Reconvencional</a:t>
            </a:r>
            <a:endParaRPr b="0" lang="en-US" sz="2800" spc="-1" strike="noStrike">
              <a:solidFill>
                <a:srgbClr val="424456"/>
              </a:solidFill>
              <a:latin typeface="Trebuchet MS"/>
            </a:endParaRPr>
          </a:p>
        </p:txBody>
      </p:sp>
      <p:sp>
        <p:nvSpPr>
          <p:cNvPr id="256" name=""/>
          <p:cNvSpPr txBox="1"/>
          <p:nvPr/>
        </p:nvSpPr>
        <p:spPr>
          <a:xfrm>
            <a:off x="457200" y="1557000"/>
            <a:ext cx="8229600" cy="5016600"/>
          </a:xfrm>
          <a:prstGeom prst="rect">
            <a:avLst/>
          </a:prstGeom>
          <a:noFill/>
          <a:ln w="0">
            <a:noFill/>
          </a:ln>
        </p:spPr>
        <p:txBody>
          <a:bodyPr anchor="t">
            <a:normAutofit/>
          </a:bodyPr>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3bcc1"/>
                </a:solidFill>
                <a:latin typeface="Georgia"/>
              </a:rPr>
              <a:t>Requisitos Art.315 CPC</a:t>
            </a:r>
            <a:endParaRPr b="0" lang="en-US" sz="2600" spc="-1" strike="noStrike">
              <a:solidFill>
                <a:srgbClr val="000000"/>
              </a:solidFill>
              <a:latin typeface="Georgia"/>
            </a:endParaRPr>
          </a:p>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ribunal que conoce la cuestión principal sea competente para conocer la demanda reconvencional y que sea admisible la prórroga de la competenci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be sujetarse al mismo procedimiento de la acción principal (tramitación conjunta) </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ducirla en el escrito de contestación de la demand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mplir con todos los requisitos de una demanda (porque lo es).</a:t>
            </a:r>
            <a:endParaRPr b="0" lang="en-US" sz="2600" spc="-1" strike="noStrike">
              <a:solidFill>
                <a:srgbClr val="000000"/>
              </a:solidFill>
              <a:latin typeface="Georgia"/>
            </a:endParaRPr>
          </a:p>
          <a:p>
            <a:pPr marL="365040" indent="-255600" algn="just">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specto a las excepciones mismo razonamiento que la demanda.</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éplica</a:t>
            </a:r>
            <a:endParaRPr b="0" lang="en-US" sz="2800" spc="-1" strike="noStrike">
              <a:solidFill>
                <a:srgbClr val="424456"/>
              </a:solidFill>
              <a:latin typeface="Trebuchet MS"/>
            </a:endParaRPr>
          </a:p>
        </p:txBody>
      </p:sp>
      <p:sp>
        <p:nvSpPr>
          <p:cNvPr id="258" name=""/>
          <p:cNvSpPr txBox="1"/>
          <p:nvPr/>
        </p:nvSpPr>
        <p:spPr>
          <a:xfrm>
            <a:off x="457200" y="1197000"/>
            <a:ext cx="8229600" cy="4968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s: </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excepciones, alegaciones o defensas y</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afirmar pretens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Dúpl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la pretensión del demandante y nuevas alegac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116000" y="692280"/>
            <a:ext cx="6192720" cy="588168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DÚPLIC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 J. L. en lo Civil</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ZZZZZZZZ, abogado, domiciliado en xxx xxx Nº xx Santiago,, en representación de XXXXXXX XXXXXX XXX XXX, demandada, en autos ordinarios sobre indemnización de perjuicios por incumplimiento de contrato, caratulados “xxxxx xxxx xxxxx xxx xxxxxxxxxxx xxxxxx xxx", rol xxxx–xxxx a US., respetuosamente, digo:</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La parte demandante, ha señalado que no se dan los presupuestos de la existencia de un caso fortuito, situación que exoneraría a esta parte de responsabilidad, señalando que la demandada Sociedad cuenta con avionetas  de alta tecnología capaces de realizar el trabajo de fumigación en condiciones climáticas adversas.     </a:t>
            </a:r>
            <a:r>
              <a:rPr b="1" lang="es-ES" sz="1200" spc="-1" strike="noStrike">
                <a:solidFill>
                  <a:srgbClr val="000000"/>
                </a:solidFill>
                <a:latin typeface="Arial"/>
                <a:ea typeface="Times New Roman"/>
              </a:rPr>
              <a:t>Estos dichos no son del todo correctos</a:t>
            </a:r>
            <a:r>
              <a:rPr b="0" lang="es-ES" sz="1200" spc="-1" strike="noStrike">
                <a:solidFill>
                  <a:srgbClr val="000000"/>
                </a:solidFill>
                <a:latin typeface="Arial"/>
                <a:ea typeface="Times New Roman"/>
              </a:rPr>
              <a:t>, pues como acreditaremos a través del peritaje respectivo, efectivamente se trata de aviones de alta tecnología, pero dichos aviones no están equipados para realizar este tipo de trabajos, pues están destinados al traslado de pasajeros  y de hecho pertenecen a la filial , empresa que hoy día presta servicio de traslado de altos ejecutivos de empresas del rubro de la minerí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s por lo anteriormente expuesto, que creemos que se </a:t>
            </a:r>
            <a:r>
              <a:rPr b="1" lang="es-ES" sz="1200" spc="-1" strike="noStrike">
                <a:solidFill>
                  <a:srgbClr val="000000"/>
                </a:solidFill>
                <a:latin typeface="Arial"/>
                <a:ea typeface="Times New Roman"/>
              </a:rPr>
              <a:t>siguen dando los presupuestos</a:t>
            </a:r>
            <a:r>
              <a:rPr b="0" lang="es-ES" sz="1200" spc="-1" strike="noStrike">
                <a:solidFill>
                  <a:srgbClr val="000000"/>
                </a:solidFill>
                <a:latin typeface="Arial"/>
                <a:ea typeface="Times New Roman"/>
              </a:rPr>
              <a:t> de un caso fortuito que, claramente, impidió a esta parte prestar el servicio acordado.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OR TANTO, </a:t>
            </a:r>
            <a:r>
              <a:rPr b="0" lang="es-ES" sz="1200" spc="-1" strike="noStrike">
                <a:solidFill>
                  <a:srgbClr val="000000"/>
                </a:solidFill>
                <a:latin typeface="Arial"/>
                <a:ea typeface="Times New Roman"/>
              </a:rPr>
              <a:t>y de acuerdo con lo dispuesto en el artículo 312 del Código de Procedimiento Civil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 US. PIDO: </a:t>
            </a:r>
            <a:r>
              <a:rPr b="0" lang="es-ES" sz="1200" spc="-1" strike="noStrike">
                <a:solidFill>
                  <a:srgbClr val="000000"/>
                </a:solidFill>
                <a:latin typeface="Arial"/>
                <a:ea typeface="Times New Roman"/>
              </a:rPr>
              <a:t>Se sirva tener por </a:t>
            </a:r>
            <a:r>
              <a:rPr b="1" lang="es-ES" sz="1200" spc="-1" strike="noStrike">
                <a:solidFill>
                  <a:srgbClr val="000000"/>
                </a:solidFill>
                <a:latin typeface="Arial"/>
                <a:ea typeface="Times New Roman"/>
              </a:rPr>
              <a:t>evacuado el trámite de la Dúplica.</a:t>
            </a:r>
            <a:endParaRPr b="0" lang="en-US" sz="12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91920"/>
            <a:ext cx="8229600" cy="43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Conciliación</a:t>
            </a:r>
            <a:endParaRPr b="0" lang="en-US" sz="3600" spc="-1" strike="noStrike">
              <a:solidFill>
                <a:srgbClr val="424456"/>
              </a:solidFill>
              <a:latin typeface="Trebuchet MS"/>
            </a:endParaRPr>
          </a:p>
        </p:txBody>
      </p:sp>
      <p:sp>
        <p:nvSpPr>
          <p:cNvPr id="261" name=""/>
          <p:cNvSpPr txBox="1"/>
          <p:nvPr/>
        </p:nvSpPr>
        <p:spPr>
          <a:xfrm>
            <a:off x="179280" y="1268280"/>
            <a:ext cx="8229600" cy="5305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Trámite Obligatorio (acarrea vicio de nulidad mediante recurso de casación en la forma) Salvo excepciones del Art.262CPC.</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Las partes deben concurrir personalmente. </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 se comparece si no se quiere conciliar.</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a:t>
            </a:r>
            <a:endParaRPr b="0" lang="en-US" sz="2200" spc="-1" strike="noStrike">
              <a:solidFill>
                <a:srgbClr val="000000"/>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Debe ser legalmente admisible la transacción (libertad de disposición)</a:t>
            </a:r>
            <a:endParaRPr b="0" lang="en-US" sz="2000" spc="-1" strike="noStrike">
              <a:solidFill>
                <a:srgbClr val="438086"/>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Que en la causa deba recibirse la causa a prueba</a:t>
            </a:r>
            <a:endParaRPr b="0" lang="en-US" sz="2000" spc="-1" strike="noStrike">
              <a:solidFill>
                <a:srgbClr val="438086"/>
              </a:solidFill>
              <a:latin typeface="Georgia"/>
            </a:endParaRPr>
          </a:p>
          <a:p>
            <a:pPr lvl="1" marL="858960" indent="-4572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 ella debe levantarse acta, que debe ser firmada por todos (partes + juez+ secretario) para que valga como equivalente a una sentencia ejecutoriada (cosa juzgada).</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i no se llega a acuerdo, se recibe la causa a prueba.</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5" name=""/>
          <p:cNvSpPr txBox="1"/>
          <p:nvPr/>
        </p:nvSpPr>
        <p:spPr>
          <a:xfrm>
            <a:off x="457200" y="2249280"/>
            <a:ext cx="8291520" cy="449244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Georgia"/>
              </a:rPr>
              <a:t>Antes de demandar debemos reflexionar sobre lo siguiente</a:t>
            </a:r>
            <a:r>
              <a:rPr b="0" lang="es-CL" sz="2000" spc="-1" strike="noStrike">
                <a:solidFill>
                  <a:srgbClr val="000000"/>
                </a:solidFill>
                <a:latin typeface="Georgia"/>
              </a:rPr>
              <a:t>:</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1.- Importante saber a quién demando.</a:t>
            </a:r>
            <a:r>
              <a:rPr b="0" lang="es-CL" sz="1200" spc="-1" strike="noStrike">
                <a:solidFill>
                  <a:srgbClr val="000000"/>
                </a:solidFill>
                <a:latin typeface="Georgia"/>
              </a:rPr>
              <a:t> </a:t>
            </a:r>
            <a:r>
              <a:rPr b="0" lang="es-CL" sz="1400" spc="-1" strike="noStrike">
                <a:solidFill>
                  <a:srgbClr val="000000"/>
                </a:solidFill>
                <a:latin typeface="Georgia"/>
              </a:rPr>
              <a:t>Pocas veces, nos ponemos a reflexionar en torno a lo que significa iniciar una demanda. Cuando demando, estoy por cierto ejerciendo un derecho, que la ley ha denominado acción (facultad de poner en movimiento el aparato jurisdiccional para satisfacer mis pretensiones de relevancia jurídica), sin embargo para materializarlo, debo saber estructurar cuáles serán las consecuencias de pedir lo que pido, y de la forma en que lo pido. En efecto, las indagaciones previas sobre la persona a quien demando son muchas veces decisorias a la hora de enfrentar un litigio en términos de posicionar nuestros argumentos tanto en una etapa preliminar de discusión propia el proceso, como en conseguir la rendición sea parcial o total de nuestra contraparte antes de una eventual sentencia.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De tal manera, cobra importancia trascendental las indagaciones sobre el patrimonio, y capacidad económica de pago de mi contraparte, y de cómo configurar en juicio -o antes de haberse iniciado- medidas precautorias para garantizar el resultado de nuestras pretensiones.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importa saber que otro tipo de debilidades puede tener nuestra contraparte, es decir, que este siendo demandado por situaciones similares, si el tener juicios pendientes le genera algún tipo de problemas (por ejemplo hay algunas empresas que al momento de presentarse a una licitación sencillamente no pueden estar actualmente envueltos en algún litigio, etc.), las relaciones comerciales presentes y futuras entre las partes, algo de historia personal y de comportamiento en otro tipo de juicios similares o no.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29600" cy="2016360"/>
          </a:xfrm>
          <a:prstGeom prst="rect">
            <a:avLst/>
          </a:prstGeom>
          <a:noFill/>
          <a:ln w="9360">
            <a:solidFill>
              <a:srgbClr val="53548a"/>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CONCILIACION.</a:t>
            </a:r>
            <a:endParaRPr b="0" lang="en-US" sz="1400" spc="-1" strike="noStrike">
              <a:solidFill>
                <a:srgbClr val="000000"/>
              </a:solidFill>
              <a:latin typeface="Georg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S.J.L. ( 24º CIVIL)</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0" lang="es-ES" sz="1400" spc="-1" strike="noStrike">
                <a:solidFill>
                  <a:srgbClr val="000000"/>
                </a:solidFill>
                <a:latin typeface="Arial"/>
                <a:ea typeface="SimSun"/>
              </a:rPr>
              <a:t>zzzzzzz abogado, por la demandante en autos sobre indemnización de perjuicios caratulados </a:t>
            </a:r>
            <a:r>
              <a:rPr b="1" lang="es-ES" sz="1400" spc="-1" strike="noStrike">
                <a:solidFill>
                  <a:srgbClr val="000000"/>
                </a:solidFill>
                <a:latin typeface="Arial"/>
                <a:ea typeface="SimSun"/>
              </a:rPr>
              <a:t>“XXXXXXX-XXXXX” ROL Nº XXX-XXXX</a:t>
            </a:r>
            <a:r>
              <a:rPr b="0" lang="es-ES" sz="1400" spc="-1" strike="noStrike">
                <a:solidFill>
                  <a:srgbClr val="000000"/>
                </a:solidFill>
                <a:latin typeface="Arial"/>
                <a:ea typeface="SimSun"/>
              </a:rPr>
              <a:t> a US. respetuosamente dig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0" lang="es-ES" sz="1400" spc="-1" strike="noStrike">
                <a:solidFill>
                  <a:srgbClr val="000000"/>
                </a:solidFill>
                <a:latin typeface="Arial"/>
                <a:ea typeface="SimSun"/>
              </a:rPr>
              <a:t>Habiendo precluido la fase polémica del juicio y a fin de dar curso progresivo a los autos, vengo en solicitar a SS. se sirva disponer audiencia de conciliación, fijando día y hora al efec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1" lang="es-ES" sz="1400" spc="-1" strike="noStrike">
                <a:solidFill>
                  <a:srgbClr val="000000"/>
                </a:solidFill>
                <a:latin typeface="Arial"/>
                <a:ea typeface="SimSun"/>
              </a:rPr>
              <a:t>POR TAN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0" lang="es-ES" sz="1400" spc="-1" strike="noStrike">
                <a:solidFill>
                  <a:srgbClr val="000000"/>
                </a:solidFill>
                <a:latin typeface="Arial"/>
                <a:ea typeface="SimSun"/>
              </a:rPr>
              <a:t>A US. pido acceder a lo solicitado fijando día y hora para audiencia de conciliación. </a:t>
            </a:r>
            <a:endParaRPr b="0" lang="en-US" sz="1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63" name="4 CuadroTexto"/>
          <p:cNvSpPr/>
          <p:nvPr/>
        </p:nvSpPr>
        <p:spPr>
          <a:xfrm>
            <a:off x="468360" y="2637000"/>
            <a:ext cx="8207280" cy="179892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Resolu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VIST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El mérito de los antecedentes y lo dispuesto en el artículo </a:t>
            </a:r>
            <a:r>
              <a:rPr b="0" lang="es-CL" sz="1400" spc="-1" strike="noStrike">
                <a:solidFill>
                  <a:srgbClr val="000000"/>
                </a:solidFill>
                <a:latin typeface="Arial"/>
                <a:ea typeface="SimSun"/>
              </a:rPr>
              <a:t>262 del Código de Procedimiento Civil, cítese a las partes a </a:t>
            </a:r>
            <a:r>
              <a:rPr b="0" lang="es-ES" sz="1400" spc="-1" strike="noStrike">
                <a:solidFill>
                  <a:srgbClr val="000000"/>
                </a:solidFill>
                <a:latin typeface="Arial"/>
                <a:ea typeface="SimSun"/>
              </a:rPr>
              <a:t>comparendo de conciliación, a la audiencia del sexto día hábi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a las 09:00 horas y si recayere en sábado al día siguiente hábil a la hora señalada después de la última notificació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Notifíquese por cédu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5 CuadroTexto"/>
          <p:cNvSpPr/>
          <p:nvPr/>
        </p:nvSpPr>
        <p:spPr>
          <a:xfrm>
            <a:off x="468360" y="4581360"/>
            <a:ext cx="8207280" cy="122076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Resolución) </a:t>
            </a:r>
            <a:r>
              <a:rPr b="0" lang="es-ES" sz="1800" spc="-1" strike="noStrike">
                <a:solidFill>
                  <a:srgbClr val="000000"/>
                </a:solidFill>
                <a:latin typeface="Georgia"/>
                <a:ea typeface="SimSu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A la hora decretada en autos , tiene lugar la audiencia decretada en autos con la asistencia del apoderado de la demandante don ZZZZZ  y en rebeldía de la demandad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Llamadas las partes a conciliación, ésta no se produce por la rebeldía de la aparte demandada, solicitando la parte asistente se de curso progresivo a los au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92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esolución que recibe la causa a prueba</a:t>
            </a:r>
            <a:endParaRPr b="0" lang="en-US" sz="2800" spc="-1" strike="noStrike">
              <a:solidFill>
                <a:srgbClr val="424456"/>
              </a:solidFill>
              <a:latin typeface="Trebuchet MS"/>
            </a:endParaRPr>
          </a:p>
        </p:txBody>
      </p:sp>
      <p:sp>
        <p:nvSpPr>
          <p:cNvPr id="266" name=""/>
          <p:cNvSpPr txBox="1"/>
          <p:nvPr/>
        </p:nvSpPr>
        <p:spPr>
          <a:xfrm>
            <a:off x="457200" y="1341000"/>
            <a:ext cx="8229600" cy="523260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Fija los hechos pertinentes, sustanciales y controvertidos sobre los cuales únicamente se recibirá prueba</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notifica por cédula y abre el término probatorio</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Contra ella se pueden oponer recursos de reposición con apelación subsidiaria</a:t>
            </a:r>
            <a:endParaRPr b="0" lang="en-US" sz="2400" spc="-1" strike="noStrike">
              <a:solidFill>
                <a:srgbClr val="000000"/>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Plazo de 3 días desde que se le notificó el auto a las partes. </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  </a:t>
            </a:r>
            <a:r>
              <a:rPr b="0" lang="es-ES" sz="2300" spc="-1" strike="noStrike">
                <a:solidFill>
                  <a:srgbClr val="438086"/>
                </a:solidFill>
                <a:latin typeface="Georgia"/>
              </a:rPr>
              <a:t>Objetivos: agregar, modificar o eliminar hechos controvertidos fijados.</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Debe redactarse los hechos de forma tal que no sea necesario repetirlos en la apelación</a:t>
            </a:r>
            <a:endParaRPr b="0" lang="en-US" sz="23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érmino Probatori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ipos:</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20 días desde la última notificación (de la resolución que recibe la causa a prueba o de la sentencia que falló el recurso de reposición)</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do se tiene que rendir en otro territorio jurisdiccional o fuera de la República</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Requisito adicional: solicitud dentro del período 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uración conforme tabla de emplaza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cuando por motivos ajenos a la voluntad de las partes no se puede rendir prueba</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solicitan al tribunal tan pronto como cesa el entorpeci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sos expresamente señalados por la ley, por ej: entorpecimientos que imposibilitan recepció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619280" y="333360"/>
            <a:ext cx="5616720" cy="63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os de Prueba</a:t>
            </a: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Art341 CPC</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1)Confesión (Absolución de Posicione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2)Testig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3)Documentos o instrumen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4)Peri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5)Inspección personal del tribunal</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6)Presuncion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1)Confesión</a:t>
            </a:r>
            <a:endParaRPr b="0" lang="en-US" sz="3600" spc="-1" strike="noStrike">
              <a:solidFill>
                <a:srgbClr val="424456"/>
              </a:solidFill>
              <a:latin typeface="Trebuchet MS"/>
            </a:endParaRPr>
          </a:p>
        </p:txBody>
      </p:sp>
      <p:sp>
        <p:nvSpPr>
          <p:cNvPr id="273" name="PlaceHolder 2"/>
          <p:cNvSpPr>
            <a:spLocks noGrp="1"/>
          </p:cNvSpPr>
          <p:nvPr>
            <p:ph/>
          </p:nvPr>
        </p:nvSpPr>
        <p:spPr>
          <a:xfrm>
            <a:off x="179280" y="1268280"/>
            <a:ext cx="8686800" cy="5042160"/>
          </a:xfrm>
          <a:prstGeom prst="rect">
            <a:avLst/>
          </a:prstGeom>
          <a:noFill/>
          <a:ln w="0">
            <a:noFill/>
          </a:ln>
        </p:spPr>
        <p:txBody>
          <a:bodyPr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portunidad: en cualquier estado del juicio y sin suspenderse por ella el procedimiento, hasta el vencimiento del término probatorio en 1ª instancia y hasta antes de la vista de la causa en 2ª instancia.</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Se puede ejercer hasta 2 veces en 1ª inst., y sólo 1 vez en 2ª. Excepción: si se alegan nuevos hechos durante el juicio (1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be solicitarse por escrito y acompañarse con el pliego de posiciones en sobre cerrado que se mantiene en reserva y se abre el día en que se presta confesión.</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ólo produce consecuencias jurídicas respecto del confesante.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n la práctica quien la toma es el receptor</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e levanta ACTA de las declaraciones.</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Valor probatorio, distinción:</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xtrajudicial: base de presunción judicial</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Judicial: plena prueba</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2)Testigos</a:t>
            </a:r>
            <a:endParaRPr b="0" lang="en-US" sz="4000" spc="-1" strike="noStrike">
              <a:solidFill>
                <a:srgbClr val="424456"/>
              </a:solidFill>
              <a:latin typeface="Trebuchet MS"/>
            </a:endParaRPr>
          </a:p>
        </p:txBody>
      </p:sp>
      <p:sp>
        <p:nvSpPr>
          <p:cNvPr id="275" name="PlaceHolder 2"/>
          <p:cNvSpPr>
            <a:spLocks noGrp="1"/>
          </p:cNvSpPr>
          <p:nvPr>
            <p:ph/>
          </p:nvPr>
        </p:nvSpPr>
        <p:spPr>
          <a:xfrm>
            <a:off x="179280" y="1341000"/>
            <a:ext cx="8686800" cy="5256360"/>
          </a:xfrm>
          <a:prstGeom prst="rect">
            <a:avLst/>
          </a:prstGeom>
          <a:noFill/>
          <a:ln w="0">
            <a:noFill/>
          </a:ln>
        </p:spPr>
        <p:txBody>
          <a:bodyPr anchor="t">
            <a:normAutofit/>
          </a:bodyPr>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Oportunidad: en 1ª instancia dentro del término probatorio y en 2ª instancia cuando no se haya podido rendir en 1ª y que esos hechos sean considerados por el tribunal como estrictamente necesarios para la acertada resolución del juicio (medida para mejor resolver)</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esentar minuta de puntos de prueba acompañando una nómina que individualice a  los testigo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ara impedir su declaración por falta de imparcialidad, deben ser tachados inmediatamente iniciada la audiencia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Se levanta ACTA de las declaracione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Valor probatorio: distinguir:</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oídas: base de presunción judicial.</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presenciales: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1 + imparcial y verídico: presunción judicial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2 ó +, contestes, legalmente examinados y dan razón de sus dichos: posibilidad plena prueba.</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contradictorios en sus declaraciones: se tendrá por cierto en lo que declaren los que parezcan que dicen la verdad, sin importar el nº. Excepción: cuando los de ambas partes reúnen iguales condiciones, se tendrá por cierto lo que declare el mayor nº. *Cuando son = en circunstancias y nº, sana razón NO puede inclinarse a dar más crédito a uno, se tiene igualmente por NO PROBADO el hecho.</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menores de 14 años: excepción. Posibilidad base presunción judicial cuando tienen discernimiento suficiente.</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404280"/>
            <a:ext cx="91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3)Documentos o instrumentos</a:t>
            </a:r>
            <a:endParaRPr b="0" lang="en-US" sz="4000" spc="-1" strike="noStrike">
              <a:solidFill>
                <a:srgbClr val="424456"/>
              </a:solidFill>
              <a:latin typeface="Trebuchet MS"/>
            </a:endParaRPr>
          </a:p>
        </p:txBody>
      </p:sp>
      <p:sp>
        <p:nvSpPr>
          <p:cNvPr id="277" name="PlaceHolder 2"/>
          <p:cNvSpPr>
            <a:spLocks noGrp="1"/>
          </p:cNvSpPr>
          <p:nvPr>
            <p:ph/>
          </p:nvPr>
        </p:nvSpPr>
        <p:spPr>
          <a:xfrm>
            <a:off x="179280" y="1628640"/>
            <a:ext cx="8686800" cy="4896000"/>
          </a:xfrm>
          <a:prstGeom prst="rect">
            <a:avLst/>
          </a:prstGeom>
          <a:noFill/>
          <a:ln w="0">
            <a:noFill/>
          </a:ln>
        </p:spPr>
        <p:txBody>
          <a:bodyPr anchor="t">
            <a:normAutofit/>
          </a:bodyPr>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portunidad: cualquier estado del juicio hasta el vencimiento del término probatorio en 1ª, y hasta la vista de la causa en 2ª.(antes del anuncio, en la oficina del secretario, con el timbre correspondiente)</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úblicos: se acompañan con CITACIÓN</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Gozan de una presunción de autenticidad: alteración carga de la prueba</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quisitos: autorizado por funcionario público competente + con las solemnidades legales</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ontraparte tiene 6 días  para alegar  su nulidad, falta de autenticidad o falsedad material de  éste o falta de verdad de las declaraciones que él contiene . </a:t>
            </a:r>
            <a:endParaRPr b="0" lang="en-US" sz="1800" spc="-1" strike="noStrike">
              <a:solidFill>
                <a:srgbClr val="438086"/>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 </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lena prueba respecto otorgantes y 3º respecto de haberse otorgado y su fecha. </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Plena prueba respecto de otorgantes: verdad declaraciones, obligaciones y descargos.</a:t>
            </a:r>
            <a:endParaRPr b="0" lang="en-US" sz="1800" spc="-1" strike="noStrike">
              <a:solidFill>
                <a:srgbClr val="438086"/>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907560"/>
            <a:ext cx="8229600" cy="5666040"/>
          </a:xfrm>
          <a:prstGeom prst="rect">
            <a:avLst/>
          </a:prstGeom>
          <a:noFill/>
          <a:ln w="0">
            <a:noFill/>
          </a:ln>
        </p:spPr>
        <p:txBody>
          <a:bodyPr anchor="t">
            <a:normAutofit fontScale="95000"/>
          </a:bodyPr>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ivados: </a:t>
            </a:r>
            <a:endParaRPr b="0" lang="en-US" sz="2000" spc="-1" strike="noStrike">
              <a:solidFill>
                <a:srgbClr val="000000"/>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 </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n de tercero: con citación </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 de las partes: con conocimiento y bajo el apercibimiento del Art.346 Nº 3</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reconocen de forma:</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xpresa: cuando fueron reconocidos en otro instrumento público, en el juicio en que obran o en un juicio diverso.</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Judicial: por resolución judicial luego de haberse incidentado su autenticidad.</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ácita: cuando dentro del plazo legal (6 días) no fue alegada su falsedad.</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a:t>
            </a:r>
            <a:endParaRPr b="0" lang="en-US" sz="2000" spc="-1" strike="noStrike">
              <a:solidFill>
                <a:srgbClr val="000000"/>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 Emana de parte:</a:t>
            </a:r>
            <a:endParaRPr b="0" lang="en-US" sz="2000" spc="-1" strike="noStrike">
              <a:solidFill>
                <a:srgbClr val="000000"/>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1) No reconocido o mandado a tener por no reconocido: no tiene valor en juicio.</a:t>
            </a:r>
            <a:endParaRPr b="0" lang="en-US" sz="1800" spc="-1" strike="noStrike">
              <a:solidFill>
                <a:srgbClr val="438086"/>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2) Reconocido o mandado a tener por reconocido: mismo valor que el instrumento público respecto de las partes que lo hubieren reconocido.</a:t>
            </a:r>
            <a:endParaRPr b="0" lang="en-US" sz="1800" spc="-1" strike="noStrike">
              <a:solidFill>
                <a:srgbClr val="438086"/>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b) Emana de 3º: para que tengan valor, deben ser ratificados por el otorgante declarando como testigo en el juicio, declarando reconocer su procedencia y dar fe de la verdad de su contenido. En dicho caso su valor probatorio es conforme a las reglas de prueba testimonial.</a:t>
            </a:r>
            <a:endParaRPr b="0" lang="en-US" sz="2000" spc="-1" strike="noStrike">
              <a:solidFill>
                <a:srgbClr val="000000"/>
              </a:solidFill>
              <a:latin typeface="Georgia"/>
            </a:endParaRPr>
          </a:p>
          <a:p>
            <a:pPr marL="361800" indent="-3618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4)Peritos</a:t>
            </a:r>
            <a:endParaRPr b="0" lang="en-US" sz="3600" spc="-1" strike="noStrike">
              <a:solidFill>
                <a:srgbClr val="424456"/>
              </a:solidFill>
              <a:latin typeface="Trebuchet MS"/>
            </a:endParaRPr>
          </a:p>
        </p:txBody>
      </p:sp>
      <p:sp>
        <p:nvSpPr>
          <p:cNvPr id="280" name="PlaceHolder 2"/>
          <p:cNvSpPr>
            <a:spLocks noGrp="1"/>
          </p:cNvSpPr>
          <p:nvPr>
            <p:ph/>
          </p:nvPr>
        </p:nvSpPr>
        <p:spPr>
          <a:xfrm>
            <a:off x="179280" y="1267920"/>
            <a:ext cx="8686800" cy="5311800"/>
          </a:xfrm>
          <a:prstGeom prst="rect">
            <a:avLst/>
          </a:prstGeom>
          <a:noFill/>
          <a:ln w="0">
            <a:noFill/>
          </a:ln>
        </p:spPr>
        <p:txBody>
          <a:bodyPr anchor="t">
            <a:normAutofit fontScale="95000"/>
          </a:bodyPr>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Oportunidad solicitud: dentro del término probatorio. </a:t>
            </a:r>
            <a:endParaRPr b="0" lang="en-US" sz="2600" spc="-1" strike="noStrike">
              <a:solidFill>
                <a:srgbClr val="000000"/>
              </a:solidFill>
              <a:latin typeface="Georgia"/>
            </a:endParaRPr>
          </a:p>
          <a:p>
            <a:pPr lvl="1" marL="624240" indent="-2336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38086"/>
                </a:solidFill>
                <a:latin typeface="Georgia"/>
              </a:rPr>
              <a:t>Peritaje no necesariamente debe realizarse dentro de ese plazo. Si se demora, no se suspenderá el procedimiento.</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nforme debe evacuarse dentro del término señalado por el tribunal.</a:t>
            </a:r>
            <a:endParaRPr b="0" lang="en-US" sz="2600" spc="-1" strike="noStrike">
              <a:solidFill>
                <a:srgbClr val="000000"/>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242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e aprecia conforme a reglas de la SANA CRÍTICA ( lógica, máximas de la experiencia y conocimientos científicamente afianzados).</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Gastos y honorarios: de cargo del que la haya solicitado/ 10 días desde que se le notifica de la resolución que fija monto, para consignar dinero en la cuenta del tribunal. </a:t>
            </a:r>
            <a:r>
              <a:rPr b="0" lang="es-ES" sz="2600" spc="-1" strike="noStrike" u="sng">
                <a:solidFill>
                  <a:srgbClr val="000000"/>
                </a:solidFill>
                <a:uFillTx/>
                <a:latin typeface="Georgia"/>
              </a:rPr>
              <a:t>Si no se realiza se tiene por desistida de la diligencia pericial solicitada.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Una demanda no siempre puede materializarse a través de una sola acción. </a:t>
            </a:r>
            <a:r>
              <a:rPr b="0" lang="es-CL" sz="1400" spc="-1" strike="noStrike">
                <a:solidFill>
                  <a:srgbClr val="000000"/>
                </a:solidFill>
                <a:latin typeface="Georgia"/>
              </a:rPr>
              <a:t>Frente a iguales o similares hechos, puede estar envuelto distintos tipo de responsabilidades, las cuales, a veces en términos de estructura de un juicio, es importante verificar para que puedan entregarnos información relevante, a fin de que nutran el juicio que nos interesa más en términos de la satisfacción de las necesidades de nuestro cliente. Por ejemplo, puede que un hecho que revista responsabilidad civil, este envuelto de una arista penal, como por ejemplo la falsificación de un documento. Es importante aquí verificar que la mayor parte de las veces, puede que nos encontremos con que un juicio alimente -en términos de información- al otro. </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Educar a nuestro cliente sobre costos económicos y personales de enfrentar un litigio.</a:t>
            </a:r>
            <a:r>
              <a:rPr b="0" lang="es-CL" sz="1400" spc="-1" strike="noStrike">
                <a:solidFill>
                  <a:srgbClr val="000000"/>
                </a:solidFill>
                <a:latin typeface="Georgia"/>
              </a:rPr>
              <a:t> Una de las experiencias profesionales que define la reputación de un abogado, es aquella de transmitir, de la forma más completa posible, las repercusiones que puede tener el enfrentar un litigio. No siempre, la persona con quien nos relacionamos ha tenido la experiencia de verse envuelto en un juicio, y allí por cierto la importancia de entregar una buena información, que le ayude a comprender las distintas etapas y las dificultades tanto teóricas como prácticas. </a:t>
            </a: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5) Inspección personal tribunal</a:t>
            </a:r>
            <a:endParaRPr b="0" lang="en-US" sz="4000" spc="-1" strike="noStrike">
              <a:solidFill>
                <a:srgbClr val="424456"/>
              </a:solidFill>
              <a:latin typeface="Trebuchet MS"/>
            </a:endParaRPr>
          </a:p>
        </p:txBody>
      </p:sp>
      <p:sp>
        <p:nvSpPr>
          <p:cNvPr id="282" name="PlaceHolder 2"/>
          <p:cNvSpPr>
            <a:spLocks noGrp="1"/>
          </p:cNvSpPr>
          <p:nvPr>
            <p:ph/>
          </p:nvPr>
        </p:nvSpPr>
        <p:spPr>
          <a:xfrm>
            <a:off x="395280" y="1699920"/>
            <a:ext cx="8229600" cy="49467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Oportunidad: presentar solicitud dentro del término probatorio.</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levanta ACTA</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Depósito: suma que el secretario estime necesaria para llevarla a cabo, en sus manos.</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Valor probatorio: PLENA PRUEBA hechos o circunstancias materiales tribunal estableció en ACTA como resultado de su PROPIA OBSERVACIÓN. </a:t>
            </a:r>
            <a:endParaRPr b="0" lang="en-US" sz="2400" spc="-1" strike="noStrike">
              <a:solidFill>
                <a:srgbClr val="000000"/>
              </a:solidFill>
              <a:latin typeface="Georgia"/>
            </a:endParaRPr>
          </a:p>
          <a:p>
            <a:pPr lvl="1" marL="65736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i se le asoció un informe pericial, éste valorado según reglas SANA CRÍTICA.</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6) Presunciones</a:t>
            </a:r>
            <a:endParaRPr b="0" lang="en-US" sz="3600" spc="-1" strike="noStrike">
              <a:solidFill>
                <a:srgbClr val="424456"/>
              </a:solidFill>
              <a:latin typeface="Trebuchet MS"/>
            </a:endParaRPr>
          </a:p>
        </p:txBody>
      </p:sp>
      <p:sp>
        <p:nvSpPr>
          <p:cNvPr id="284" name="PlaceHolder 2"/>
          <p:cNvSpPr>
            <a:spLocks noGrp="1"/>
          </p:cNvSpPr>
          <p:nvPr>
            <p:ph/>
          </p:nvPr>
        </p:nvSpPr>
        <p:spPr>
          <a:xfrm>
            <a:off x="179280" y="1268280"/>
            <a:ext cx="8686800" cy="5276880"/>
          </a:xfrm>
          <a:prstGeom prst="rect">
            <a:avLst/>
          </a:prstGeom>
          <a:noFill/>
          <a:ln w="0">
            <a:noFill/>
          </a:ln>
        </p:spPr>
        <p:txBody>
          <a:bodyPr anchor="t">
            <a:normAutofit fontScale="98000"/>
          </a:bodyPr>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rPr>
              <a:t>Acción y efecto de conjeturar el juez, mediante razonamientos de analogía, inducción o deducción, la existencia de hechos desconocidos partiendo de los conocidos  (Couture)</a:t>
            </a:r>
            <a:endParaRPr b="0" lang="en-US" sz="25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prueban los hechos que sirven de base.</a:t>
            </a:r>
            <a:endParaRPr b="0" lang="en-US" sz="2600" spc="-1" strike="noStrike">
              <a:solidFill>
                <a:srgbClr val="000000"/>
              </a:solidFill>
              <a:latin typeface="Georgia"/>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Presunciones legales: </a:t>
            </a:r>
            <a:endParaRPr b="0" lang="en-US" sz="2400" spc="-1" strike="noStrike">
              <a:solidFill>
                <a:srgbClr val="438086"/>
              </a:solidFill>
              <a:latin typeface="Georgia"/>
            </a:endParaRPr>
          </a:p>
          <a:p>
            <a:pPr lvl="2" marL="1157400" indent="-504000" algn="just">
              <a:lnSpc>
                <a:spcPct val="80000"/>
              </a:lnSpc>
              <a:spcBef>
                <a:spcPts val="300"/>
              </a:spcBef>
              <a:buClr>
                <a:srgbClr val="53548a"/>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Simplemente legales: PLENA, </a:t>
            </a:r>
            <a:r>
              <a:rPr b="0" lang="es-ES" sz="2200" spc="-1" strike="noStrike" u="sng">
                <a:solidFill>
                  <a:srgbClr val="53548a"/>
                </a:solidFill>
                <a:uFillTx/>
                <a:latin typeface="Georgia"/>
              </a:rPr>
              <a:t>salvo</a:t>
            </a:r>
            <a:r>
              <a:rPr b="0" lang="es-ES" sz="2200" spc="-1" strike="noStrike">
                <a:solidFill>
                  <a:srgbClr val="53548a"/>
                </a:solidFill>
                <a:latin typeface="Georgia"/>
              </a:rPr>
              <a:t> prueba en contrario.</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alteración carga de la prueba)</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2.    De derecho: siempre PLENA (liberan de carga de la prueba)</a:t>
            </a:r>
            <a:endParaRPr b="0" lang="en-US" sz="2200" spc="-1" strike="noStrike">
              <a:solidFill>
                <a:srgbClr val="53548a"/>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Judiciales: plena prueba en la medida que sean GRAVES (clara y suficientemente configurada como para generar convencimiento tribunal), PRECISAS (específicas y no vagas) y CONCORDANTES (armónica en su contenido con restantes hechos).</a:t>
            </a:r>
            <a:endParaRPr b="0" lang="en-US" sz="22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Observaciones a la prueba</a:t>
            </a:r>
            <a:endParaRPr b="0" lang="en-US" sz="4000" spc="-1" strike="noStrike">
              <a:solidFill>
                <a:srgbClr val="424456"/>
              </a:solidFill>
              <a:latin typeface="Trebuchet MS"/>
            </a:endParaRPr>
          </a:p>
        </p:txBody>
      </p:sp>
      <p:sp>
        <p:nvSpPr>
          <p:cNvPr id="286" name="PlaceHolder 2"/>
          <p:cNvSpPr>
            <a:spLocks noGrp="1"/>
          </p:cNvSpPr>
          <p:nvPr>
            <p:ph/>
          </p:nvPr>
        </p:nvSpPr>
        <p:spPr>
          <a:xfrm>
            <a:off x="755280" y="2491920"/>
            <a:ext cx="7777080" cy="3240360"/>
          </a:xfrm>
          <a:prstGeom prst="rect">
            <a:avLst/>
          </a:prstGeom>
          <a:noFill/>
          <a:ln w="19080">
            <a:solidFill>
              <a:srgbClr val="000000"/>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OBSERVACIONES A LA PRUEBA</a:t>
            </a:r>
            <a:endParaRPr b="0" lang="en-US" sz="19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                              </a:t>
            </a:r>
            <a:r>
              <a:rPr b="1" lang="es-ES" sz="1900" spc="-1" strike="noStrike">
                <a:solidFill>
                  <a:srgbClr val="000000"/>
                </a:solidFill>
                <a:latin typeface="Georgia"/>
                <a:ea typeface="SimSun"/>
              </a:rPr>
              <a:t>S. J. de Letras de Santiago (6º)</a:t>
            </a:r>
            <a:r>
              <a:rPr b="0" lang="es-ES" sz="19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1500" spc="-1" strike="noStrike">
                <a:solidFill>
                  <a:srgbClr val="000000"/>
                </a:solidFill>
                <a:latin typeface="Arial"/>
                <a:ea typeface="SimSun"/>
              </a:rPr>
              <a:t>ZZZZZZ, abogado, por la demandante en autos sobre indemnización de perjuicios caratulados “xxxxxxxxx” RIT N°XXXX a US respetuosamente digo: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	</a:t>
            </a:r>
            <a:r>
              <a:rPr b="0" lang="es-ES" sz="1500" spc="-1" strike="noStrike">
                <a:solidFill>
                  <a:srgbClr val="000000"/>
                </a:solidFill>
                <a:latin typeface="Arial"/>
                <a:ea typeface="SimSun"/>
              </a:rPr>
              <a:t>             </a:t>
            </a:r>
            <a:r>
              <a:rPr b="0" lang="es-ES" sz="1500" spc="-1" strike="noStrike">
                <a:solidFill>
                  <a:srgbClr val="000000"/>
                </a:solidFill>
                <a:latin typeface="Arial"/>
                <a:ea typeface="SimSun"/>
              </a:rPr>
              <a:t>Encontrándome dentro de plazo vengo en hacer a la prueba rendida en autos, las siguientes observaciones:</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1º-…...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2º-… </a:t>
            </a:r>
            <a:endParaRPr b="0" lang="en-US" sz="15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POR TANTO </a:t>
            </a:r>
            <a:endParaRPr b="0" lang="en-US" sz="19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A US. solicito:  Tener presente las observaciones a la prueba antes señaladas.</a:t>
            </a:r>
            <a:endParaRPr b="0" lang="en-US" sz="15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7" name="Rectangle 4"/>
          <p:cNvSpPr/>
          <p:nvPr/>
        </p:nvSpPr>
        <p:spPr>
          <a:xfrm flipV="1">
            <a:off x="-2147760" y="6291360"/>
            <a:ext cx="191880" cy="108000"/>
          </a:xfrm>
          <a:prstGeom prst="rect">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4932360" y="1808280"/>
            <a:ext cx="95400" cy="55440"/>
          </a:xfrm>
          <a:prstGeom prst="rect">
            <a:avLst/>
          </a:prstGeom>
          <a:solidFill>
            <a:srgbClr val="53548a"/>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63360" y="1701720"/>
            <a:ext cx="96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ea typeface="SimSun"/>
              </a:rPr>
              <a:t>Existe plazo de 10 días para en forma escrita hacer observaciones a la prueb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Citación para oír sentencia</a:t>
            </a:r>
            <a:endParaRPr b="0" lang="en-US" sz="4000" spc="-1" strike="noStrike">
              <a:solidFill>
                <a:srgbClr val="424456"/>
              </a:solidFill>
              <a:latin typeface="Trebuchet MS"/>
            </a:endParaRPr>
          </a:p>
        </p:txBody>
      </p:sp>
      <p:sp>
        <p:nvSpPr>
          <p:cNvPr id="291" name="PlaceHolder 2"/>
          <p:cNvSpPr>
            <a:spLocks noGrp="1"/>
          </p:cNvSpPr>
          <p:nvPr>
            <p:ph/>
          </p:nvPr>
        </p:nvSpPr>
        <p:spPr>
          <a:xfrm>
            <a:off x="127080" y="1628280"/>
            <a:ext cx="8686800" cy="4248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El tribunal, de oficio o a petición de parte, dictará la resolución que cita a las partes a oír sentencia.</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ea typeface="SimSun"/>
              </a:rPr>
              <a:t>Se notifica por el Estado Diario</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Se genera imposibilidad de las partes de realizar diligencias: </a:t>
            </a:r>
            <a:r>
              <a:rPr b="0" lang="es-ES" sz="2400" spc="-1" strike="noStrike">
                <a:solidFill>
                  <a:srgbClr val="000000"/>
                </a:solidFill>
                <a:latin typeface="Georgia"/>
                <a:ea typeface="SimSun"/>
              </a:rPr>
              <a:t>no se admitirán escritos ni pruebas de ningún género</a:t>
            </a:r>
            <a:r>
              <a:rPr b="0" lang="es-CL" sz="2400" spc="-1" strike="noStrike">
                <a:solidFill>
                  <a:srgbClr val="000000"/>
                </a:solidFill>
                <a:latin typeface="Georgia"/>
                <a:ea typeface="SimSun"/>
              </a:rPr>
              <a:t>.</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s un trámite esencial </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Causa queda en estado de sentencia.</a:t>
            </a:r>
            <a:endParaRPr b="0" lang="en-US" sz="25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eorgia"/>
                <a:ea typeface="SimSun"/>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24456"/>
                </a:solidFill>
                <a:latin typeface="Trebuchet MS"/>
              </a:rPr>
              <a:t>Sin embargo, excepcionalmente podrá oponerse o dictarse posteriormente: </a:t>
            </a:r>
            <a:endParaRPr b="0" lang="en-US" sz="2500" spc="-1" strike="noStrike">
              <a:solidFill>
                <a:srgbClr val="424456"/>
              </a:solidFill>
              <a:latin typeface="Trebuchet MS"/>
            </a:endParaRPr>
          </a:p>
        </p:txBody>
      </p:sp>
      <p:sp>
        <p:nvSpPr>
          <p:cNvPr id="293" name="PlaceHolder 2"/>
          <p:cNvSpPr>
            <a:spLocks noGrp="1"/>
          </p:cNvSpPr>
          <p:nvPr>
            <p:ph/>
          </p:nvPr>
        </p:nvSpPr>
        <p:spPr>
          <a:xfrm>
            <a:off x="468360" y="1913040"/>
            <a:ext cx="8229600" cy="4540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os incidentes de nulidad (articulo 83 y 84 del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ara mejor resolver (articulo 15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recautorias (articulo 29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en rebeldía de la parte, por fuerza mayor. (articulo 7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por falta de emplazamiento (articulo 8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acumulación de autos (articulo 98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privilegio de pobreza (articulo 13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desistimiento de la demanda (articulo 148 CP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das para mejor resolver</a:t>
            </a:r>
            <a:endParaRPr b="0" lang="en-US" sz="4000" spc="-1" strike="noStrike">
              <a:solidFill>
                <a:srgbClr val="424456"/>
              </a:solidFill>
              <a:latin typeface="Trebuchet MS"/>
            </a:endParaRPr>
          </a:p>
        </p:txBody>
      </p:sp>
      <p:sp>
        <p:nvSpPr>
          <p:cNvPr id="295" name="PlaceHolder 2"/>
          <p:cNvSpPr>
            <a:spLocks noGrp="1"/>
          </p:cNvSpPr>
          <p:nvPr>
            <p:ph/>
          </p:nvPr>
        </p:nvSpPr>
        <p:spPr>
          <a:xfrm>
            <a:off x="457200" y="1484280"/>
            <a:ext cx="8229600" cy="50896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iligencias probatorias decretadas de oficio por el tribunal, una vez puesto el proceso en estado de sentencia.</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ntro del plazo que cuenta para dictar sentencia(60 día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Reguladas en el artículo 159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1: “la agregación de cualquier documento que estimen necesario para esclarecer el derecho de los litigan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2: “la confesión judicial de cualquiera de las partes sobre hechos que consideren de influencia en la cuestión y que no resulten probad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3: “la inspección personal del objeto de la cuestión”.</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4: “el informe de perit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5: “la comparecencia de testigos que hayan declarado en el juicio, para que aclaren o expliquen sus dichos obscuros o contradictorios; y</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6: “la presentación de cualquiera otros autos que tengan relación con el pleito”.</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cretada se notifica por el estado diario o por cedula si requiere comparecencia de las par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20 días para cumplir desde que son notificadas.</a:t>
            </a:r>
            <a:endParaRPr b="0" lang="en-US" sz="1800" spc="-1" strike="noStrike">
              <a:solidFill>
                <a:srgbClr val="000000"/>
              </a:solidFill>
              <a:latin typeface="Georgia"/>
            </a:endParaRPr>
          </a:p>
          <a:p>
            <a:pPr marL="365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La sentencia</a:t>
            </a:r>
            <a:endParaRPr b="0" lang="en-US" sz="4000" spc="-1" strike="noStrike">
              <a:solidFill>
                <a:srgbClr val="424456"/>
              </a:solidFill>
              <a:latin typeface="Trebuchet MS"/>
            </a:endParaRPr>
          </a:p>
        </p:txBody>
      </p:sp>
      <p:sp>
        <p:nvSpPr>
          <p:cNvPr id="297" name="PlaceHolder 2"/>
          <p:cNvSpPr>
            <a:spLocks noGrp="1"/>
          </p:cNvSpPr>
          <p:nvPr>
            <p:ph/>
          </p:nvPr>
        </p:nvSpPr>
        <p:spPr>
          <a:xfrm>
            <a:off x="457200" y="1557000"/>
            <a:ext cx="8229600" cy="5016600"/>
          </a:xfrm>
          <a:prstGeom prst="rect">
            <a:avLst/>
          </a:prstGeom>
          <a:noFill/>
          <a:ln w="0">
            <a:noFill/>
          </a:ln>
        </p:spPr>
        <p:txBody>
          <a:bodyPr anchor="t">
            <a:normAutofit/>
          </a:bodyPr>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60 días plazo máximo desde citación a oír sentencia</a:t>
            </a:r>
            <a:endParaRPr b="0" lang="en-US" sz="2600" spc="-1" strike="noStrike">
              <a:solidFill>
                <a:srgbClr val="000000"/>
              </a:solidFill>
              <a:latin typeface="Georgia"/>
            </a:endParaRPr>
          </a:p>
          <a:p>
            <a:pPr lvl="2" marL="703440" indent="0" algn="just">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 la práctica nunca se cumple este plaz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quisitos </a:t>
            </a:r>
            <a:r>
              <a:rPr b="0" i="1" lang="es-ES" sz="2600" spc="-1" strike="noStrike">
                <a:solidFill>
                  <a:srgbClr val="000000"/>
                </a:solidFill>
                <a:latin typeface="Georgia"/>
                <a:ea typeface="SimSun"/>
              </a:rPr>
              <a:t> </a:t>
            </a:r>
            <a:r>
              <a:rPr b="0" lang="es-ES" sz="2200" spc="-1" strike="noStrike">
                <a:solidFill>
                  <a:srgbClr val="326064"/>
                </a:solidFill>
                <a:latin typeface="Georgia"/>
                <a:ea typeface="SimSun"/>
              </a:rPr>
              <a:t>Arts. 61 y 169 del CPC</a:t>
            </a:r>
            <a:r>
              <a:rPr b="0" lang="es-ES" sz="2600" spc="-1" strike="noStrike">
                <a:solidFill>
                  <a:srgbClr val="000000"/>
                </a:solidFill>
                <a:latin typeface="Georgia"/>
                <a:ea typeface="SimSun"/>
              </a:rPr>
              <a:t>. :</a:t>
            </a:r>
            <a:endParaRPr b="0" lang="en-US" sz="2600" spc="-1" strike="noStrike">
              <a:solidFill>
                <a:srgbClr val="000000"/>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presar en letras el lugar y fecha en que se dicta.</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juez o jueces que la dicten o intervengan en el acuerdo.</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secretario que la autoriza (ministro de fe)</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igencias </a:t>
            </a:r>
            <a:r>
              <a:rPr b="0" lang="es-ES" sz="2400" spc="-1" strike="noStrike">
                <a:solidFill>
                  <a:srgbClr val="438086"/>
                </a:solidFill>
                <a:latin typeface="Georgia"/>
              </a:rPr>
              <a:t>art. 170 CPC: </a:t>
            </a:r>
            <a:endParaRPr b="0" lang="en-US" sz="2400" spc="-1" strike="noStrike">
              <a:solidFill>
                <a:srgbClr val="438086"/>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Individualización partes</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acciones y excepciones hechas valer</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Consideraciones de hecho y derecho que sirven de fundamento</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leyes o ppios de equidad conforme resuelve</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Decisión del asunto controvertid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ne fin a la primera instancia</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lazo individual para recurso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99640" y="476280"/>
            <a:ext cx="6551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enor cuantía</a:t>
            </a:r>
            <a:endParaRPr b="0" lang="en-US" sz="2800" spc="-1" strike="noStrike">
              <a:solidFill>
                <a:srgbClr val="424456"/>
              </a:solidFill>
              <a:latin typeface="Trebuchet MS"/>
            </a:endParaRPr>
          </a:p>
        </p:txBody>
      </p:sp>
      <p:sp>
        <p:nvSpPr>
          <p:cNvPr id="299" name="PlaceHolder 2"/>
          <p:cNvSpPr>
            <a:spLocks noGrp="1"/>
          </p:cNvSpPr>
          <p:nvPr>
            <p:ph/>
          </p:nvPr>
        </p:nvSpPr>
        <p:spPr>
          <a:xfrm>
            <a:off x="456840" y="1341000"/>
            <a:ext cx="8218440" cy="5273640"/>
          </a:xfrm>
          <a:prstGeom prst="rect">
            <a:avLst/>
          </a:prstGeom>
          <a:noFill/>
          <a:ln w="0">
            <a:noFill/>
          </a:ln>
        </p:spPr>
        <p:txBody>
          <a:bodyPr anchor="t">
            <a:normAutofit/>
          </a:bodyPr>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tía  es entre 10 y 500 UTM (y no más de 500 UTM)</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lazos: </a:t>
            </a:r>
            <a:endParaRPr b="0" lang="en-US" sz="2000" spc="-1" strike="noStrike">
              <a:solidFill>
                <a:srgbClr val="000000"/>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érmino emplazamiento: 8 días, aumento tabla emplazamiento y no de 20 días + X</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raslado demanda reconvencional: 6 días</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Omite trámites de réplica y dúplica de la demanda principal y reconvencional.</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diencia conciliación: no anterior al 3º ni posterior al 10º día, desde notificación resolución que la cita.</a:t>
            </a:r>
            <a:endParaRPr b="0" lang="en-US" sz="1800" spc="-1" strike="noStrike">
              <a:solidFill>
                <a:srgbClr val="438086"/>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érmino Probatorio: </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15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no + de 20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reglas generale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bservaciones a la prueba: 6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ctación Sentencia Definitiva: 15 días contados desde última notificación resolución que cita partes a oí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ínima cuantía</a:t>
            </a:r>
            <a:endParaRPr b="0" lang="en-US" sz="2800" spc="-1" strike="noStrike">
              <a:solidFill>
                <a:srgbClr val="424456"/>
              </a:solidFill>
              <a:latin typeface="Trebuchet MS"/>
            </a:endParaRPr>
          </a:p>
        </p:txBody>
      </p:sp>
      <p:sp>
        <p:nvSpPr>
          <p:cNvPr id="301" name="PlaceHolder 2"/>
          <p:cNvSpPr>
            <a:spLocks noGrp="1"/>
          </p:cNvSpPr>
          <p:nvPr>
            <p:ph/>
          </p:nvPr>
        </p:nvSpPr>
        <p:spPr>
          <a:xfrm>
            <a:off x="457200" y="1125360"/>
            <a:ext cx="8229600" cy="5616720"/>
          </a:xfrm>
          <a:prstGeom prst="rect">
            <a:avLst/>
          </a:prstGeom>
          <a:noFill/>
          <a:ln w="0">
            <a:noFill/>
          </a:ln>
        </p:spPr>
        <p:txBody>
          <a:bodyPr anchor="t">
            <a:normAutofit fontScale="99000"/>
          </a:bodyPr>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 verbal  (en audiencias)</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n la práctica funciona  de forma escrita, de forma  semejante  al de mayor cuantía</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oncentrado</a:t>
            </a:r>
            <a:endParaRPr b="0" lang="en-US" sz="16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No contempla apelación y </a:t>
            </a:r>
            <a:r>
              <a:rPr b="0" lang="es-CL" sz="1600" spc="-1" strike="noStrike">
                <a:solidFill>
                  <a:srgbClr val="000000"/>
                </a:solidFill>
                <a:latin typeface="Georgia"/>
              </a:rPr>
              <a:t>sólo hay lugar al recurso de casación en la forma en los casos de los números 1. °, 2. °, 4. °, 6. °, 7. ° y 9. ° del artículo 768</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mplía nº de personas autorizadas para practicar notificaciones (+ </a:t>
            </a:r>
            <a:r>
              <a:rPr b="0" lang="es-CL" sz="1600" spc="-1" strike="noStrike">
                <a:solidFill>
                  <a:srgbClr val="000000"/>
                </a:solidFill>
                <a:latin typeface="Georgia"/>
              </a:rPr>
              <a:t>vecino de la confianza del tribunal o miembro del Cuerpo de Carabinero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lazo para declarar abandono del procedimiento: 3 meses (y no 6)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todo lo obrado en las audiencias se levanta ACTA, que será firmada por el juez, las partes y el secretario, si lo hubiere</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resentación Prueba: </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Documental: conjuntamente con demanda o en audiencia de contestación 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Testimonial: lista de testigos-en audiencia contestación o a + tardar 3 días siguientes a notificación resolución que recibe la causa a prueba (cédula). Sólo 4 testigos x c/punt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bsolución de posiciones (confesión): por 1 sola vez, en audiencia contestación o en la de prueba (*si absolvente se encuentra presente).</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amitación: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mand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de contestación y conciliación, proposición toda prueba de que  piensan valerse las parte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e recibe causa a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para rendir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cita a las partes a oír sentenci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ictación sentencia (60 días desde fecha celebración audiencia de contestación).</a:t>
            </a:r>
            <a:endParaRPr b="0" lang="en-US" sz="16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r>
              <a:rPr b="0" lang="es-CL"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9" name=""/>
          <p:cNvSpPr txBox="1"/>
          <p:nvPr/>
        </p:nvSpPr>
        <p:spPr>
          <a:xfrm>
            <a:off x="457200" y="2249640"/>
            <a:ext cx="8229600" cy="4324320"/>
          </a:xfrm>
          <a:prstGeom prst="rect">
            <a:avLst/>
          </a:prstGeom>
          <a:noFill/>
          <a:ln w="0">
            <a:noFill/>
          </a:ln>
        </p:spPr>
        <p:txBody>
          <a:bodyPr anchor="t">
            <a:normAutofit fontScale="92000"/>
          </a:bodyPr>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Además, es muy importante relacionar al cliente con cuestiones tan elementales como lo justo o lo injusto, lo justo y los remedios que ha puesto el legislador, o bien, sencillamente cómo y de qué modo fallan los jueces en las distintas instancias, o cuales son las tendencias para fallar de tal o cual modo. Ejemplo: explicar a la víctima el acuerdo entre imputado y el fiscal de aplicar la salida alternativa en materia penal de suspensión condicional del procedimie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Por cierto una cuestión no menor es enseñar abstracciones jurídicas que nuestro cliente desconoce, aterrizándolas a un lenguaje entendible. Por ejemplo, qué es prescripción, caducidad, obligación solidaria, etc. Verdaderas incógnitas para cualquier lego. </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reflexionar sobre lo siguiente: un juicio ordinario de mayor cuantía, en términos de tramitación, puede demorarse por lo menos 5 años en tener una sentencia firme. Puedes recordar que relación sea de amistad, afinidad, o profesional, ha durado en tu vida tanto tiempo. Esto es un elemento importantísimo al  momento de decidir si tomar o no tomar un asu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Procesos de negociación pre-litigio.</a:t>
            </a:r>
            <a:r>
              <a:rPr b="0" lang="es-CL" sz="1400" spc="-1" strike="noStrike">
                <a:solidFill>
                  <a:srgbClr val="000000"/>
                </a:solidFill>
                <a:latin typeface="Georgia"/>
              </a:rPr>
              <a:t> Y si antes de demandar conversamos?. Es una buena estrategia, pero no muy original si no se tiene en perspectiva lo siguiente: primero haber estudiado con dedicación tu contraparte, quien lo representa y su buena o mala fe de sentarse a conversar de modo preliminar. Segundo, que el proceso contribuya en términos de conseguir información en caso de materializarse el juicio. Tercero, no conversar sin antes tener la estrategia teórica de la resolución del caso, indagado de que manera los jueces han fallado acerca del asunto, aprender de cuestiones técnicas que sean relevantes en los hechos de la causa.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Cuarto, sacar muy bien los cálculos, y conversar preliminarmente con tu cliente pisos o techos de negociación en términos de cuantificación de items demandados.</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5.- Fortalezas y debilidades de mi prueba. </a:t>
            </a:r>
            <a:r>
              <a:rPr b="0" lang="es-CL" sz="1400" spc="-1" strike="noStrike">
                <a:solidFill>
                  <a:srgbClr val="000000"/>
                </a:solidFill>
                <a:latin typeface="Georgia"/>
              </a:rPr>
              <a:t>Un juicio está lleno de cuestiones que no se pueden planificar. Sin embargo, cuestiones con las cuales no se pueden improvisar son la construcción de nuestra teoría del caso, plasmada tanto en la demanda como en la réplica, así como en planificar la prueba que rendiré. Es importante descartar mucha información que nuestro cliente nos entregó, saber direccionarla. Pero hay algo en donde nos está vedado improvisar: la prueba testimonial. En ningún caso se trata de decirle que tiene que contestar el testigo, sino, de entregar la experiencia y la manera en cómo responder a fin de que su testimonio suma más que reste. Por ello es importante reunirse preliminarmente con los testigos, hablarles del caso, preguntarles qué saben, advertirles sobre las cuestiones procesales previas a su declaración, explicar los puntos o hechos a probar, indagar sobre su conocimiento de lo que depone, etc.</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3" name=""/>
          <p:cNvSpPr txBox="1"/>
          <p:nvPr/>
        </p:nvSpPr>
        <p:spPr>
          <a:xfrm>
            <a:off x="456840" y="2249640"/>
            <a:ext cx="8218440" cy="4419360"/>
          </a:xfrm>
          <a:prstGeom prst="rect">
            <a:avLst/>
          </a:prstGeom>
          <a:noFill/>
          <a:ln w="0">
            <a:noFill/>
          </a:ln>
        </p:spPr>
        <p:txBody>
          <a:bodyPr anchor="t">
            <a:normAutofit fontScale="94000"/>
          </a:bodyPr>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6.- Enfrentamiento ético del litigio, derecho a defensa y relación ético-profesional con tu cliente.</a:t>
            </a:r>
            <a:r>
              <a:rPr b="0" lang="es-CL" sz="1400" spc="-1" strike="noStrike">
                <a:solidFill>
                  <a:srgbClr val="000000"/>
                </a:solidFill>
                <a:latin typeface="Georgia"/>
              </a:rPr>
              <a:t> No olvidarse que finalmente quien decide demandar debe ser el cliente. De tal modo, la información y la educación sobre sus derechos es lo más relevante de tu entrevista. Nuestra sociedad lamentablemente , en muchas áreas es demasiado paternalista, privándonos mediante leyes de un sinnúmero de cuestiones. Mayores privaciones encontramos en términos valorativos y morales. Usted como abogado, debe advertir sobre el abanico de posibilidades que el cliente puede enfrentar el caso, independiente de sus aprehensiones de tipo moral, o de lo que usted por área de especialidad esté dispuesto a tomar como asunto. Siempre es importante señalar todos los modos de solución, si usted no está dispuesto a tomar el asunto, derívelo a algún colega que usted sepa que efectivamente lo hag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Otro efecto importantísimo es que habiendo una relación de mucho tiempo con tu cliente, es probable que se generan vínculos mas allá de lo profesional, lo cual es perfectamente válido, sin embargo, siempre es importante mantener una distancia profesional adecuad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No todo es permitido tratándose de obtener una victoria en favor de tu cliente, siempre debemos cautelar el contenido ético de nuestro actuar. Es conocido entre colegas el refrán, “los clientes pasan”, aludiendo a la reputación que debe mantener un abogado. </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7.- Fijarse en la cuantía antes de demandar: </a:t>
            </a:r>
            <a:r>
              <a:rPr b="0" lang="es-CL" sz="1400" spc="-1" strike="noStrike">
                <a:solidFill>
                  <a:srgbClr val="000000"/>
                </a:solidFill>
                <a:latin typeface="Georgia"/>
              </a:rPr>
              <a:t>No todo es juicio ordinario de mayor cuantía… Para que emprender una acción que puede durar más de 5 años, si nos fijamos y atendemos que existe por ejemplo un procedimiento de menor cuantía, que reduce el tiempo al menos a la mitad!</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24456"/>
                </a:solidFill>
                <a:latin typeface="Trebuchet MS"/>
              </a:rPr>
              <a:t>Definición</a:t>
            </a:r>
            <a:endParaRPr b="0" lang="en-US" sz="2400" spc="-1" strike="noStrike">
              <a:solidFill>
                <a:srgbClr val="424456"/>
              </a:solidFill>
              <a:latin typeface="Trebuchet MS"/>
            </a:endParaRPr>
          </a:p>
        </p:txBody>
      </p:sp>
      <p:sp>
        <p:nvSpPr>
          <p:cNvPr id="235" name=""/>
          <p:cNvSpPr txBox="1"/>
          <p:nvPr/>
        </p:nvSpPr>
        <p:spPr>
          <a:xfrm>
            <a:off x="457200" y="1052280"/>
            <a:ext cx="8229600" cy="5521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Procedimiento declarativo, de aplicación general y supletoria en todas las gestiones, trámites y actuaciones que no están  sometidas a una regla o tramitación especial divers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Regulación          Libro I y II CPC.</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24456"/>
                </a:solidFill>
                <a:latin typeface="Trebuchet MS"/>
              </a:rPr>
              <a:t>Características</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clarativo (se conoce y discute respecto de la existencia de un derech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cidencia de la cuantía de lo discutido en las reglas aplicables</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aplicación general (cuando no exista un procedimiento especial)</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upletorio (en cuanto materias no reguladas por procedimientos especiales y donde se contemple remisión Ej.  Art. 27 Ley 19.968, Art. 52 CPP)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doble grado o instancia (posibilidad de apelación como regla general)</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24456"/>
                </a:solidFill>
                <a:latin typeface="Trebuchet MS"/>
              </a:rPr>
              <a:t>Clasificación</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ínima Cuantía  </a:t>
            </a:r>
            <a:r>
              <a:rPr b="0" lang="es-CL" sz="1600" spc="-1" strike="noStrike">
                <a:solidFill>
                  <a:srgbClr val="000000"/>
                </a:solidFill>
                <a:latin typeface="Georgia"/>
              </a:rPr>
              <a:t>	</a:t>
            </a:r>
            <a:r>
              <a:rPr b="0" lang="es-CL" sz="1600" spc="-1" strike="noStrike">
                <a:solidFill>
                  <a:srgbClr val="000000"/>
                </a:solidFill>
                <a:latin typeface="Georgia"/>
              </a:rPr>
              <a:t>Menos de 10 UTM  (&lt; $395.700 aprox.)</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en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 Entre 10 y 500 UT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ay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Más de 500 UTM (&gt; $ 19.785.000 aprox.)</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36" name="3 Flecha derecha"/>
          <p:cNvSpPr/>
          <p:nvPr/>
        </p:nvSpPr>
        <p:spPr>
          <a:xfrm>
            <a:off x="2771640" y="4941720"/>
            <a:ext cx="287640" cy="71640"/>
          </a:xfrm>
          <a:prstGeom prst="rightArrow">
            <a:avLst>
              <a:gd name="adj1" fmla="val 50000"/>
              <a:gd name="adj2" fmla="val 49910"/>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4 Flecha derecha"/>
          <p:cNvSpPr/>
          <p:nvPr/>
        </p:nvSpPr>
        <p:spPr>
          <a:xfrm>
            <a:off x="2771640" y="5229360"/>
            <a:ext cx="287640" cy="71280"/>
          </a:xfrm>
          <a:prstGeom prst="rightArrow">
            <a:avLst>
              <a:gd name="adj1" fmla="val 50000"/>
              <a:gd name="adj2" fmla="val 50162"/>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5 Flecha derecha"/>
          <p:cNvSpPr/>
          <p:nvPr/>
        </p:nvSpPr>
        <p:spPr>
          <a:xfrm>
            <a:off x="2771640" y="5516640"/>
            <a:ext cx="287640" cy="73080"/>
          </a:xfrm>
          <a:prstGeom prst="rightArrow">
            <a:avLst>
              <a:gd name="adj1" fmla="val 50000"/>
              <a:gd name="adj2" fmla="val 50019"/>
            </a:avLst>
          </a:prstGeom>
          <a:solidFill>
            <a:srgbClr val="53548a"/>
          </a:solidFill>
          <a:ln w="19080">
            <a:solidFill>
              <a:srgbClr val="3b3b64"/>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Flecha derecha"/>
          <p:cNvSpPr/>
          <p:nvPr/>
        </p:nvSpPr>
        <p:spPr>
          <a:xfrm>
            <a:off x="1979640" y="1989000"/>
            <a:ext cx="288720" cy="71640"/>
          </a:xfrm>
          <a:prstGeom prst="rightArrow">
            <a:avLst>
              <a:gd name="adj1" fmla="val 50000"/>
              <a:gd name="adj2" fmla="val 49817"/>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4 CuadroTexto"/>
          <p:cNvSpPr/>
          <p:nvPr/>
        </p:nvSpPr>
        <p:spPr>
          <a:xfrm>
            <a:off x="1908000" y="141300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ructura Procedimiento</a:t>
            </a:r>
            <a:endParaRPr b="0" lang="en-US" sz="1800" spc="-1" strike="noStrike">
              <a:solidFill>
                <a:srgbClr val="000000"/>
              </a:solidFill>
              <a:latin typeface="Arial"/>
            </a:endParaRPr>
          </a:p>
        </p:txBody>
      </p:sp>
      <p:pic>
        <p:nvPicPr>
          <p:cNvPr id="241" name="6 Marcador de contenido" descr="1.jpg"/>
          <p:cNvPicPr/>
          <p:nvPr/>
        </p:nvPicPr>
        <p:blipFill>
          <a:blip r:embed="rId1"/>
          <a:stretch/>
        </p:blipFill>
        <p:spPr>
          <a:xfrm>
            <a:off x="324000" y="2060640"/>
            <a:ext cx="822960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3 Marcador de contenido" descr="2.jpg"/>
          <p:cNvPicPr/>
          <p:nvPr/>
        </p:nvPicPr>
        <p:blipFill>
          <a:blip r:embed="rId1"/>
          <a:stretch/>
        </p:blipFill>
        <p:spPr>
          <a:xfrm>
            <a:off x="324000" y="549360"/>
            <a:ext cx="8029440" cy="2808360"/>
          </a:xfrm>
          <a:prstGeom prst="rect">
            <a:avLst/>
          </a:prstGeom>
          <a:ln w="0">
            <a:noFill/>
          </a:ln>
        </p:spPr>
      </p:pic>
      <p:pic>
        <p:nvPicPr>
          <p:cNvPr id="243" name="4 Imagen" descr="3.jpg"/>
          <p:cNvPicPr/>
          <p:nvPr/>
        </p:nvPicPr>
        <p:blipFill>
          <a:blip r:embed="rId2"/>
          <a:stretch/>
        </p:blipFill>
        <p:spPr>
          <a:xfrm>
            <a:off x="1692360" y="3860640"/>
            <a:ext cx="555300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1:30:43Z</dcterms:created>
  <dc:creator>Ale</dc:creator>
  <dc:description/>
  <dc:language>en-US</dc:language>
  <cp:lastModifiedBy>Ale</cp:lastModifiedBy>
  <dcterms:modified xsi:type="dcterms:W3CDTF">2012-04-21T16:04:09Z</dcterms:modified>
  <cp:revision>74</cp:revision>
  <dc:subject/>
  <dc:title>Juicio Ordinario</dc:title>
</cp:coreProperties>
</file>