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6158-8828-4AF6-8F57-2B8ED1E1CC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B1BF-1324-42B4-83F7-5737D7A0FD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4F1E6-7DF7-4D78-8C19-4FFB209ED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453ED-AFDF-46F7-A610-EA5168FF6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AF1D7-FFC6-4064-9F52-1EE5D91B7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BC08D-356B-4AAA-B336-B35424D15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43C81-E08B-409F-9DAB-8367FD83C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BEB56-72C1-45A0-802C-D2C181F2B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3B678-B726-4959-B0B5-519E9D566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4A136-98D8-4B6E-BB7B-DBEB411F1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370E0-B002-44D1-B2AD-71485E6F7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8A33F-CF86-491A-8DFA-CF58C787C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6EAF5-B09B-4FA1-A512-CA556BBFB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39FF4-584B-4A0B-96E8-921494F7A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93250-6513-4CB7-A6B2-76B1F624D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A299-7F68-47F2-939C-0BFBD8EB6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4995A-366F-4D86-86C8-947A43E8B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50991-A5EC-4D0D-8FD7-F1FD967F6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23F88-DAF2-4035-9F67-E59BE5019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822C282-18BB-4BA1-A62E-68DF96E39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51ADB5-D275-4C75-8603-FA13BF7F0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CFA1BD-E987-4454-9232-21FB9C45B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6FA60E-D6BF-4533-859F-A92BB3AA8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B1CF21-D189-4081-83F1-0C6F871FF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C3FFC-6644-469C-9BA9-5C76D533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326031-CF1C-4AAB-A864-74A98E2A7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875520-C700-429D-90A1-0CD8DD9B1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CE40D8-8880-4650-A12D-6A3EEBF14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8098FF-77E8-4B5F-9804-93516EBC5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8D890C-05AB-4285-8D68-21C3E5C3B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790D05-7C08-4FE9-A99E-DF1365837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C23145A-6B9E-4C10-ADBB-BDA989F3CC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E42AC-9A68-4C47-96CC-0C23A0631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5C224-5751-4C2D-8289-E0495A2A55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77F01-3ABC-4DA6-80A1-6936E6D12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953A-51E7-411F-9F0D-57F3199E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FFC50-2E22-499B-8589-9AD78EC07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C40A0-CAA3-4C71-B75C-8DAC6E2D1D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4A5B1-9BE6-4B29-BF44-D34625564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0B14B-E069-401B-AA46-D97E4D6C7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0C7F4-2346-4A7B-B86E-5A6BEA287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411EB-393B-4A28-9174-29AE2F096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83F0C-D961-4832-931C-6327D736E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3A3AF9-7333-4EAC-AA09-BB2550B46D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A9285C-A569-4464-B5FA-DD65A020A0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E86C1-36CA-48E8-AFBE-323366B39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0748C-6E16-4989-8FCC-502040BF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9A50-17F9-492A-AFAC-6410D225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9380-8F89-42D4-A54E-3E235A4A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AAC5-EF6D-4EE1-A549-B782D0BD0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0798-5FA9-4EDF-8BF9-4284FC2EFEAC}"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4368-BD7D-48D6-B961-022E4B5EF326}"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EB69-23C6-4396-9179-6170B2930941}"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79F0-E637-43B7-A169-DD2FE1134557}"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299700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Procedimientos ante Tribunales de Familia </a:t>
            </a:r>
            <a:br>
              <a:rPr sz="4000"/>
            </a:b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191120" y="4581000"/>
            <a:ext cx="4952880" cy="1752840"/>
          </a:xfrm>
          <a:prstGeom prst="rect">
            <a:avLst/>
          </a:prstGeom>
          <a:noFill/>
          <a:ln w="0">
            <a:noFill/>
          </a:ln>
        </p:spPr>
        <p:txBody>
          <a:bodyPr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24456"/>
                </a:solidFill>
                <a:latin typeface="Georgia"/>
              </a:rPr>
              <a:t>Procedimiento Ordinario y especiales.</a:t>
            </a: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3" name="2 Subtítulo"/>
          <p:cNvSpPr/>
          <p:nvPr/>
        </p:nvSpPr>
        <p:spPr>
          <a:xfrm>
            <a:off x="179280" y="260280"/>
            <a:ext cx="4953240" cy="1752840"/>
          </a:xfrm>
          <a:prstGeom prst="rect">
            <a:avLst/>
          </a:prstGeom>
          <a:noFill/>
          <a:ln w="0">
            <a:noFill/>
          </a:ln>
        </p:spPr>
        <p:style>
          <a:lnRef idx="0"/>
          <a:fillRef idx="0"/>
          <a:effectRef idx="0"/>
          <a:fontRef idx="minor"/>
        </p:style>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765000"/>
            <a:ext cx="8207280" cy="5328000"/>
          </a:xfrm>
          <a:prstGeom prst="rect">
            <a:avLst/>
          </a:prstGeom>
          <a:noFill/>
          <a:ln w="0">
            <a:noFill/>
          </a:ln>
        </p:spPr>
        <p:txBody>
          <a:bodyPr anchor="t">
            <a:normAutofit/>
          </a:bodyPr>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Comparecencia en Juici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18 de la ley, modificado por la ley 20.286 del 2008, las partes pueden comparecer con abogado habilitado, además, pueden ser patrocinadas  por Corporaciones de Asistencia Judicia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renuncia de abogado patrocinante, el juez debe asignar de oficio a otro que asuma, a no ser que la parte designe a uno de su confianz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os procedimientos especiales las partes pueden comparecer sin abogado, a no ser que el juez estime lo contrario o cuando una de las partes sea un meno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suspensión del procedimiento</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El art. 20 de la ley señala que el juez puede suspender el desarrollo de las audiencias de oficio, además las partes de común acuerdo pueden suspender hasta dos veces las audiencias, previa autorización del juez.</a:t>
            </a:r>
            <a:endParaRPr b="0" lang="en-US" sz="1600" spc="-1" strike="noStrike">
              <a:solidFill>
                <a:srgbClr val="438086"/>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549000"/>
            <a:ext cx="8229600" cy="723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Inicio del Procedimiento</a:t>
            </a:r>
            <a:endParaRPr b="0" lang="en-US" sz="2400" spc="-1" strike="noStrike">
              <a:solidFill>
                <a:srgbClr val="424456"/>
              </a:solidFill>
              <a:latin typeface="Trebuchet MS"/>
            </a:endParaRPr>
          </a:p>
        </p:txBody>
      </p:sp>
      <p:sp>
        <p:nvSpPr>
          <p:cNvPr id="239" name="PlaceHolder 2"/>
          <p:cNvSpPr>
            <a:spLocks noGrp="1"/>
          </p:cNvSpPr>
          <p:nvPr>
            <p:ph/>
          </p:nvPr>
        </p:nvSpPr>
        <p:spPr>
          <a:xfrm>
            <a:off x="468000" y="1268280"/>
            <a:ext cx="8002440" cy="1944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uede iniciarse por: </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edida prejudicial cautelar</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or demanda escrita o verbal.</a:t>
            </a:r>
            <a:endParaRPr b="0" lang="en-US" sz="16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efecto, la regla general es que la demanda sea escrita. Por excepción y en casos calificados, el juez, por resolución fundada puede autorizar al demandante a interponer su demanda oralmente.</a:t>
            </a:r>
            <a:endParaRPr b="0" lang="en-US" sz="1400" spc="-1" strike="noStrike">
              <a:solidFill>
                <a:srgbClr val="53548a"/>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nuncia </a:t>
            </a:r>
            <a:endParaRPr b="0" lang="en-US" sz="1600" spc="-1" strike="noStrike">
              <a:solidFill>
                <a:srgbClr val="438086"/>
              </a:solidFill>
              <a:latin typeface="Georgia"/>
            </a:endParaRPr>
          </a:p>
        </p:txBody>
      </p:sp>
      <p:sp>
        <p:nvSpPr>
          <p:cNvPr id="240" name="Text Box 5"/>
          <p:cNvSpPr/>
          <p:nvPr/>
        </p:nvSpPr>
        <p:spPr>
          <a:xfrm>
            <a:off x="395280" y="3213000"/>
            <a:ext cx="8136000" cy="29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demanda debe cumplir con los requisitos del art. 254 del CPC y en general los comunes a toda demanda civil </a:t>
            </a:r>
            <a:endParaRPr b="0" lang="en-US" sz="18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pueden acompañar los documentos que digan relación con la causa, cuando la naturaleza y oportunidad de las peticiones así lo requiera. </a:t>
            </a:r>
            <a:endParaRPr b="0" lang="en-US" sz="1800" spc="-1" strike="noStrike">
              <a:solidFill>
                <a:srgbClr val="000000"/>
              </a:solidFill>
              <a:latin typeface="Arial"/>
            </a:endParaRPr>
          </a:p>
          <a:p>
            <a:pPr lvl="1" marL="45720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or ejemplo: si demandamos un divorcio con compensación económica, entonces  hay acompañar el certificado de matrimonio y certificado de nacimiento de los hijos nacidos dentro del matrimonio</a:t>
            </a:r>
            <a:endParaRPr b="0" lang="en-US" sz="17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as causas de mediación previa obligatoria se deberá acompañar un certificado que acredite su realización y su frus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620280"/>
            <a:ext cx="837396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admisibilidad y etapa de recepción (arts. 54-1 y 54-2)</a:t>
            </a:r>
            <a:endParaRPr b="0" lang="en-US" sz="2400" spc="-1" strike="noStrike">
              <a:solidFill>
                <a:srgbClr val="424456"/>
              </a:solidFill>
              <a:latin typeface="Trebuchet MS"/>
            </a:endParaRPr>
          </a:p>
        </p:txBody>
      </p:sp>
      <p:sp>
        <p:nvSpPr>
          <p:cNvPr id="242" name="PlaceHolder 2"/>
          <p:cNvSpPr>
            <a:spLocks noGrp="1"/>
          </p:cNvSpPr>
          <p:nvPr>
            <p:ph/>
          </p:nvPr>
        </p:nvSpPr>
        <p:spPr>
          <a:xfrm>
            <a:off x="395280" y="1267920"/>
            <a:ext cx="842472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Control de admisibilidad: Uno o más jueces realizarán un control de admisibilidad de las demandas, denuncias y requerimientos que se presenten al tribunal. Si en dicho control se advirtiese que la demanda presentada no cumple con los requisitos formales (245 CPC+ Acta mediación frustrada), el tribunal ordenará se subsanen sus defectos en el plazo que el mismo fije, bajo sanción de tenerla por  no presentad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Facultades del juez en la etapa de recepción: Una vez admitida la demanda, denuncia o requerimiento a tramitación, el juez procederá de oficio o a petición de parte, a decretar las medidas cautelares que procedan, incluyendo la fijación de alimentos provisorios cuando corresponda. Luego de ello, citará a las partes a la audiencia correspondient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El tribunal conocerá también en esta etapa de los avenimientos y transacciones celebrados directamente por las partes y los aprobará en cuanto no sean contrarios a derech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Si en el acta de mediación consta que el proceso de mediación resultó frustrado, dispondrá la continuación del procedimiento judicial, cuando corresponda.</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549000"/>
            <a:ext cx="822960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s Notificaciones (art. 23)</a:t>
            </a:r>
            <a:endParaRPr b="0" lang="en-US" sz="2400" spc="-1" strike="noStrike">
              <a:solidFill>
                <a:srgbClr val="424456"/>
              </a:solidFill>
              <a:latin typeface="Trebuchet MS"/>
            </a:endParaRPr>
          </a:p>
        </p:txBody>
      </p:sp>
      <p:sp>
        <p:nvSpPr>
          <p:cNvPr id="244" name="PlaceHolder 2"/>
          <p:cNvSpPr>
            <a:spLocks noGrp="1"/>
          </p:cNvSpPr>
          <p:nvPr>
            <p:ph/>
          </p:nvPr>
        </p:nvSpPr>
        <p:spPr>
          <a:xfrm>
            <a:off x="395280" y="1197000"/>
            <a:ext cx="8229600" cy="533232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gún el art. 23 de la ley que crea tribunales de familia notificaciones existentes son:</a:t>
            </a:r>
            <a:endParaRPr b="0" lang="en-US" sz="18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tribunal</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receptor civil privad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notificación subsidiaria personal no en persona art. 44 CPC cuando no se pudo a) pero persona se encuentra en el lugar d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policial o de investigaciones </a:t>
            </a:r>
            <a:endParaRPr b="0" lang="en-US" sz="1600" spc="-1" strike="noStrike">
              <a:solidFill>
                <a:srgbClr val="438086"/>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rta certificada         </a:t>
            </a:r>
            <a:r>
              <a:rPr b="0" lang="es-ES" sz="1600" spc="-1" strike="noStrike">
                <a:solidFill>
                  <a:srgbClr val="53548a"/>
                </a:solidFill>
                <a:latin typeface="Georgia"/>
              </a:rPr>
              <a:t>Se entienden practicadas  desde el 3er día contado desde el envío.</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do Diario          </a:t>
            </a:r>
            <a:r>
              <a:rPr b="0" lang="es-ES" sz="1600" spc="-1" strike="noStrike">
                <a:solidFill>
                  <a:srgbClr val="53548a"/>
                </a:solidFill>
                <a:latin typeface="Georgia"/>
              </a:rPr>
              <a:t>Todas las resoluciones que no se exija notif. personal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tros medios idóneos </a:t>
            </a:r>
            <a:r>
              <a:rPr b="0" lang="es-ES_tradnl" sz="1800" spc="-1" strike="noStrike">
                <a:solidFill>
                  <a:srgbClr val="53548a"/>
                </a:solidFill>
                <a:latin typeface="Georgia"/>
              </a:rPr>
              <a:t>que garantice la debida información del notificado </a:t>
            </a:r>
            <a:r>
              <a:rPr b="0" lang="es-ES" sz="1800" spc="-1" strike="noStrike">
                <a:solidFill>
                  <a:srgbClr val="53548a"/>
                </a:solidFill>
                <a:latin typeface="Georgia"/>
              </a:rPr>
              <a:t>en la forma que la parte decida (ej. correo electrónico) o que el tribunal determine en los casos cuando </a:t>
            </a:r>
            <a:r>
              <a:rPr b="0" lang="es-ES_tradnl" sz="1800" spc="-1" strike="noStrike">
                <a:solidFill>
                  <a:srgbClr val="53548a"/>
                </a:solidFill>
                <a:latin typeface="Georgia"/>
              </a:rPr>
              <a:t>parte o  su domicilio sea de sean difíciles de individualizar o determinar.</a:t>
            </a:r>
            <a:endParaRPr b="0" lang="en-US" sz="1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Se entiende como medio idóneo cuando sea apto para producir fe, esto es, que garantice la fiabilidad; garantizar la conservación de las actuaciones; y  </a:t>
            </a:r>
            <a:r>
              <a:rPr b="0" lang="es-CL" sz="1400" spc="-1" strike="noStrike">
                <a:solidFill>
                  <a:srgbClr val="53548a"/>
                </a:solidFill>
                <a:latin typeface="Georgia"/>
              </a:rPr>
              <a:t>permita la reproducción de su contenido</a:t>
            </a:r>
            <a:endParaRPr b="0" lang="en-US" sz="1400" spc="-1" strike="noStrike">
              <a:solidFill>
                <a:srgbClr val="53548a"/>
              </a:solidFill>
              <a:latin typeface="Georgia"/>
            </a:endParaRPr>
          </a:p>
        </p:txBody>
      </p:sp>
      <p:cxnSp>
        <p:nvCxnSpPr>
          <p:cNvPr id="245" name="2 Conector recto de flecha"/>
          <p:cNvCxnSpPr/>
          <p:nvPr/>
        </p:nvCxnSpPr>
        <p:spPr>
          <a:xfrm>
            <a:off x="2960280" y="3715920"/>
            <a:ext cx="289440" cy="1080"/>
          </a:xfrm>
          <a:prstGeom prst="straightConnector1">
            <a:avLst/>
          </a:prstGeom>
          <a:ln w="9360">
            <a:solidFill>
              <a:srgbClr val="53548a"/>
            </a:solidFill>
            <a:miter/>
            <a:tailEnd len="med" type="arrow" w="med"/>
          </a:ln>
        </p:spPr>
      </p:cxnSp>
      <p:cxnSp>
        <p:nvCxnSpPr>
          <p:cNvPr id="246" name="5 Conector recto de flecha"/>
          <p:cNvCxnSpPr/>
          <p:nvPr/>
        </p:nvCxnSpPr>
        <p:spPr>
          <a:xfrm>
            <a:off x="2607840" y="4220640"/>
            <a:ext cx="289440" cy="108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765000"/>
            <a:ext cx="822960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Actitudes que Puede Tomar el Demandado</a:t>
            </a:r>
            <a:endParaRPr b="0" lang="en-US" sz="2400" spc="-1" strike="noStrike">
              <a:solidFill>
                <a:srgbClr val="424456"/>
              </a:solidFill>
              <a:latin typeface="Trebuchet MS"/>
            </a:endParaRPr>
          </a:p>
        </p:txBody>
      </p:sp>
      <p:sp>
        <p:nvSpPr>
          <p:cNvPr id="248" name="PlaceHolder 2"/>
          <p:cNvSpPr>
            <a:spLocks noGrp="1"/>
          </p:cNvSpPr>
          <p:nvPr>
            <p:ph/>
          </p:nvPr>
        </p:nvSpPr>
        <p:spPr>
          <a:xfrm>
            <a:off x="457200" y="1484280"/>
            <a:ext cx="8229600" cy="5089680"/>
          </a:xfrm>
          <a:prstGeom prst="rect">
            <a:avLst/>
          </a:prstGeom>
          <a:noFill/>
          <a:ln w="0">
            <a:noFill/>
          </a:ln>
        </p:spPr>
        <p:txBody>
          <a:bodyPr anchor="t">
            <a:normAutofit fontScale="96000"/>
          </a:bodyPr>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r en rebeldí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r la demand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mandar reconvencionalmente</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ción de la demanda y demanda reconvencional (art. 58): El demandado debe contestar la demanda por escrito, con al menos cinco días de anticipación a la fecha de realización de la audiencia preparatoria. Si desea reconvenir, debe hacerlo de la misma forma, conjuntamente con la contestación de la demanda y cumpliendo con los requisitos de la demanda (los del art. 57). Deducida la reconvención, el tribunal conferirá traslado al actor, quien podrá contestarla por escrito, u oralmente, en la audiencia preparatoria.</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En casos calificados, el juez, por resolución fundada, podrá autorizar al demandado a contestar y reconvenir oralmente, de todo lo cual se levantará acta de inmediato, asegurando que la actuación se cumpla dentro del plazo legal y llegue oportunamente a conocimiento de la otra parte.</a:t>
            </a:r>
            <a:br>
              <a:rPr sz="1800"/>
            </a:br>
            <a:r>
              <a:rPr b="0" lang="es-ES" sz="1800" spc="-1" strike="noStrike">
                <a:solidFill>
                  <a:srgbClr val="53548a"/>
                </a:solidFill>
                <a:latin typeface="Georgia"/>
              </a:rPr>
              <a:t>La reconvención continuará su tramitación conjuntamente con la cuestión principal.</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Citación a Audiencia Preparatoria</a:t>
            </a:r>
            <a:endParaRPr b="0" lang="en-US" sz="2400" spc="-1" strike="noStrike">
              <a:solidFill>
                <a:srgbClr val="424456"/>
              </a:solidFill>
              <a:latin typeface="Trebuchet MS"/>
            </a:endParaRPr>
          </a:p>
        </p:txBody>
      </p:sp>
      <p:sp>
        <p:nvSpPr>
          <p:cNvPr id="250" name="PlaceHolder 2"/>
          <p:cNvSpPr>
            <a:spLocks noGrp="1"/>
          </p:cNvSpPr>
          <p:nvPr>
            <p:ph/>
          </p:nvPr>
        </p:nvSpPr>
        <p:spPr>
          <a:xfrm>
            <a:off x="457200" y="1268280"/>
            <a:ext cx="8229600" cy="5305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59, admitida la demanda, el tribunal citará a las partes a una audiencia preparatoria. En la resolución se hará constar que la audiencia se celebrará con las partes que asistan, afectándole a la que no concurra todas las resoluciones que se dicten en ella, sin necesidad de ulterior notificación.</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artes deben concurrir personalmente a la audiencia preparatoria y a la audiencia de juicio, patrocinadas por abogado habilitado para el ejercicio de la profesión y representadas por persona legalmente habilitada para actuar en juicio, a menos que el juez en caso necesario las exceptúe expresamente (art. 60).</a:t>
            </a: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Materias de  la Audiencia Preparatoria</a:t>
            </a:r>
            <a:endParaRPr b="0" lang="en-US" sz="2400" spc="-1" strike="noStrike">
              <a:solidFill>
                <a:srgbClr val="000000"/>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Oír la relación breve y sintética, que harán las partes ante el juez, del contenido de la demanda, de la contestación y de la reconvención que se haya deducido, y de la contestación a la reconvención, si ha sido hecha por escrito.</a:t>
            </a:r>
            <a:endParaRPr b="0" lang="en-US" sz="1600" spc="-1" strike="noStrike">
              <a:solidFill>
                <a:srgbClr val="438086"/>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testar la demanda reconvencional en su caso.</a:t>
            </a:r>
            <a:br>
              <a:rPr sz="1600"/>
            </a:br>
            <a:r>
              <a:rPr b="0" lang="es-ES" sz="1600" spc="-1" strike="noStrike">
                <a:solidFill>
                  <a:srgbClr val="53548a"/>
                </a:solidFill>
                <a:latin typeface="Georgia"/>
              </a:rPr>
              <a:t>Las excepciones que se hayan opuesto se tramitarán conjuntamente y se fallarán en la sentencia definitiva. No obstante, el juez se pronunciará inmediatamente evacuado el traslado respecto de las de incompetencia, falta de capacidad o de personería, de las que se refieran a la corrección del procedimiento y de prescripción</a:t>
            </a:r>
            <a:endParaRPr b="0" lang="en-US" sz="1600" spc="-1" strike="noStrike">
              <a:solidFill>
                <a:srgbClr val="438086"/>
              </a:solidFill>
              <a:latin typeface="Georgia"/>
            </a:endParaRPr>
          </a:p>
          <a:p>
            <a:pPr lvl="1" marL="81396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466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4360" y="907920"/>
            <a:ext cx="7991280" cy="5400720"/>
          </a:xfrm>
          <a:prstGeom prst="rect">
            <a:avLst/>
          </a:prstGeom>
          <a:noFill/>
          <a:ln w="0">
            <a:noFill/>
          </a:ln>
        </p:spPr>
        <p:txBody>
          <a:bodyPr anchor="t">
            <a:normAutofit/>
          </a:bodyPr>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3.  </a:t>
            </a:r>
            <a:r>
              <a:rPr b="0" lang="es-ES" sz="1600" spc="-1" strike="noStrike">
                <a:solidFill>
                  <a:srgbClr val="53548a"/>
                </a:solidFill>
                <a:latin typeface="Georgia"/>
              </a:rPr>
              <a:t>Decretar las medidas cautelares que procedan, de oficio o a petición de parte, a menos que se hubieren decretado con anterioridad, evento en el cual el tribunal resolverá si las mantiene.</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4.  </a:t>
            </a:r>
            <a:r>
              <a:rPr b="0" lang="es-ES" sz="1600" spc="-1" strike="noStrike">
                <a:solidFill>
                  <a:srgbClr val="53548a"/>
                </a:solidFill>
                <a:latin typeface="Georgia"/>
              </a:rPr>
              <a:t>Promover, a iniciativa del tribunal o a petición de parte, la sujeción del conflicto a la mediación familiar, suspendiéndose el procedimiento judicial en caso de que se dé lugar a ésta.</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5. </a:t>
            </a:r>
            <a:r>
              <a:rPr b="0" lang="es-ES" sz="1600" spc="-1" strike="noStrike">
                <a:solidFill>
                  <a:srgbClr val="53548a"/>
                </a:solidFill>
                <a:latin typeface="Georgia"/>
              </a:rPr>
              <a:t>Promover, por parte del tribunal, la conciliación total o parcial, conforme a las bases que éste proponga a las parte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6. </a:t>
            </a:r>
            <a:r>
              <a:rPr b="0" lang="es-ES" sz="1600" spc="-1" strike="noStrike">
                <a:solidFill>
                  <a:srgbClr val="53548a"/>
                </a:solidFill>
                <a:latin typeface="Georgia"/>
              </a:rPr>
              <a:t>Determinar el objeto del juici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7. </a:t>
            </a:r>
            <a:r>
              <a:rPr b="0" lang="es-ES" sz="1600" spc="-1" strike="noStrike">
                <a:solidFill>
                  <a:srgbClr val="53548a"/>
                </a:solidFill>
                <a:latin typeface="Georgia"/>
              </a:rPr>
              <a:t>Fijar los hechos que deben ser probados, así como las convenciones probatorias que las partes hayan acordad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8. </a:t>
            </a:r>
            <a:r>
              <a:rPr b="0" lang="es-ES" sz="1600" spc="-1" strike="noStrike">
                <a:solidFill>
                  <a:srgbClr val="53548a"/>
                </a:solidFill>
                <a:latin typeface="Georgia"/>
              </a:rPr>
              <a:t>Determinar las pruebas que deberán rendirse al tenor de la propuesta de las partes y disponer la práctica de las otras que estime necesaria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9. </a:t>
            </a:r>
            <a:r>
              <a:rPr b="0" lang="es-ES" sz="1600" spc="-1" strike="noStrike">
                <a:solidFill>
                  <a:srgbClr val="53548a"/>
                </a:solidFill>
                <a:latin typeface="Georgia"/>
              </a:rPr>
              <a:t>Excepcionalmente, y por motivos justificados, recibir la prueba que deba rendirse en ese moment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10. </a:t>
            </a:r>
            <a:r>
              <a:rPr b="0" lang="es-ES" sz="1600" spc="-1" strike="noStrike">
                <a:solidFill>
                  <a:srgbClr val="53548a"/>
                </a:solidFill>
                <a:latin typeface="Georgia"/>
              </a:rPr>
              <a:t>Fijar la fecha de la audiencia de juicio, la que deberá llevarse a efecto en un plazo no superior a treinta días de realizada la preparatoria. Sin perjuicio de ello, el juez podrá, previo acuerdo de las partes, desarrollar la audiencia de juicio inmediatamente de finalizada la preparator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620280"/>
            <a:ext cx="8229600" cy="5953320"/>
          </a:xfrm>
          <a:prstGeom prst="rect">
            <a:avLst/>
          </a:prstGeom>
          <a:noFill/>
          <a:ln w="0">
            <a:noFill/>
          </a:ln>
        </p:spPr>
        <p:txBody>
          <a:bodyPr anchor="t">
            <a:normAutofit/>
          </a:bodyPr>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sposiciones generales acerca de la prueba que se ofrece:</a:t>
            </a:r>
            <a:endParaRPr b="0" lang="en-US" sz="2000" spc="-1" strike="noStrike">
              <a:solidFill>
                <a:srgbClr val="000000"/>
              </a:solidFill>
              <a:latin typeface="Georgia"/>
            </a:endParaRPr>
          </a:p>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ibertad de prueba         </a:t>
            </a:r>
            <a:r>
              <a:rPr b="0" lang="es-ES" sz="1600" spc="-1" strike="noStrike">
                <a:solidFill>
                  <a:srgbClr val="000000"/>
                </a:solidFill>
                <a:latin typeface="Georgia"/>
              </a:rPr>
              <a:t>todo hecho pertinente puede ser objeto de prueba</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mplitud de prueba        </a:t>
            </a:r>
            <a:r>
              <a:rPr b="0" lang="es-ES" sz="1600" spc="-1" strike="noStrike">
                <a:solidFill>
                  <a:srgbClr val="000000"/>
                </a:solidFill>
                <a:latin typeface="Georgia"/>
              </a:rPr>
              <a:t>las partes podrán rendir toda prueba que dispongan, y las que tengan 3os e instituciones solicitarla  a través del  tribunal</a:t>
            </a:r>
            <a:endParaRPr b="0" lang="en-US" sz="1600" spc="-1" strike="noStrike">
              <a:solidFill>
                <a:srgbClr val="000000"/>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 debe solicitar a tribunal que oficie a éstos terceros y/o  instituciones pública o privadas ordenándoles generar y enviar pruebas</a:t>
            </a:r>
            <a:endParaRPr b="0" lang="en-US" sz="1600" spc="-1" strike="noStrike">
              <a:solidFill>
                <a:srgbClr val="53548a"/>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 la copia del acta de la audiencia preparatoria la parte solicitante puede tramitar “por mano” los oficios: ir con ella directamente donde el 3° y presentar solicitud (más rápido)</a:t>
            </a:r>
            <a:endParaRPr b="0" lang="en-US" sz="1600" spc="-1" strike="noStrike">
              <a:solidFill>
                <a:srgbClr val="53548a"/>
              </a:solidFill>
              <a:latin typeface="Georgia"/>
            </a:endParaRPr>
          </a:p>
          <a:p>
            <a:pPr lvl="2" marL="1166760" indent="-60948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548a"/>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Facultad de oficio del juez         </a:t>
            </a:r>
            <a:r>
              <a:rPr b="0" lang="es-ES" sz="1600" spc="-1" strike="noStrike">
                <a:solidFill>
                  <a:srgbClr val="000000"/>
                </a:solidFill>
                <a:latin typeface="Georgia"/>
              </a:rPr>
              <a:t> de solicitar pruebas</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venciones probatorias     </a:t>
            </a:r>
            <a:r>
              <a:rPr b="0" lang="es-ES" sz="1600" spc="-1" strike="noStrike">
                <a:solidFill>
                  <a:srgbClr val="000000"/>
                </a:solidFill>
                <a:latin typeface="Georgia"/>
              </a:rPr>
              <a:t>las partes pueden acordar que se tengan ciertos hechos como probados: juez debe aprobar convención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amen de admisibilidad de la prueba        </a:t>
            </a:r>
            <a:r>
              <a:rPr b="0" lang="es-ES" sz="1600" spc="-1" strike="noStrike">
                <a:solidFill>
                  <a:srgbClr val="000000"/>
                </a:solidFill>
                <a:latin typeface="Georgia"/>
              </a:rPr>
              <a:t>juez excluirá prueba ofrecida que sea impertinente, innecesaria, sobreabundante o generada con infracción DDFF.</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cxnSp>
        <p:nvCxnSpPr>
          <p:cNvPr id="253" name="4 Conector recto de flecha"/>
          <p:cNvCxnSpPr/>
          <p:nvPr/>
        </p:nvCxnSpPr>
        <p:spPr>
          <a:xfrm>
            <a:off x="3419280" y="1483920"/>
            <a:ext cx="361080" cy="2520"/>
          </a:xfrm>
          <a:prstGeom prst="straightConnector1">
            <a:avLst/>
          </a:prstGeom>
          <a:ln w="9360">
            <a:solidFill>
              <a:srgbClr val="53548a"/>
            </a:solidFill>
            <a:miter/>
            <a:tailEnd len="med" type="arrow" w="med"/>
          </a:ln>
        </p:spPr>
      </p:cxnSp>
      <p:cxnSp>
        <p:nvCxnSpPr>
          <p:cNvPr id="254" name="5 Conector recto de flecha"/>
          <p:cNvCxnSpPr/>
          <p:nvPr/>
        </p:nvCxnSpPr>
        <p:spPr>
          <a:xfrm>
            <a:off x="3634920" y="1844280"/>
            <a:ext cx="361080" cy="2520"/>
          </a:xfrm>
          <a:prstGeom prst="straightConnector1">
            <a:avLst/>
          </a:prstGeom>
          <a:ln w="9360">
            <a:solidFill>
              <a:srgbClr val="53548a"/>
            </a:solidFill>
            <a:miter/>
            <a:tailEnd len="med" type="arrow" w="med"/>
          </a:ln>
        </p:spPr>
      </p:cxnSp>
      <p:cxnSp>
        <p:nvCxnSpPr>
          <p:cNvPr id="255" name="6 Conector recto de flecha"/>
          <p:cNvCxnSpPr/>
          <p:nvPr/>
        </p:nvCxnSpPr>
        <p:spPr>
          <a:xfrm>
            <a:off x="4140000" y="4005360"/>
            <a:ext cx="361080" cy="2160"/>
          </a:xfrm>
          <a:prstGeom prst="straightConnector1">
            <a:avLst/>
          </a:prstGeom>
          <a:ln w="9360">
            <a:solidFill>
              <a:srgbClr val="53548a"/>
            </a:solidFill>
            <a:miter/>
            <a:tailEnd len="med" type="arrow" w="med"/>
          </a:ln>
        </p:spPr>
      </p:cxnSp>
      <p:cxnSp>
        <p:nvCxnSpPr>
          <p:cNvPr id="256" name="7 Conector recto de flecha"/>
          <p:cNvCxnSpPr/>
          <p:nvPr/>
        </p:nvCxnSpPr>
        <p:spPr>
          <a:xfrm>
            <a:off x="4211280" y="4365720"/>
            <a:ext cx="361080" cy="2160"/>
          </a:xfrm>
          <a:prstGeom prst="straightConnector1">
            <a:avLst/>
          </a:prstGeom>
          <a:ln w="9360">
            <a:solidFill>
              <a:srgbClr val="53548a"/>
            </a:solidFill>
            <a:miter/>
            <a:tailEnd len="med" type="arrow" w="med"/>
          </a:ln>
        </p:spPr>
      </p:cxnSp>
      <p:cxnSp>
        <p:nvCxnSpPr>
          <p:cNvPr id="257" name="8 Conector recto de flecha"/>
          <p:cNvCxnSpPr/>
          <p:nvPr/>
        </p:nvCxnSpPr>
        <p:spPr>
          <a:xfrm>
            <a:off x="5579640" y="4941360"/>
            <a:ext cx="361080" cy="252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94920" y="333360"/>
            <a:ext cx="8209080" cy="6191280"/>
          </a:xfrm>
          <a:prstGeom prst="rect">
            <a:avLst/>
          </a:prstGeom>
          <a:noFill/>
          <a:ln w="0">
            <a:noFill/>
          </a:ln>
        </p:spPr>
        <p:txBody>
          <a:bodyPr anchor="t">
            <a:normAutofit fontScale="98000"/>
          </a:bodyPr>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 la Nulidad Procesal (art. 25)</a:t>
            </a: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y nulidad cada vez que se realicen audiencias o diligencias de prueba sin la presencia del juez, quedando prohibida, bajo sanción de nulidad, la delegación de funciones (art. 12)(protección ppio. inmediación)</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 hay  nulidad sin perjuicio (ppio. trascendencia)</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oda nulidad queda subsanada si la parte perjudicada no reclama el vicio oportunamente, pues se entiende que acepta tácitamente los efectos del acto.</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Tribunal no puede declarar de oficio nulidades convalidada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De los Incidentes (art. 26)</a:t>
            </a:r>
            <a:endParaRPr b="0" lang="en-US" sz="23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cidentes que se promueven en el transcurso de la audiencia se resuelven inmediatamente por el juez, previo  debate, excepto que sea necesaria para su resolución alguna prueba que no hubiese sido posible prever.</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y por motivos fundados, se podrán interponer incidentes fuera de audiencia, los que deberán ser presentados por escrito y resueltos por el juez de plano, a menos que considere necesario oír a los demás interesado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Citación a la Audiencia de Juicio (art. 62)</a:t>
            </a:r>
            <a:endParaRPr b="0" lang="en-US" sz="2400" spc="-1" strike="noStrike">
              <a:solidFill>
                <a:srgbClr val="424456"/>
              </a:solidFill>
              <a:latin typeface="Trebuchet MS"/>
            </a:endParaRPr>
          </a:p>
        </p:txBody>
      </p:sp>
      <p:sp>
        <p:nvSpPr>
          <p:cNvPr id="260" name="PlaceHolder 2"/>
          <p:cNvSpPr>
            <a:spLocks noGrp="1"/>
          </p:cNvSpPr>
          <p:nvPr>
            <p:ph/>
          </p:nvPr>
        </p:nvSpPr>
        <p:spPr>
          <a:xfrm>
            <a:off x="468360" y="2205000"/>
            <a:ext cx="8229600" cy="43243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Al término de la audiencia preparatoria, no habiéndose producido una solución alternativa al conflicto, el juez dictará una resolución, que contendrá las siguientes menciones:</a:t>
            </a:r>
            <a:endParaRPr b="0" lang="en-US" sz="1800" spc="-1" strike="noStrike">
              <a:solidFill>
                <a:srgbClr val="000000"/>
              </a:solidFill>
              <a:latin typeface="Georgi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o las demandas que deban ser conocidas en el juicio, así como las contestaciones que hubieren sido presentadas, fijando el objeto d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hechos que se dieren por acreditados.</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uebas que deberán rendirse en 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de quienes deberán ser citados a la audiencia respectiv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54900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Ley 19.968 Crea los Tribunales de Familia y establece procedimientos en la materia</a:t>
            </a:r>
            <a:endParaRPr b="0" lang="en-US" sz="2400" spc="-1" strike="noStrike">
              <a:solidFill>
                <a:srgbClr val="424456"/>
              </a:solidFill>
              <a:latin typeface="Trebuchet MS"/>
            </a:endParaRPr>
          </a:p>
        </p:txBody>
      </p:sp>
      <p:sp>
        <p:nvSpPr>
          <p:cNvPr id="225" name="PlaceHolder 2"/>
          <p:cNvSpPr>
            <a:spLocks noGrp="1"/>
          </p:cNvSpPr>
          <p:nvPr>
            <p:ph/>
          </p:nvPr>
        </p:nvSpPr>
        <p:spPr>
          <a:xfrm>
            <a:off x="250560" y="1268280"/>
            <a:ext cx="8280360" cy="550080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Ley 19.968 crea los tribunales de familia; colegiados en su  conformación y de  funcionamiento unipersonal.</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 esta ley además se crea el Consejo Técnico (arts. 5-7)        asesoramiento interdisciplinario decisiones.</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forma supletoria rige el Libro I CPC en todo aquello que no sea contrario a la oralidad.</a:t>
            </a:r>
            <a:endParaRPr b="0" lang="en-US" sz="1800" spc="-1" strike="noStrike">
              <a:solidFill>
                <a:srgbClr val="000000"/>
              </a:solidFill>
              <a:latin typeface="Georgia"/>
            </a:endParaRPr>
          </a:p>
          <a:p>
            <a:pPr marL="3502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ompetencia: </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os Tribunales de Familia poseen competencia para conocer (art. 8):</a:t>
            </a:r>
            <a:endParaRPr b="0" lang="en-US" sz="1800" spc="-1" strike="noStrike">
              <a:solidFill>
                <a:srgbClr val="000000"/>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uidado Personal.</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lación Directa y Regular (ex régimen de visita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liment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isensos Matrimoniales (casos 3° no autoriza celebración: juez resuelve)</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odo asunto donde niños y adolescentes vean vulnerados sus derech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filia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dop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paración judicial de biene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separación, nulidad y divorcio.</a:t>
            </a:r>
            <a:endParaRPr b="0" lang="en-US" sz="1800" spc="-1" strike="noStrike">
              <a:solidFill>
                <a:srgbClr val="438086"/>
              </a:solidFill>
              <a:latin typeface="Georgia"/>
            </a:endParaRPr>
          </a:p>
          <a:p>
            <a:pPr lvl="1" marL="6307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307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cxnSp>
        <p:nvCxnSpPr>
          <p:cNvPr id="226" name="4 Conector recto de flecha"/>
          <p:cNvCxnSpPr/>
          <p:nvPr/>
        </p:nvCxnSpPr>
        <p:spPr>
          <a:xfrm>
            <a:off x="6516360" y="2060640"/>
            <a:ext cx="36108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04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Audiencia de Juicio (art. 63)</a:t>
            </a:r>
            <a:endParaRPr b="0" lang="en-US" sz="2400" spc="-1" strike="noStrike">
              <a:solidFill>
                <a:srgbClr val="424456"/>
              </a:solidFill>
              <a:latin typeface="Trebuchet MS"/>
            </a:endParaRPr>
          </a:p>
        </p:txBody>
      </p:sp>
      <p:sp>
        <p:nvSpPr>
          <p:cNvPr id="262" name="PlaceHolder 2"/>
          <p:cNvSpPr>
            <a:spLocks noGrp="1"/>
          </p:cNvSpPr>
          <p:nvPr>
            <p:ph/>
          </p:nvPr>
        </p:nvSpPr>
        <p:spPr>
          <a:xfrm>
            <a:off x="468360" y="907920"/>
            <a:ext cx="8229600" cy="569304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La audiencia de juicio se llevará a efecto en un solo acto, pudiendo prolongarse en sesiones sucesivas si fuere necesario, y tendrá por objetivo recibir la prueba admitida por el tribunal y la decretada por éste.</a:t>
            </a:r>
            <a:r>
              <a:rPr b="0" lang="es-CL" sz="1800" spc="-1" strike="noStrike">
                <a:solidFill>
                  <a:srgbClr val="53548a"/>
                </a:solidFill>
                <a:latin typeface="Georgia"/>
              </a:rPr>
              <a:t>	</a:t>
            </a:r>
            <a:endParaRPr b="0" lang="en-US" sz="1800" spc="-1" strike="noStrike">
              <a:solidFill>
                <a:srgbClr val="000000"/>
              </a:solidFill>
              <a:latin typeface="Georgia"/>
            </a:endParaRPr>
          </a:p>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el juez procederá a:</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Verificar la presencia de las personas que hubieren sido citadas a la audiencia y declarar iniciado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ñalar el objetivo de la audiencia, advirtiendo a las partes que deben estar atentas a todo lo que se expondrá en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isponer que los testigos y peritos que hubieren comparecido hagan abandono de la sala de audiencia.</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doptar las medidas necesarias para garantizar su adecuado desarrollo, pudiendo disponer la presencia en ellas de uno o más miembros del consejo técnico.</a:t>
            </a:r>
            <a:r>
              <a:rPr b="0" lang="es-CL" sz="1600" spc="-1" strike="noStrike">
                <a:solidFill>
                  <a:srgbClr val="53548a"/>
                </a:solidFill>
                <a:latin typeface="Georgia"/>
              </a:rPr>
              <a:t> </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Podrá asimismo ordenar, en interés superior del niño, niña o adolescente, que éste u otro miembro del grupo familiar se ausente durante determinadas actuaciones. </a:t>
            </a:r>
            <a:endParaRPr b="0" lang="en-US" sz="1600" spc="-1" strike="noStrike">
              <a:solidFill>
                <a:srgbClr val="438086"/>
              </a:solidFill>
              <a:latin typeface="Georgia"/>
            </a:endParaRPr>
          </a:p>
          <a:p>
            <a:pPr lvl="4" marL="102384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83bcc1"/>
                </a:solidFill>
                <a:latin typeface="Georgia"/>
              </a:rPr>
              <a:t>En la practica se suele tomar la declaración del menor en una audiencia reservada, con la sola presencia  además del juez y el consejero técnico.</a:t>
            </a:r>
            <a:endParaRPr b="0" lang="en-US" sz="1400" spc="-1" strike="noStrike">
              <a:solidFill>
                <a:srgbClr val="a04da3"/>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    </a:t>
            </a:r>
            <a:r>
              <a:rPr b="0" lang="es-ES" sz="1600" spc="-1" strike="noStrike">
                <a:solidFill>
                  <a:srgbClr val="53548a"/>
                </a:solidFill>
                <a:latin typeface="Georgia"/>
              </a:rPr>
              <a:t>Dictar sentencia </a:t>
            </a: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3640" y="549360"/>
            <a:ext cx="8218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Prueba (arts. 28 y ss.)</a:t>
            </a:r>
            <a:endParaRPr b="0" lang="en-US" sz="2400" spc="-1" strike="noStrike">
              <a:solidFill>
                <a:srgbClr val="424456"/>
              </a:solidFill>
              <a:latin typeface="Trebuchet MS"/>
            </a:endParaRPr>
          </a:p>
        </p:txBody>
      </p:sp>
      <p:sp>
        <p:nvSpPr>
          <p:cNvPr id="264" name="PlaceHolder 2"/>
          <p:cNvSpPr>
            <a:spLocks noGrp="1"/>
          </p:cNvSpPr>
          <p:nvPr>
            <p:ph/>
          </p:nvPr>
        </p:nvSpPr>
        <p:spPr>
          <a:xfrm>
            <a:off x="250560" y="1125360"/>
            <a:ext cx="8497800" cy="5399280"/>
          </a:xfrm>
          <a:prstGeom prst="rect">
            <a:avLst/>
          </a:prstGeom>
          <a:noFill/>
          <a:ln w="0">
            <a:noFill/>
          </a:ln>
        </p:spPr>
        <p:txBody>
          <a:bodyPr anchor="t">
            <a:normAutofit fontScale="96000"/>
          </a:bodyPr>
          <a:p>
            <a:pPr marL="5850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Testimonial</a:t>
            </a:r>
            <a:endParaRPr b="0" lang="en-US" sz="22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el procedimiento de familia </a:t>
            </a:r>
            <a:r>
              <a:rPr b="0" lang="es-ES" sz="1600" spc="-1" strike="noStrike" u="sng">
                <a:solidFill>
                  <a:srgbClr val="000000"/>
                </a:solidFill>
                <a:uFillTx/>
                <a:latin typeface="Georgia"/>
              </a:rPr>
              <a:t>no hay  </a:t>
            </a:r>
            <a:r>
              <a:rPr b="0" lang="es-ES" sz="1600" spc="-1" strike="noStrike">
                <a:solidFill>
                  <a:srgbClr val="000000"/>
                </a:solidFill>
                <a:latin typeface="Georgia"/>
              </a:rPr>
              <a:t>testigos inhábiles.</a:t>
            </a:r>
            <a:endParaRPr b="0" lang="en-US" sz="16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testigos tienen un deber de comparecer y de declarar.</a:t>
            </a:r>
            <a:endParaRPr b="0" lang="en-US" sz="1600" spc="-1" strike="noStrike">
              <a:solidFill>
                <a:srgbClr val="000000"/>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o comparecer sin justa causa se procederá a apercibirlo con arresto e imponerle el pago de las costas provocadas por su inasistencia. </a:t>
            </a:r>
            <a:endParaRPr b="0" lang="en-US" sz="1600" spc="-1" strike="noStrike">
              <a:solidFill>
                <a:srgbClr val="438086"/>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egarse a declarar, sin justa causa, será sancionado el testigo conforme al inciso 2ª del art. 240 CPC.</a:t>
            </a:r>
            <a:endParaRPr b="0" lang="en-US" sz="1600" spc="-1" strike="noStrike">
              <a:solidFill>
                <a:srgbClr val="438086"/>
              </a:solidFill>
              <a:latin typeface="Georgia"/>
            </a:endParaRPr>
          </a:p>
          <a:p>
            <a:pPr marL="585000" indent="-585000" algn="just">
              <a:spcBef>
                <a:spcPts val="1063"/>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Rige el principio de la no autoincriminación. Todo testigo tendrá el derecho de negarse a responder aquellas preguntas cuya respuesta pudiere acarrearle peligro de persecución penal por un delito. Asimismo, el testigo podrá ejercer el mismo derecho cuando, por su declaración, pudiere incriminar a su cónyuge, a su conviviente, a sus ascendientes o descendientes, a sus parientes colaterales hasta el segundo grado de consanguinidad o afinidad, a su pupilo o a su guardador, a su adoptante o su adoptado.</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odo testigo, antes de comenzar su declaración, prestará juramento o promesa de decir verdad .</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estigos niños, niñas o adolescentes:  el testigo niño, niña o adolescente sólo será interrogado por el juez, debiendo las partes dirigir las preguntas por su intermedio</a:t>
            </a: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324000" y="692280"/>
            <a:ext cx="8496000" cy="56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el juez poder autorizar el interrogatorio directo del niño, niña o adolescente, cuando por su grado de madurez se estime que ello que ello no afectará su person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estigos sordos, mudos o sordomudos: si el testigo fuere sordo, las preguntas le serán dirigidas por escrito; y si fuere mudo, dará por escrito contestaciones. Si el testigo sordo o mudo no puede darse a entender por escrito o fuere sordomudo, su declaración será recibida por intermedio de una o más personas que pudieren entenderse con él. Estas personas prestarán previamente el juramento o promesa prescritos para los testigos.</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el testigo no supiere el idioma castellano, será examinado por medio de un interprete mayor de 18 años, quien prestará juramento o promes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Pericial</a:t>
            </a:r>
            <a:endParaRPr b="0" lang="en-US" sz="22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 prueba de peritos procede en casos determinados por ley o cuando es necesaria la experiencia de las ciencias, artes u oficio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eden ser solicitadas a petición de parte o de oficio. </a:t>
            </a:r>
            <a:endParaRPr b="0" lang="en-US" sz="18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s partes podrán recabar informes elaborados por peritos de su confianza y solicitar que éstos sean citados a declarar a la audiencia de juicio, acompañando los antecedentes que acreditaren la idoneidad profesional del peri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765000"/>
            <a:ext cx="8229600" cy="580896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 oficio o a petición de parte, podrá solicitar la elaboración de un informe de peritos a algún órgano público u organismo acreditado ante el Servicio Nacional de Menores que reciba aportes del Estado.</a:t>
            </a:r>
            <a:endParaRPr b="0" lang="en-US" sz="1800" spc="-1" strike="noStrike">
              <a:solidFill>
                <a:srgbClr val="000000"/>
              </a:solidFill>
              <a:latin typeface="Georgia"/>
            </a:endParaRPr>
          </a:p>
          <a:p>
            <a:pPr lvl="1" marL="644040" indent="-24120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 frecuente utilización en causas de relación directa y regular y violencia intrafamiliar</a:t>
            </a:r>
            <a:endParaRPr b="0" lang="en-US" sz="1600" spc="-1" strike="noStrike">
              <a:solidFill>
                <a:srgbClr val="438086"/>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Declaración de las partes</a:t>
            </a:r>
            <a:endParaRPr b="0" lang="en-US" sz="22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da parte podrá solicitar del juez la declaración de la contraparte sobre hechos y circunstancias de los que tengan noticia y que guarden relación con el objeto del juicio.</a:t>
            </a:r>
            <a:endParaRPr b="0" lang="en-US" sz="1800" spc="-1" strike="noStrike">
              <a:solidFill>
                <a:srgbClr val="000000"/>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eguntas de la declaración deben formularse de forma afirmativa o interrogativa, pero con la debida precisión y claridad, sin incorporar valoraciones ni calificaciones, de manera que puedan ser entendidas sin dificultad. El juez resolverá las objeciones que se formulen, previo debate, referidas a la debida claridad y precisión de las preguntas y a la pertinencia de los hechos por los cuales la parte haya sido requerida para declarar.</a:t>
            </a:r>
            <a:endParaRPr b="0" lang="en-US" sz="1800" spc="-1" strike="noStrike">
              <a:solidFill>
                <a:srgbClr val="000000"/>
              </a:solidFill>
              <a:latin typeface="Georgia"/>
            </a:endParaRPr>
          </a:p>
          <a:p>
            <a:pPr marL="357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50920" y="691920"/>
            <a:ext cx="8642160" cy="5832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parte, debidamente citada, no comparece a la audiencia de juicio, o compareciendo se negase a declarar o diese respuestas evasivas, el juez podrá considerar reconocidos como ciertos los hechos contenidos en las afirmaciones de la parte que solicitó la declaración.</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terminada la declaración de las partes, el tribunal podrá dirigir todas aquellas preguntas destinadas a obtener declaraciones o adiciones a sus dichos. Asimismo, cuando no sea obligatoria la intervención de abogados las partes, con la autorización del juez, podrán efectuarse recíprocamente preguntas y observaciones que sean pertinente para la determinación de los hechos relevantes del proceso. El juez podrá rechazar, de oficio, las preguntas que considere impertinentes o inútiles.</a:t>
            </a: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Otros Medios de prueba (art. 54)</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n admitirse como pruebas: películas cinematográficas, fotografías, video grabaciones y otros sistemas de reproducción de la imagen o del sonido, y en general cualquier medio apto para producir f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terminará la forma de su incorporación al procedimiento, adecuándola, en lo posible, al medio de prueba más análogo.</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765000"/>
            <a:ext cx="8207640" cy="432000"/>
          </a:xfrm>
          <a:prstGeom prst="rect">
            <a:avLst/>
          </a:prstGeom>
          <a:noFill/>
          <a:ln w="0">
            <a:noFill/>
          </a:ln>
        </p:spPr>
        <p:txBody>
          <a:bodyPr anchor="ctr">
            <a:no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ueba No Solicitada Oportunamente (art. 63 bis)</a:t>
            </a:r>
            <a:endParaRPr b="0" lang="en-US" sz="2200" spc="-1" strike="noStrike">
              <a:solidFill>
                <a:srgbClr val="424456"/>
              </a:solidFill>
              <a:latin typeface="Trebuchet MS"/>
            </a:endParaRPr>
          </a:p>
        </p:txBody>
      </p:sp>
      <p:sp>
        <p:nvSpPr>
          <p:cNvPr id="269" name="PlaceHolder 2"/>
          <p:cNvSpPr>
            <a:spLocks noGrp="1"/>
          </p:cNvSpPr>
          <p:nvPr>
            <p:ph/>
          </p:nvPr>
        </p:nvSpPr>
        <p:spPr>
          <a:xfrm>
            <a:off x="179280" y="1267920"/>
            <a:ext cx="8569440" cy="5185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A petición de alguna de las partes, el juez podrá ordenar la recepción de pruebas que ellas no hayan ofrecido oportunamente, cuando justifiquen no haber sabido de su existencia sino hasta ese momento y siempre que el juez considere que resultan esenciales para la resolución del asunto.</a:t>
            </a:r>
            <a:endParaRPr b="0" lang="en-US" sz="18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oducción de la Prueba (art. 64)</a:t>
            </a:r>
            <a:endParaRPr b="0" lang="en-US" sz="22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rueba se rinde de acuerdo al orden que fijen las partes, comenzando por la del demandante. Al final se rinde la prueba ordenada por el juez.</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los testigos y peritos serán identificados por el juez, quien les tomará el juramento o promesa de decir verdad. A continuación, serán interrogados por las partes, comenzando por la que los presenta. Los peritos deberán exponer brevemente el contenido y las conclusiones de su informe y luego se autorizará su interrogatorio.</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efectuar preguntas al testigo o perito, así como a las partes que declaren, una vez que fueren interrogadas por los litigantes, con la finalidad de pedir aclaraciones o adiciones a sus testimonios.</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documentos, así como el informe de peritos en su caso, serán exhibidos y leídos en el debate, con indicación de su orige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79280" y="620280"/>
            <a:ext cx="8640720" cy="5373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grabaciones, los elementos de prueba audiovisuales, computacionales o cualquier otro de carácter electrónico apto para producir fe, se reproducirán en la audiencia por cualquier medio idóneo para su percepción por los asistentes. El juez podrá autorizar, con acuerdo de las partes, la lectura o reproducción parcial o resumida de los medios de prueba mencionados, cuando ello pareciere conveniente y se asegurare el conocimiento de su contenid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acticada la prueba, el juez podrá solicitar a un miembro consejo técnico que emita su opinión respecto de la prueba rendida, en el ámbito de su especialidad (en la mayoría de los casos, lo que dice el consejero técnico es lo que termina por resolver el ju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Finalmente, las partes formularán, oralmente y en forma breve, las observaciones que les merezca la prueba y la opinión del miembro del consejo técnico, así como sus conclusiones de un modo preciso y concreto, con derecho a replicar respecto de las conclusiones argumentadas por las demás.</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ación de la prueba           conforme reglas de la sana crítica</a:t>
            </a:r>
            <a:endParaRPr b="0" lang="en-US" sz="2000" spc="-1" strike="noStrike">
              <a:solidFill>
                <a:srgbClr val="000000"/>
              </a:solidFill>
              <a:latin typeface="Georgia"/>
            </a:endParaRPr>
          </a:p>
        </p:txBody>
      </p:sp>
      <p:cxnSp>
        <p:nvCxnSpPr>
          <p:cNvPr id="271" name="3 Conector recto de flecha"/>
          <p:cNvCxnSpPr/>
          <p:nvPr/>
        </p:nvCxnSpPr>
        <p:spPr>
          <a:xfrm>
            <a:off x="3348000" y="5013360"/>
            <a:ext cx="50400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8360" y="476280"/>
            <a:ext cx="8229600" cy="619272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obre la Sentencia (art. 65)</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concluido el debate, el juez comunicará de inmediato su resolu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cuando la audiencia de juicio se hubiere prolongado, por más de dos días, podrá postergar la decisión del caso hasta el día siguiente hábi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diferir la redacción del fallo hasta por un plazo de cinco días, ampliables por otros cinco por razones fundadas, fijando la fecha en que tendrá lugar la lectura de la sentenci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entencia definitiva deberá contener:</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lugar y fecha en que se dict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completa de las partes litigan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síntesis de los hechos y de las alegaciones de las par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análisis de la prueba rendida, los hechos que estime probados y el razonamiento que conduce a esa conclusión.</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azones legales y doctrinarias que sirvieren para fundar el fall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resolución de las cuestiones sometidas a la decisión del juzgad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pronunciamiento sobre pago de costas y, en su caso, los motivos que tuviere el juzgado para absolver de su pago a la parte vencid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os Recursos (art. 67)</a:t>
            </a:r>
            <a:endParaRPr b="0" lang="en-US" sz="2400" spc="-1" strike="noStrike">
              <a:solidFill>
                <a:srgbClr val="424456"/>
              </a:solidFill>
              <a:latin typeface="Trebuchet MS"/>
            </a:endParaRPr>
          </a:p>
        </p:txBody>
      </p:sp>
      <p:sp>
        <p:nvSpPr>
          <p:cNvPr id="274" name="PlaceHolder 2"/>
          <p:cNvSpPr>
            <a:spLocks noGrp="1"/>
          </p:cNvSpPr>
          <p:nvPr>
            <p:ph/>
          </p:nvPr>
        </p:nvSpPr>
        <p:spPr>
          <a:xfrm>
            <a:off x="457200" y="1196640"/>
            <a:ext cx="8229600" cy="5256360"/>
          </a:xfrm>
          <a:prstGeom prst="rect">
            <a:avLst/>
          </a:prstGeom>
          <a:noFill/>
          <a:ln w="0">
            <a:noFill/>
          </a:ln>
        </p:spPr>
        <p:txBody>
          <a:bodyPr anchor="t">
            <a:normAutofit/>
          </a:bodyPr>
          <a:p>
            <a:pPr marL="609480" indent="-6094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oluciones serán impugnables a través de los recursos y en las formas que establece el CPC, siempre que ello no resulte incompatible con los principios del procedimiento que establece esta ley, y sin perjuicio de las siguientes modificaciones:</a:t>
            </a:r>
            <a:endParaRPr b="0" lang="en-US" sz="1800" spc="-1" strike="noStrike">
              <a:solidFill>
                <a:srgbClr val="000000"/>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solicitud de reposición deberá presentarse dentro de tercero día de notificada la resolución, a menos que dentro de dicho término tenga lugar una audiencia, en cuyo caso deberá interponerse y resolverse durante la misma. Tratándose de una resolución pronunciada en audiencia, se interpondrá y resolverá en el acto.</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serán apelables la sentencia definitiva de primera instancia, las resoluciones que ponen término al procedimiento o hacen imposible su continuación, y las que se pronuncien sobre medidas cautelares.</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apelación, que deberá entablarse por escrito, se concederá en el solo efecto devolutivo, con excepción de las sentencias definitivas referidas a acciones de filiación, salida del país, adopción , separación, nulidad y divorcio vincular.</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El tribunal de alzada conocerá y fallará la apelación sin esperar la comparecencia de las partes,  las que se entenderán citadas por el ministerio de la ley a la audiencia en que se haga vista del recurso. </a:t>
            </a:r>
            <a:endParaRPr b="0" lang="en-US" sz="1700" spc="-1" strike="noStrike">
              <a:solidFill>
                <a:srgbClr val="438086"/>
              </a:solidFill>
              <a:latin typeface="Georgia"/>
            </a:endParaRPr>
          </a:p>
          <a:p>
            <a:pPr lvl="1" marL="9018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907920"/>
            <a:ext cx="8497800" cy="5329440"/>
          </a:xfrm>
          <a:prstGeom prst="rect">
            <a:avLst/>
          </a:prstGeom>
          <a:noFill/>
          <a:ln w="0">
            <a:noFill/>
          </a:ln>
        </p:spPr>
        <p:txBody>
          <a:bodyPr anchor="t">
            <a:normAutofit fontScale="95000"/>
          </a:bodyPr>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ocederá el recurso de casación en la forma, con las siguientes  modificaciones:</a:t>
            </a:r>
            <a:endParaRPr b="0" lang="en-US" sz="1800" spc="-1" strike="noStrike">
              <a:solidFill>
                <a:srgbClr val="000000"/>
              </a:solidFill>
              <a:latin typeface="Georgia"/>
            </a:endParaRPr>
          </a:p>
          <a:p>
            <a:pPr marL="578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rocederá sólo en contra de las sentencias definitivas de primera instancia y de las interlocutorias de primera instancia que pongan término al juicio o hagan imposible su continuación.</a:t>
            </a:r>
            <a:endParaRPr b="0" lang="en-US" sz="1700" spc="-1" strike="noStrike">
              <a:solidFill>
                <a:srgbClr val="438086"/>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podrá fundarse en alguna de las causales de incompetencia, implicancia o recusación pendiente, ultrapetita, cosa juzgada, decisiones contradictorias y dictada </a:t>
            </a:r>
            <a:r>
              <a:rPr b="0" lang="es-CL" sz="1800" spc="-1" strike="noStrike">
                <a:solidFill>
                  <a:srgbClr val="438086"/>
                </a:solidFill>
                <a:latin typeface="Georgia"/>
              </a:rPr>
              <a:t>faltado algún trámite o diligencia declarados esenciales por la ley o a cualquier otro requisito por cuyo defecto las leyes </a:t>
            </a:r>
            <a:br>
              <a:rPr sz="1800"/>
            </a:br>
            <a:r>
              <a:rPr b="0" lang="es-CL" sz="1800" spc="-1" strike="noStrike">
                <a:solidFill>
                  <a:srgbClr val="438086"/>
                </a:solidFill>
                <a:latin typeface="Georgia"/>
              </a:rPr>
              <a:t>prevengan expresamente que hay nulidad</a:t>
            </a:r>
            <a:r>
              <a:rPr b="0" lang="es-ES" sz="1700" spc="-1" strike="noStrike">
                <a:solidFill>
                  <a:srgbClr val="438086"/>
                </a:solidFill>
                <a:latin typeface="Georgia"/>
              </a:rPr>
              <a:t> del art. 768 del CPC, o en haber sido pronunciada la sentencia definitiva con omisión de cualquiera de los requisitos enumerados en el artículo 66 de esta ley (requisitos descritos </a:t>
            </a:r>
            <a:r>
              <a:rPr b="0" i="1" lang="es-ES" sz="1700" spc="-1" strike="noStrike">
                <a:solidFill>
                  <a:srgbClr val="438086"/>
                </a:solidFill>
                <a:latin typeface="Georgia"/>
              </a:rPr>
              <a:t>supra</a:t>
            </a:r>
            <a:r>
              <a:rPr b="0" lang="es-ES" sz="1700" spc="-1" strike="noStrike">
                <a:solidFill>
                  <a:srgbClr val="438086"/>
                </a:solidFill>
                <a:latin typeface="Georgia"/>
              </a:rPr>
              <a:t>)          en términos prácticos la diferencia es que no se requiere preparación del recurso a diferencia de materia civil.</a:t>
            </a:r>
            <a:endParaRPr b="0" lang="en-US" sz="1700" spc="-1" strike="noStrike">
              <a:solidFill>
                <a:srgbClr val="438086"/>
              </a:solidFill>
              <a:latin typeface="Georgia"/>
            </a:endParaRPr>
          </a:p>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enderá cumplida la exigencia de patrocinio de los recursos de casación, prevista en el inciso final del artículo 772 del CPC, por la sola circunstancia de interponerlos el abogado que patrocine la causa de primera instancia.</a:t>
            </a:r>
            <a:endParaRPr b="0" lang="en-US" sz="1800" spc="-1" strike="noStrike">
              <a:solidFill>
                <a:srgbClr val="000000"/>
              </a:solidFill>
              <a:latin typeface="Georgia"/>
            </a:endParaRPr>
          </a:p>
        </p:txBody>
      </p:sp>
      <p:cxnSp>
        <p:nvCxnSpPr>
          <p:cNvPr id="276" name="3 Conector recto de flecha"/>
          <p:cNvCxnSpPr/>
          <p:nvPr/>
        </p:nvCxnSpPr>
        <p:spPr>
          <a:xfrm>
            <a:off x="2268000" y="4653000"/>
            <a:ext cx="28836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476280"/>
            <a:ext cx="8229600" cy="6121440"/>
          </a:xfrm>
          <a:prstGeom prst="rect">
            <a:avLst/>
          </a:prstGeom>
          <a:noFill/>
          <a:ln w="0">
            <a:noFill/>
          </a:ln>
        </p:spPr>
        <p:txBody>
          <a:bodyPr anchor="t">
            <a:normAutofit/>
          </a:bodyPr>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tos de Violencia Intrafamiliar</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Bienes Familia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torización salida del país meno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proced. contravencional)</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 </a:t>
            </a:r>
            <a:r>
              <a:rPr b="0" lang="es-ES" sz="1800" spc="-1" strike="noStrike">
                <a:solidFill>
                  <a:srgbClr val="438086"/>
                </a:solidFill>
                <a:latin typeface="Georgia"/>
              </a:rPr>
              <a:t>Toda otra cuestión personal derivada de las relaciones de familia.</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Principios del Procedimiento</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ralidad (art. 10)</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centración y desformalización (art. 11)</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mediación (art. 12)</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ctuación de oficio (art. 13)</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laboración (art. 14)</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blicidad (art. 15)</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terés superior de los menores (art. 16)</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endParaRPr b="0" lang="en-US" sz="1800" spc="-1" strike="noStrike">
              <a:solidFill>
                <a:srgbClr val="000000"/>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Procedimientos Especiales</a:t>
            </a:r>
            <a:br>
              <a:rPr sz="3600"/>
            </a:br>
            <a:endParaRPr b="0" lang="en-US" sz="3600" spc="-1" strike="noStrike">
              <a:solidFill>
                <a:srgbClr val="424456"/>
              </a:solidFill>
              <a:latin typeface="Trebuchet MS"/>
            </a:endParaRPr>
          </a:p>
        </p:txBody>
      </p:sp>
      <p:sp>
        <p:nvSpPr>
          <p:cNvPr id="278" name=""/>
          <p:cNvSpPr txBox="1"/>
          <p:nvPr/>
        </p:nvSpPr>
        <p:spPr>
          <a:xfrm>
            <a:off x="456840" y="1773000"/>
            <a:ext cx="8435880" cy="480060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en materia de aliment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or actos de violencia intrafamiliar</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ara la aplicación judicial de medidas de protección de los derechos de los niños, niñas o adolescente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Contravencional</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previstos en la ley de adopción</a:t>
            </a:r>
            <a:endParaRPr b="0" lang="en-US" sz="2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previo a la adopción</a:t>
            </a:r>
            <a:endParaRPr b="0" lang="en-US" sz="2600" spc="-1" strike="noStrike">
              <a:solidFill>
                <a:srgbClr val="438086"/>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de adopció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24456"/>
                </a:solidFill>
                <a:latin typeface="Trebuchet MS"/>
              </a:rPr>
              <a:t>1. Procedimientos en materia de alimentos</a:t>
            </a:r>
            <a:endParaRPr b="0" lang="en-US" sz="3200" spc="-1" strike="noStrike">
              <a:solidFill>
                <a:srgbClr val="424456"/>
              </a:solidFill>
              <a:latin typeface="Trebuchet MS"/>
            </a:endParaRPr>
          </a:p>
        </p:txBody>
      </p:sp>
      <p:sp>
        <p:nvSpPr>
          <p:cNvPr id="280" name=""/>
          <p:cNvSpPr txBox="1"/>
          <p:nvPr/>
        </p:nvSpPr>
        <p:spPr>
          <a:xfrm>
            <a:off x="457200" y="1413000"/>
            <a:ext cx="8229600" cy="51609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etencia:</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rán conocidos por los tribunales de familia.</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los juicios de alimentos conocerá el juez del domicilio del alimentante o alimentario, a elección de este últim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aquellos juicios de aumento de pensiones alimenticias conocerá el mismo tribunal que las dictó o el del nuevo domicilio del alimentario, a elección de éste.</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ara conocer de las demandas de rebaja o cese de pensiones alimenticias será competente el tribunal del domicilio del alimentari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l tribunal de familia conocerá incidentalmente de la acción tendiente a revocar los actos celebrados por el alimentante de mala fe, con la finalidad de reducir su patrimonio en perjuicio del alimentario, así como los actos simulados o aparentes ejecutados con el propósito de perjudicarlo.</a:t>
            </a:r>
            <a:endParaRPr b="0" lang="en-US" sz="18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ocedimiento</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 tramitarán conforme a las reglas del procedimiento ordinario, pero con ciertas modificaciones</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CuadroTexto"/>
          <p:cNvSpPr/>
          <p:nvPr/>
        </p:nvSpPr>
        <p:spPr>
          <a:xfrm>
            <a:off x="0" y="549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dbed3"/>
                </a:solidFill>
                <a:latin typeface="Corbel"/>
              </a:rPr>
              <a:t>Procedimiento solicitud  alimentos </a:t>
            </a:r>
            <a:endParaRPr b="0" lang="en-US" sz="1800" spc="-1" strike="noStrike">
              <a:solidFill>
                <a:srgbClr val="000000"/>
              </a:solidFill>
              <a:latin typeface="Arial"/>
            </a:endParaRPr>
          </a:p>
        </p:txBody>
      </p:sp>
      <p:pic>
        <p:nvPicPr>
          <p:cNvPr id="282" name="12 Marcador de contenido" descr="Alimentos.jpg"/>
          <p:cNvPicPr/>
          <p:nvPr/>
        </p:nvPicPr>
        <p:blipFill>
          <a:blip r:embed="rId1"/>
          <a:stretch/>
        </p:blipFill>
        <p:spPr>
          <a:xfrm>
            <a:off x="0" y="981000"/>
            <a:ext cx="895824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836280"/>
            <a:ext cx="8229600" cy="5737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Inicio Procedimiento        Demanda</a:t>
            </a:r>
            <a:endParaRPr b="0" lang="en-US" sz="2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 Legitimación pasiva:</a:t>
            </a:r>
            <a:endParaRPr b="0" lang="en-US" sz="20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a los ascendientes, a los hermanos, a quien hizo una donación cuantiosa a favor alimentante (casos alimentos mayores) y a descendientes (alimentos menores) (art. 321 CC)</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mientras subsista matrimonio, de por vida a los ascendientes por causa calificada, a los hermanos y descendientes incapaces,  con límite hasta los 28 años a los descendientes y hermanos capaces que estudien profesión u oficio, de lo contrario, con límite hasta los 21 años.</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3548a"/>
                </a:solidFill>
                <a:latin typeface="Georgia"/>
              </a:rPr>
              <a:t>Entre varios ascendientes o descendientes debe recurrirse a los de más próximo grado. Entre los de un mismo grado, como también entre varios obligados por un mismo  título, el juez distribuirá la obligación en proporción a sus facultades. Habiendo varios alimentarios respecto  de un mismo deudor, el juez distribuirá los alimentos en proporción a las necesidades de aquéllos.</a:t>
            </a:r>
            <a:endParaRPr b="0" lang="en-US" sz="1800" spc="-1" strike="noStrike">
              <a:solidFill>
                <a:srgbClr val="53548a"/>
              </a:solidFill>
              <a:latin typeface="Georgia"/>
            </a:endParaRPr>
          </a:p>
        </p:txBody>
      </p:sp>
      <p:cxnSp>
        <p:nvCxnSpPr>
          <p:cNvPr id="284" name="6 Conector recto de flecha"/>
          <p:cNvCxnSpPr/>
          <p:nvPr/>
        </p:nvCxnSpPr>
        <p:spPr>
          <a:xfrm>
            <a:off x="4356000" y="1125000"/>
            <a:ext cx="432720" cy="2520"/>
          </a:xfrm>
          <a:prstGeom prst="straightConnector1">
            <a:avLst/>
          </a:prstGeom>
          <a:ln w="9360">
            <a:solidFill>
              <a:srgbClr val="783a7a"/>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280" y="765000"/>
            <a:ext cx="8229600" cy="5904000"/>
          </a:xfrm>
          <a:prstGeom prst="rect">
            <a:avLst/>
          </a:prstGeom>
          <a:noFill/>
          <a:ln w="0">
            <a:noFill/>
          </a:ln>
        </p:spPr>
        <p:txBody>
          <a:bodyPr anchor="t">
            <a:normAutofit fontScale="97000"/>
          </a:bodyPr>
          <a:p>
            <a:pPr lvl="1" marL="637560" indent="-23868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i) Legitimación activa</a:t>
            </a:r>
            <a:endParaRPr b="0" lang="en-US" sz="2000" spc="-1" strike="noStrike">
              <a:solidFill>
                <a:srgbClr val="438086"/>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El padre que tenga el cuidado personal (típicamente madre en razón del art.225 CC)</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 solicitar alimentos la madre del hijo que está por nacer. </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Respecto de padre alimentario que a su vez es menor de edad  o incapaz debe ser debidamente representado (obligación especial para juez)</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Tiene legitimación especial para demandar, cobrar y percibir padre  en cuya casa viva el alimentario mayor de edad , sin perjuicio de su propia legitimación</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Para estar en presencia de una relación alimentaria, es necesario que se den los siguientes requisitos:</a:t>
            </a:r>
            <a:r>
              <a:rPr b="0" lang="es-MX" sz="1800" spc="-1" strike="noStrike">
                <a:solidFill>
                  <a:srgbClr val="53548a"/>
                </a:solidFill>
                <a:latin typeface="Georgia"/>
              </a:rPr>
              <a:t> </a:t>
            </a:r>
            <a:endParaRPr b="0" lang="en-US" sz="1800" spc="-1" strike="noStrike">
              <a:solidFill>
                <a:srgbClr val="000000"/>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3548a"/>
                </a:solidFill>
                <a:latin typeface="Georgia"/>
              </a:rPr>
              <a:t>Que exista un </a:t>
            </a:r>
            <a:r>
              <a:rPr b="0" lang="es-CL" sz="1600" spc="-1" strike="noStrike">
                <a:solidFill>
                  <a:srgbClr val="53548a"/>
                </a:solidFill>
                <a:latin typeface="Georgia"/>
              </a:rPr>
              <a:t>estado de necesidad en el alimentario, esto es, que no pueda sustentar su vida con sus propios medios; </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l alimentante tenga las condiciones para otorgarlos; y</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xista un vínculo legal entre alimentante y alimentario</a:t>
            </a:r>
            <a:endParaRPr b="0" lang="en-US" sz="1600" spc="-1" strike="noStrike">
              <a:solidFill>
                <a:srgbClr val="53548a"/>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No tiene derecho a demandar alimentos el que haya incurrido  en una causal de indignidad para suceder  (ej.  atentado vida  alimentante), el padre respecto del hijo que </a:t>
            </a:r>
            <a:r>
              <a:rPr b="0" lang="es-ES_tradnl" sz="1800" spc="-1" strike="noStrike">
                <a:solidFill>
                  <a:srgbClr val="53548a"/>
                </a:solidFill>
                <a:latin typeface="Georgia"/>
              </a:rPr>
              <a:t>haya abandonado en su infancia, cuando la filiación haya debido ser establecida por medio de sentencia judicial contra su oposición.</a:t>
            </a:r>
            <a:endParaRPr b="0" lang="en-US" sz="1800" spc="-1" strike="noStrike">
              <a:solidFill>
                <a:srgbClr val="000000"/>
              </a:solidFill>
              <a:latin typeface="Georgia"/>
            </a:endParaRPr>
          </a:p>
          <a:p>
            <a:pPr lvl="2" marL="894600" indent="-21204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360" y="448920"/>
            <a:ext cx="8229600" cy="61484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emanda Escrit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rá cumplir todos los requisitos comunes a toda demanda civil + forma especial de notificación Ej. Correo electrónic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permite demandar aún cuando se desconozca domicilio alimentante: el juez determinará medio idóneo notifica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n acompañarse antecedentes escritos en los casos en que se  solicite alimentos provisorios, cumplimiento provisional solicitud de aumento, rebaja o cese pensión Ej. Copia libreta depósito, certificado nacimiento, certificado matrimonio, fotocopia libreta de familia, certificado alumno regular, boletas gastos, liquidaciones de sueldo, certificados de enfermedades, entre otras.   En estos casos el juez resuelve de plano (sin traslado).  A la resolución que decreta alimentos provisorios o cumplimiento provisional puede oponerse alimentante dentro de 5º día y recurrirla mediante reposición con apelación subsidiaria dentro de …., concediéndose en el solo efecto devolutivo y gozando de preferencia para su vist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 por funcionario que designe tribunal, carabineros de Chile o receptor a costa de la parte demandante. En caso que no es habido pero se encuentra en el lugar del juicio por el art.44 CPC u otro medio idóne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jemplo de resolución que tiene por admitida la demanda de alimentos.</a:t>
            </a:r>
            <a:endParaRPr b="0" lang="en-US" sz="1800" spc="-1" strike="noStrike">
              <a:solidFill>
                <a:srgbClr val="000000"/>
              </a:solidFill>
              <a:latin typeface="Georgia"/>
            </a:endParaRPr>
          </a:p>
        </p:txBody>
      </p:sp>
      <p:sp>
        <p:nvSpPr>
          <p:cNvPr id="288" name="Rectangle 4"/>
          <p:cNvSpPr/>
          <p:nvPr/>
        </p:nvSpPr>
        <p:spPr>
          <a:xfrm>
            <a:off x="755640" y="4008240"/>
            <a:ext cx="806436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Se pone en conocimiento del demandado que cuenta con un plazo de cinco días hábiles para oponerse al monto alimenticio provisoriamente regul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Igualmente se dispone que el demandado acompañe, en la audiencia preparatoria, las liquidaciones de sueldo, copia de la declaración de impuesto a la renta del año precedente y de las boletas de honorarios emitidas durante el año en curso y demás antecedentes que sirvan para determinar su patrimonio y capacidad económica.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89" name="Rectangle 5"/>
          <p:cNvSpPr/>
          <p:nvPr/>
        </p:nvSpPr>
        <p:spPr>
          <a:xfrm>
            <a:off x="826920" y="1280880"/>
            <a:ext cx="78487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ea typeface="Courier New"/>
              </a:rPr>
              <a:t>A lo principal:</a:t>
            </a:r>
            <a:r>
              <a:rPr b="0" lang="es-CL" sz="1800" spc="-1" strike="noStrike">
                <a:solidFill>
                  <a:srgbClr val="000000"/>
                </a:solidFill>
                <a:latin typeface="Courier New"/>
                <a:ea typeface="Courier New"/>
              </a:rPr>
              <a:t> </a:t>
            </a:r>
            <a:r>
              <a:rPr b="0" lang="es-ES" sz="1800" spc="-1" strike="noStrike">
                <a:solidFill>
                  <a:srgbClr val="000000"/>
                </a:solidFill>
                <a:latin typeface="Courier New"/>
                <a:ea typeface="Courier New"/>
              </a:rPr>
              <a:t>Por admitida a tramitación demanda de alimentos mayores. Traslado.</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Comparezcan las partes debidamente representadas en conformidad a lo dispuesto en el artículo 60 de la Ley Nº 19.968, en su texto actual, a la audiencia preparatoria que se celebrará </a:t>
            </a:r>
            <a:r>
              <a:rPr b="1" lang="es-CL" sz="1800" spc="-1" strike="noStrike">
                <a:solidFill>
                  <a:srgbClr val="000000"/>
                </a:solidFill>
                <a:latin typeface="Courier New"/>
                <a:ea typeface="Courier New"/>
              </a:rPr>
              <a:t>el día 18 de Agosto de 2012, a las 11.00 horas.</a:t>
            </a:r>
            <a:r>
              <a:rPr b="0" lang="es-CL" sz="1800" spc="-1" strike="noStrike">
                <a:solidFill>
                  <a:srgbClr val="000000"/>
                </a:solidFill>
                <a:latin typeface="Courier New"/>
                <a:ea typeface="Courier New"/>
              </a:rPr>
              <a:t>  La audiencia se celebrará con las partes que asistan, afectándole a la que no concurra todas las resoluciones que se dicten en ella sin necesidad de ulterior notificación. </a:t>
            </a:r>
            <a:endParaRPr b="0" lang="en-US" sz="1800" spc="-1" strike="noStrike">
              <a:solidFill>
                <a:srgbClr val="000000"/>
              </a:solidFill>
              <a:latin typeface="Arial"/>
            </a:endParaRPr>
          </a:p>
        </p:txBody>
      </p:sp>
      <p:sp>
        <p:nvSpPr>
          <p:cNvPr id="290" name="5 Rectángulo"/>
          <p:cNvSpPr/>
          <p:nvPr/>
        </p:nvSpPr>
        <p:spPr>
          <a:xfrm>
            <a:off x="611280" y="1197000"/>
            <a:ext cx="8137440" cy="5400720"/>
          </a:xfrm>
          <a:prstGeom prst="rect">
            <a:avLst/>
          </a:prstGeom>
          <a:no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89000"/>
            <a:ext cx="8229600" cy="5937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s que notificación se podrá realizar por cualquier medio idóneo. Ejemplo: Carabineros.</a:t>
            </a:r>
            <a:endParaRPr b="0" lang="en-US" sz="1800" spc="-1" strike="noStrike">
              <a:solidFill>
                <a:srgbClr val="000000"/>
              </a:solidFill>
              <a:latin typeface="Georgia"/>
            </a:endParaRPr>
          </a:p>
        </p:txBody>
      </p:sp>
      <p:pic>
        <p:nvPicPr>
          <p:cNvPr id="292" name="Picture 4" descr=""/>
          <p:cNvPicPr/>
          <p:nvPr/>
        </p:nvPicPr>
        <p:blipFill>
          <a:blip r:embed="rId1"/>
          <a:stretch/>
        </p:blipFill>
        <p:spPr>
          <a:xfrm>
            <a:off x="1332000" y="1197000"/>
            <a:ext cx="611964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539640" y="333360"/>
            <a:ext cx="8229600" cy="3024360"/>
          </a:xfrm>
          <a:prstGeom prst="rect">
            <a:avLst/>
          </a:prstGeom>
          <a:ln w="0">
            <a:noFill/>
          </a:ln>
        </p:spPr>
      </p:pic>
      <p:pic>
        <p:nvPicPr>
          <p:cNvPr id="294" name="Picture 5" descr=""/>
          <p:cNvPicPr/>
          <p:nvPr/>
        </p:nvPicPr>
        <p:blipFill>
          <a:blip r:embed="rId2"/>
          <a:stretch/>
        </p:blipFill>
        <p:spPr>
          <a:xfrm>
            <a:off x="539640" y="3213000"/>
            <a:ext cx="8136000" cy="312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755640" y="836640"/>
            <a:ext cx="7693200" cy="17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000" y="980640"/>
            <a:ext cx="8218440" cy="5543640"/>
          </a:xfrm>
          <a:prstGeom prst="rect">
            <a:avLst/>
          </a:prstGeom>
          <a:noFill/>
          <a:ln w="0">
            <a:noFill/>
          </a:ln>
        </p:spPr>
        <p:txBody>
          <a:bodyPr anchor="t">
            <a:normAutofit/>
          </a:bodyPr>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Por todo esto es que el juez tiene grandes facultades en el proceso de familia; a saber, puede llamar a conciliación en cualquier momento,  tiene una potestad cautelar amplia y puede ordenar de oficio pruebas que no han sido solicitadas por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Conciliación</a:t>
            </a:r>
            <a:endParaRPr b="0" lang="en-US" sz="2200" spc="-1" strike="noStrike">
              <a:solidFill>
                <a:srgbClr val="000000"/>
              </a:solidFill>
              <a:latin typeface="Georgia"/>
            </a:endParaRPr>
          </a:p>
          <a:p>
            <a:pPr marL="6602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Medio alternativo de solución de conflictos, autocompositivo pero con la participación de un tercero, en este caso el juez  quien propone las bases para el acuerdo entre las partes ( se relaciona principio de desformalización, de actuación de oficio y de colaboración entre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Medidas Cautelares</a:t>
            </a:r>
            <a:endParaRPr b="0" lang="en-US" sz="2200" spc="-1" strike="noStrike">
              <a:solidFill>
                <a:srgbClr val="000000"/>
              </a:solidFill>
              <a:latin typeface="Georgia"/>
            </a:endParaRPr>
          </a:p>
          <a:p>
            <a:pPr marL="660240" indent="-6602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on aquellas que tienen por objeto asegurar el resultado del juicio (1) o que tengan por objeto especial garantizar el interés superior del niño, niña o adolescente(2).</a:t>
            </a:r>
            <a:endParaRPr b="0" lang="en-US" sz="1800" spc="-1" strike="noStrike">
              <a:solidFill>
                <a:srgbClr val="000000"/>
              </a:solidFill>
              <a:latin typeface="Georgia"/>
            </a:endParaRPr>
          </a:p>
          <a:p>
            <a:pPr lvl="1" marL="95256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Forma de decretarlas: </a:t>
            </a:r>
            <a:endParaRPr b="0" lang="en-US" sz="2200" spc="-1" strike="noStrike">
              <a:solidFill>
                <a:srgbClr val="438086"/>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e Oficio.</a:t>
            </a:r>
            <a:endParaRPr b="0" lang="en-US" sz="1600" spc="-1" strike="noStrike">
              <a:solidFill>
                <a:srgbClr val="53548a"/>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 petición de parte.</a:t>
            </a:r>
            <a:endParaRPr b="0" lang="en-US" sz="16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404280"/>
            <a:ext cx="8229600" cy="572148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Audiencia Preparatoria</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Obligación comparecer personalmente o representado, bajo apercibimiento de arresto hasta por quince días o multa</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El demandado debe acompañar las liquidaciones de sueldo, copia de la declaración de impuesto a la renta del año precedente y de las boletas de honorarios emitidas durante el año en curso y demás antecedentes que sirvan para determinar su patrimonio y capacidad económica. Sino, acompañará o extenderá en la propia audiencia, una declaración jurada, en la cual dejará constancia de su patrimonio y capacidad económica. Si no cumple ni lo uno ni lo otro, juez oficiará a SII, AFP, institución salud y cualquier otro organismo público o privado.</a:t>
            </a:r>
            <a:endParaRPr b="0" lang="en-US" sz="22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udiencia de Juicio</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Alteración carga de la prueba alimentos menores: se presume que alimentante tiene medios para pagarlos</a:t>
            </a:r>
            <a:endParaRPr b="0" lang="en-US" sz="2200" spc="-1" strike="noStrike">
              <a:solidFill>
                <a:srgbClr val="000000"/>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476280"/>
            <a:ext cx="8229600" cy="6097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cidentes Especiales</a:t>
            </a:r>
            <a:endParaRPr b="0" lang="en-US" sz="2400" spc="-1" strike="noStrike">
              <a:solidFill>
                <a:srgbClr val="000000"/>
              </a:solidFill>
              <a:latin typeface="Georgia"/>
            </a:endParaRPr>
          </a:p>
          <a:p>
            <a:pPr lvl="1" marL="857160" indent="-45720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Revocación de actos fraudulentos del alimentante. Podrá demandarse la revocación de los actos fraudulentos del alimentante en el mismo juicio de alimentos cuando concurran los siguientes requisitos:</a:t>
            </a:r>
            <a:endParaRPr b="0" lang="en-US" sz="2200" spc="-1" strike="noStrike">
              <a:solidFill>
                <a:srgbClr val="438086"/>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 tratarse de actos celebrados por el alimentante y terceros;</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mbos deben estar de mala fe. El tercero lo estará cuando conozca o deba conocer la intención fraudulenta del alimentante;</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berse realizado con la finalidad de reducir su patrimonio, en perjuicio de la parte alimentari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 mismo se aplicará en el evento de actos simulados o aparentes ejecutados con el propósito de perjudicar al alimentari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La resolución que resuelve este incidente es recurrible por reposición con apelación subsidiaria (en el solo efecto devolutivo y goza de preferencia para la vista de la causa en tribunal de alzada)</a:t>
            </a:r>
            <a:endParaRPr b="0" lang="en-US" sz="22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475920"/>
            <a:ext cx="8362800" cy="6381720"/>
          </a:xfrm>
          <a:prstGeom prst="rect">
            <a:avLst/>
          </a:prstGeom>
          <a:noFill/>
          <a:ln w="0">
            <a:noFill/>
          </a:ln>
        </p:spPr>
        <p:txBody>
          <a:bodyPr anchor="t">
            <a:normAutofit fontScale="96000"/>
          </a:bodyPr>
          <a:p>
            <a:pPr lvl="1" marL="822600" indent="-438840" algn="just">
              <a:spcBef>
                <a:spcPts val="300"/>
              </a:spcBef>
              <a:buClr>
                <a:srgbClr val="438086"/>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Substitución condicional de modalidad de pago de la      </a:t>
            </a:r>
            <a:r>
              <a:rPr b="0" lang="es-ES" sz="2200" spc="-1" strike="noStrike">
                <a:solidFill>
                  <a:srgbClr val="438086"/>
                </a:solidFill>
                <a:latin typeface="Georgia"/>
              </a:rPr>
              <a:t>	</a:t>
            </a:r>
            <a:r>
              <a:rPr b="0" lang="es-ES" sz="2200" spc="-1" strike="noStrike">
                <a:solidFill>
                  <a:srgbClr val="438086"/>
                </a:solidFill>
                <a:latin typeface="Georgia"/>
              </a:rPr>
              <a:t> pensión alimenticia de trabajadores dependientes.</a:t>
            </a:r>
            <a:endParaRPr b="0" lang="en-US" sz="2200" spc="-1" strike="noStrike">
              <a:solidFill>
                <a:srgbClr val="438086"/>
              </a:solidFill>
              <a:latin typeface="Georgia"/>
            </a:endParaRPr>
          </a:p>
          <a:p>
            <a:pPr lvl="1" marL="822600" indent="-4388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obliga que resoluciones judiciales que ordenen el pago de una pensión alimenticia, provisoria o definitiva, por un trabajador dependiente fijen como modalidad de pago la retención por parte del empleador.</a:t>
            </a:r>
            <a:endParaRPr b="0" lang="en-US" sz="1800" spc="-1" strike="noStrike">
              <a:solidFill>
                <a:srgbClr val="000000"/>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Si empleador no retiene sin causa justificada se hace solidariamente responsable a la deuda y se expone a multa</a:t>
            </a:r>
            <a:endParaRPr b="0" lang="en-US" sz="1700" spc="-1" strike="noStrike">
              <a:solidFill>
                <a:srgbClr val="53548a"/>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Empleador tiene obligación de informar al tribunal en caso de término de la relación laboral</a:t>
            </a:r>
            <a:endParaRPr b="0" lang="en-US" sz="1700" spc="-1" strike="noStrike">
              <a:solidFill>
                <a:srgbClr val="53548a"/>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 </a:t>
            </a:r>
            <a:r>
              <a:rPr b="0" lang="es-ES" sz="1700" spc="-1" strike="noStrike">
                <a:solidFill>
                  <a:srgbClr val="53548a"/>
                </a:solidFill>
                <a:latin typeface="Georgia"/>
              </a:rPr>
              <a:t>El demandado depen</a:t>
            </a:r>
            <a:r>
              <a:rPr b="0" lang="es-ES" sz="1800" spc="-1" strike="noStrike">
                <a:solidFill>
                  <a:srgbClr val="53548a"/>
                </a:solidFill>
                <a:latin typeface="Georgia"/>
              </a:rPr>
              <a:t>diente podrá solicitar al juez, por una sola vez, con fundamento plausible, en cualquier estado del juicio y antes de la dictación de la sentencia, que sustituya, por otra modalidad de pago, la retención por parte del empleador, siempre que dé garantías suficientes de pago íntegro y oportuno (de ahí que sea condicional)</a:t>
            </a:r>
            <a:endParaRPr b="0" lang="en-US" sz="1800" spc="-1" strike="noStrike">
              <a:solidFill>
                <a:srgbClr val="000000"/>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olicitud respectiva se tramitará como incidente. En caso de ser acogida, la modalidad de pago decretada quedará sujeta a la condición de su íntegro y oportuno cumplimiento.</a:t>
            </a:r>
            <a:endParaRPr b="0" lang="en-US" sz="1800" spc="-1" strike="noStrike">
              <a:solidFill>
                <a:srgbClr val="438086"/>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existir incumplimiento, el juez, de oficio, y sin perjuicio de las sanciones y apremios que sean pertinentes, ordenará que en lo sucesivo la pensión alimenticia decretada se pague conforme al sistema de retención por parte del empleador.</a:t>
            </a: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549360"/>
            <a:ext cx="8229600" cy="6092640"/>
          </a:xfrm>
          <a:prstGeom prst="rect">
            <a:avLst/>
          </a:prstGeom>
          <a:noFill/>
          <a:ln w="0">
            <a:noFill/>
          </a:ln>
        </p:spPr>
        <p:txBody>
          <a:bodyPr anchor="t">
            <a:normAutofit fontScale="94000"/>
          </a:bodyPr>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jecución Resoluciones </a:t>
            </a:r>
            <a:endParaRPr b="0" lang="en-US" sz="24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2000" spc="-1" strike="noStrike">
                <a:solidFill>
                  <a:srgbClr val="53548a"/>
                </a:solidFill>
                <a:latin typeface="Georgia"/>
              </a:rPr>
              <a:t>El juez podrá decretar o aprobar que se imputen al pago de la pensión, parcial o totalmente, los gastos útiles o extraordinarios que efectúe el alimentante para satisfacer necesidades permanentes de educación, salud o vivienda del alimentario.</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fijar o aprobar que la pensión alimenticia se impute total o parcialmente a un derecho de usufructo, uso o habitación sobre bienes del alimentante, quien no podrá enajenarlos ni gravarlos sin autorización del juez.</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ordenar que el  deudor garantice el cumplimiento de la obligación  alimenticia con una hipoteca o prenda sobre bienes del  alimentante o con otra forma de caución.</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erán solidariamente responsables del pago de la obligación alimenticia los que, sin derecho para ello, dificultaren o imposibilitaren el fiel y oportuno cumplimiento de dicha obligación. </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Las partes pueden celebrar transacción respecto de alimentos futuros, acto que debe ser autorizado por un ministro de fe (a los que se agregan específicamente abogados jefes o coordinadores de los consultorios de la respectiva Corporación de Asistencia Judicial ) y aprobado por juez competente.</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68000" y="620640"/>
            <a:ext cx="8351640" cy="5649840"/>
          </a:xfrm>
          <a:prstGeom prst="rect">
            <a:avLst/>
          </a:prstGeom>
          <a:noFill/>
          <a:ln w="0">
            <a:noFill/>
          </a:ln>
        </p:spPr>
        <p:txBody>
          <a:bodyPr anchor="t">
            <a:normAutofit fontScale="99000"/>
          </a:bodyPr>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Resolución que ordena pago pensión tiene mérito ejecutivo: de ahí que sean aplicables las normas de juicio ejecutiv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 un requerimiento judicial de pago (personalmente o por cédula, por receptor, asistente social o carabinero) el alimentante sólo podrá oponer la excepción de pago fundada en antecedente escri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alimentante no se opusiere ni pagara frente a requerimiento, se dictará mandamiento de ejecución y embargo, y se procederá conforme a este proced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n embargo, la ley 14.908 establece apremios especiales conforme a los cuales se procede más usualmente en estos casos.</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l primer incumplimiento el juez podrá ordenar como medida de apremio el arresto nocturno hasta por 15 días y podrá repetir tal medida hasta el cabal cumpl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el alimentante infringiere el arresto nocturno o persistiere en el incumplimiento de la obligación alimenticia después de dos periodos de arresto nocturno, el juez podrá apremiarlo con arresto hasta por quince días y arraigo. En caso de que procedan nuevos apremios, podrá ampliar el arresto hasta por 30 días. </a:t>
            </a:r>
            <a:endParaRPr b="0" lang="en-US" sz="2000" spc="-1" strike="noStrike">
              <a:solidFill>
                <a:srgbClr val="438086"/>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Existiendo una o más pensiones insolutas, el juez decretará, a petición de parte, la retención de la devolución anual de impuestos y la suspensión de la licencia de conducir</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se ha decretado dos veces los apremios de arresto y arraigo o retención y suspensión licencia,  el alimentario podrá solicitar que tribunal declare la separación de bienes como régimen patrimonial matrimonio, otorgue la administración de la sociedad conyugal a la mujer y autorice la salida del país de los hijos menores en común sin necesidad de consentimiento del padre.</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Antes de solicitar una medida de apremio existiendo más de dos saldos insolutos, debe solicitarse que se liquide la deuda, esto es, se determine el valor actual de lo adeudado más intereses corrientes. Esta solicitud debe ir acompañada de una fotocopia íntegra de la libreta de ahorro actualizada a la fecha de la solicitu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765000"/>
            <a:ext cx="8229600" cy="5808960"/>
          </a:xfrm>
          <a:prstGeom prst="rect">
            <a:avLst/>
          </a:prstGeom>
          <a:noFill/>
          <a:ln w="0">
            <a:noFill/>
          </a:ln>
        </p:spPr>
        <p:txBody>
          <a:bodyPr anchor="t">
            <a:normAutofit/>
          </a:bodyPr>
          <a:p>
            <a:pPr marL="622440" indent="-514440">
              <a:lnSpc>
                <a:spcPct val="100000"/>
              </a:lnSpc>
              <a:spcBef>
                <a:spcPts val="300"/>
              </a:spcBef>
              <a:buClr>
                <a:srgbClr val="a04da3"/>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Procedimiento para la aplicación judicial de Medidas de Protección de los derechos de los niños, niñas o adolescentes</a:t>
            </a:r>
            <a:endParaRPr b="0" lang="en-US" sz="2800" spc="-1" strike="noStrike">
              <a:solidFill>
                <a:srgbClr val="000000"/>
              </a:solidFill>
              <a:latin typeface="Georgia"/>
            </a:endParaRPr>
          </a:p>
          <a:p>
            <a:pPr marL="622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los casos en que la ley exige o autoriza la intervención judicial para adoptar las medidas de protección jurisdiccionales establecidas en la ley, tendientes a la protección de los derechos de los niños, niñas o adolescentes cuando éstos se encontraren amenazados o vulnerados, se aplicará este procedimiento y en todo lo no previsto se aplicarán las normas del procedimiento ordinario.</a:t>
            </a:r>
            <a:endParaRPr b="0" lang="en-US" sz="20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intervención judicial será siempre necesaria cuando se trate de la adopción de medidas que importen separar al niño, niña o adolescente de uno o ambos padres o de quienes lo tengan legalmente bajo su cuidado.</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4 Marcador de contenido" descr="protección.jpg"/>
          <p:cNvPicPr/>
          <p:nvPr/>
        </p:nvPicPr>
        <p:blipFill>
          <a:blip r:embed="rId1"/>
          <a:stretch/>
        </p:blipFill>
        <p:spPr>
          <a:xfrm>
            <a:off x="684360" y="836640"/>
            <a:ext cx="7920000" cy="417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928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Comparecencia del Niño, Niña o Adolescente (art. 69)</a:t>
            </a:r>
            <a:endParaRPr b="0" lang="en-US" sz="2000" spc="-1" strike="noStrike">
              <a:solidFill>
                <a:srgbClr val="424456"/>
              </a:solidFill>
              <a:latin typeface="Trebuchet MS"/>
            </a:endParaRPr>
          </a:p>
        </p:txBody>
      </p:sp>
      <p:sp>
        <p:nvSpPr>
          <p:cNvPr id="305" name="PlaceHolder 2"/>
          <p:cNvSpPr>
            <a:spLocks noGrp="1"/>
          </p:cNvSpPr>
          <p:nvPr>
            <p:ph/>
          </p:nvPr>
        </p:nvSpPr>
        <p:spPr>
          <a:xfrm>
            <a:off x="250920" y="1268280"/>
            <a:ext cx="8424720" cy="53308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juez tendrá debidamente en cuenta las opiniones de los niños, niñas o adolescentes, considerando su edad y madur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Para este efecto podrá escucharlos en las audiencias a que se refieren los artículos 72 y 73 (audiencia preparatoria y audiencia de juicio respectivamente) o en otra especial fijada al efecto, en un ambiente adecuado y cautelando su salud física y psíquic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Inicio del Procedimiento (art. 70)</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procedimiento podrá iniciarse de </a:t>
            </a:r>
            <a:r>
              <a:rPr b="1" lang="es-ES" sz="1800" spc="-1" strike="noStrike">
                <a:solidFill>
                  <a:srgbClr val="783a7a"/>
                </a:solidFill>
                <a:latin typeface="Georgia"/>
              </a:rPr>
              <a:t>oficio</a:t>
            </a:r>
            <a:r>
              <a:rPr b="0" lang="es-ES" sz="1800" spc="-1" strike="noStrike">
                <a:solidFill>
                  <a:srgbClr val="783a7a"/>
                </a:solidFill>
                <a:latin typeface="Georgia"/>
              </a:rPr>
              <a:t> o a</a:t>
            </a:r>
            <a:r>
              <a:rPr b="1" lang="es-ES" sz="1800" spc="-1" strike="noStrike">
                <a:solidFill>
                  <a:srgbClr val="783a7a"/>
                </a:solidFill>
                <a:latin typeface="Georgia"/>
              </a:rPr>
              <a:t> requerimiento</a:t>
            </a:r>
            <a:r>
              <a:rPr b="0" lang="es-ES" sz="1800" spc="-1" strike="noStrike">
                <a:solidFill>
                  <a:srgbClr val="783a7a"/>
                </a:solidFill>
                <a:latin typeface="Georgia"/>
              </a:rPr>
              <a:t> del niño, niña, adolescente, de sus padres, de las personas que lo tengan bajo su cuidado, de los profesores o del director del establecimiento educacional al que asista, de los profesionales de la salud que trabajen en los servicios en que se atienda, del Servicio Nacional de Menores o de cualquier persona que tenga interés en ell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requerimiento presentado por alguna de estas personas </a:t>
            </a:r>
            <a:r>
              <a:rPr b="1" lang="es-ES" sz="1800" spc="-1" strike="noStrike">
                <a:solidFill>
                  <a:srgbClr val="783a7a"/>
                </a:solidFill>
                <a:latin typeface="Georgia"/>
              </a:rPr>
              <a:t>no necesita cumplir formalidad alguna, bastando con la sola petición del protección para dar por iniciado el procedimient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476280"/>
            <a:ext cx="8229600" cy="6097680"/>
          </a:xfrm>
          <a:prstGeom prst="rect">
            <a:avLst/>
          </a:prstGeom>
          <a:noFill/>
          <a:ln w="0">
            <a:noFill/>
          </a:ln>
        </p:spPr>
        <p:txBody>
          <a:bodyPr anchor="t">
            <a:normAutofit fontScale="96000"/>
          </a:bodyPr>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l juez en cualquier momento y de oficio puede resolver las siguientes medidas cautelares especiales (art.71):</a:t>
            </a:r>
            <a:endParaRPr b="0" lang="en-US" sz="2400" spc="-1" strike="noStrike">
              <a:solidFill>
                <a:srgbClr val="000000"/>
              </a:solidFill>
              <a:latin typeface="Georgia"/>
            </a:endParaRPr>
          </a:p>
          <a:p>
            <a:pPr lvl="1" marL="630720" indent="-23616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La entrega inmediata del niño, niña o adolescente a sus padres o a quienes tengan legalmente su cuidado;</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ES_tradnl" sz="1700" spc="-1" strike="noStrike">
                <a:solidFill>
                  <a:srgbClr val="438086"/>
                </a:solidFill>
                <a:latin typeface="Georgia"/>
              </a:rPr>
              <a:t>Confiar su cuidado en una persona o familia en casos de urgencia. En tal caso, el juez preferirá, para que asuman provisoriamente el cuidado, a sus parientes consanguíneos o a otras personas con las que tenga relación de confianza;</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El ingreso a un programa de familias de acogida o centro de diagnóstico o residencia, por el tiempo que sea estrictamente indispensable. En este caso, de adoptarse la medida sin la comparecencia del niño, niña o adolescente ante el juez, deberá asegurarse que ésta se verifique a primera hora de la audiencia más próxima; </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Disponer la asistencia de niños, niñas o adolescentes, sus padres, o las personas que los tengan bajo su cuidado, a programas o acciones de apoyo, reparación u orientación, para enfrentar y superar las situaciones de crisis en que pudieren encontrarse, e impartir las instrucciones pertinentes;</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 </a:t>
            </a:r>
            <a:r>
              <a:rPr b="0" lang="es-ES_tradnl" sz="1700" spc="-1" strike="noStrike">
                <a:solidFill>
                  <a:srgbClr val="438086"/>
                </a:solidFill>
                <a:latin typeface="Georgia"/>
              </a:rPr>
              <a:t>Suspender el derecho de una o más personas determinadas a mantener relaciones directas o regulares con el niño, niña o adolescente, sea que tales condiciones de relación hayan sido establecidas por resolución judicial o por acuerdo entre las partes;</a:t>
            </a: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620640"/>
            <a:ext cx="8218440" cy="633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el Consejo Técnico (art. 5 a 7)</a:t>
            </a:r>
            <a:endParaRPr b="0" lang="en-US" sz="2400" spc="-1" strike="noStrike">
              <a:solidFill>
                <a:srgbClr val="424456"/>
              </a:solidFill>
              <a:latin typeface="Trebuchet MS"/>
            </a:endParaRPr>
          </a:p>
        </p:txBody>
      </p:sp>
      <p:sp>
        <p:nvSpPr>
          <p:cNvPr id="230" name="PlaceHolder 2"/>
          <p:cNvSpPr>
            <a:spLocks noGrp="1"/>
          </p:cNvSpPr>
          <p:nvPr>
            <p:ph/>
          </p:nvPr>
        </p:nvSpPr>
        <p:spPr>
          <a:xfrm>
            <a:off x="179280" y="1483920"/>
            <a:ext cx="8353440" cy="525780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 un organismo interdisciplinario, existente en cada tribunal de familia, integrado por profesionales especializados en asuntos de familia e infancia. Los miembros del consejo técnico son auxiliares de la administración de justicia. (Art. 6)</a:t>
            </a:r>
            <a:endParaRPr b="0" lang="en-US" sz="1800" spc="-1" strike="noStrike">
              <a:solidFill>
                <a:srgbClr val="000000"/>
              </a:solidFill>
              <a:latin typeface="Georgia"/>
            </a:endParaRPr>
          </a:p>
          <a:p>
            <a:pPr marL="361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funcionarios del Consejo Técnico tienen la función de asesorar, individual o colectivamente, a los jueces en el análisis y mejor comprensión de los asuntos sometidos a su conocimiento, en el ámbito de su especialidad.</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ara cumplir esta función, tienen las siguientes atribuciones:</a:t>
            </a:r>
            <a:endParaRPr b="0" lang="en-US" sz="1800" spc="-1" strike="noStrike">
              <a:solidFill>
                <a:srgbClr val="000000"/>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istir a las audiencias de juicio a que sean citados con el objetivo de emitir las opiniones técnicas que le sean solicitadas.</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para la adecuada comparecencia y declaración del niño, niña o adolescente.</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valuar, a requerimiento del juez, la pertinencia de derivar a mediación o aconsejar conciliación entre las partes, y sugerir los términos en que esta última pudiere llevarse a cabo.</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a requerimiento de éste, en la evaluación de una situación de riesgo inminente  dentro del procedimiento de  actos de violencia  intrafamiliar.</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en todas las materias relacionadas con su especialidad.</a:t>
            </a: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620280"/>
            <a:ext cx="8229600" cy="5953320"/>
          </a:xfrm>
          <a:prstGeom prst="rect">
            <a:avLst/>
          </a:prstGeom>
          <a:noFill/>
          <a:ln w="0">
            <a:noFill/>
          </a:ln>
        </p:spPr>
        <p:txBody>
          <a:bodyPr anchor="t">
            <a:normAutofit/>
          </a:bodyPr>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 </a:t>
            </a:r>
            <a:r>
              <a:rPr b="0" lang="es-ES_tradnl" sz="1600" spc="-1" strike="noStrike">
                <a:solidFill>
                  <a:srgbClr val="438086"/>
                </a:solidFill>
                <a:latin typeface="Georgia"/>
              </a:rPr>
              <a:t>Prohibir o limitar la presencia del ofensor en el hogar común; </a:t>
            </a: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rohibir 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Prohibir o limitar la concurrencia del ofensor al lugar de estudio del niño, niña o adolescente, así como a cualquier otro lugar donde éste o ésta permanezca, visite o concurra habitualmente. En caso de que concurran al mismo establecimiento, el juez adoptará medidas específicas tendientes a resguardar los derechos de aquéllo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internación en un establecimiento hospitalario, psiquiátrico o de tratamiento especializado, según corresponda, en la medida que se requiera de los servicios que éstos ofrecen y ello sea indispensable frente a una amenaza a su vida o salud; y,</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prohibición de salir del país para el niño, niña o adolescente sujeto de la petición de protección.</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s medidas pueden ser decretadas por un máximo de 90 días</a:t>
            </a: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404280"/>
            <a:ext cx="8218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Preparatoria (art. 72)</a:t>
            </a:r>
            <a:endParaRPr b="0" lang="en-US" sz="2000" spc="-1" strike="noStrike">
              <a:solidFill>
                <a:srgbClr val="424456"/>
              </a:solidFill>
              <a:latin typeface="Trebuchet MS"/>
            </a:endParaRPr>
          </a:p>
        </p:txBody>
      </p:sp>
      <p:sp>
        <p:nvSpPr>
          <p:cNvPr id="309" name="PlaceHolder 2"/>
          <p:cNvSpPr>
            <a:spLocks noGrp="1"/>
          </p:cNvSpPr>
          <p:nvPr>
            <p:ph/>
          </p:nvPr>
        </p:nvSpPr>
        <p:spPr>
          <a:xfrm>
            <a:off x="394920" y="1197000"/>
            <a:ext cx="8209080" cy="5472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iciado el procedimiento, el juez fijará una audiencia para dentro de los cinco días siguientes, a la que citará al niño, niña o adolescente, a sus padres, a las personas a cuyo cuidado esté, y a todos quienes puedan aportar antecedentes para una acertada resolución del asunto.</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urante la audiencia, el juez informará a las partes acerca del motivo de su comparecencia, sus derechos y deberes, y responderá a las dudas e inquietudes que les surjan. </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indagará sobre la situación que ha motivado el inicio del proceso, la forma en que afecta al niño, niña o adolescente y sobre la identidad de las personas que se encuentren involucradas en la afectación de sus derechos.</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Los citados expondrán lo que consideren conveniente y, una vez oídos, el juez, si contare con todos los elementos probatorios dictará sentencia, a menos que estime procedente la aplicación de la medida contenida en el numeral 2) del artículo 30 de la ley N° 16.618, que dispone el ingreso del menor de edad en un Centro de Tránsito o Distribución, hogar substituto o en un establecimiento residencial, caso en el cual citará a audiencia de juicio. Además, se recibirá inmediatamente la prueba que sea posible rendir desde ya, en su caso.</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 </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692280"/>
            <a:ext cx="8229600" cy="5881680"/>
          </a:xfrm>
          <a:prstGeom prst="rect">
            <a:avLst/>
          </a:prstGeom>
          <a:noFill/>
          <a:ln w="0">
            <a:noFill/>
          </a:ln>
        </p:spPr>
        <p:txBody>
          <a:bodyPr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de Juicio (art. 73)</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ta audiencia tendrá por objetivo rendir la prueba y decidir el asunto sometido a conocimiento del juez. En ella podrán objetarse los informes periciales que se hayan evacuado, pudiendo el juez hacerse asesorar por el consejo técnico.</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ntes de pronunciar sentencia, el juez procurará que las partes acuerden la forma más conducente a la resolución de la situación que afecta al niño, niña o adolescente. Si ello no fuere posible, en la sentencia fundamentará la necesidad y conveniencia de la medida adoptada, indicará los objetivos que se pretenden cumplir con ella y determinará el tiempo de su duración.</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l director del establecimiento, o el responsable del programa, en donde  se cumpla la medida adoptada tendrá la obligación de informar acerca del desarrollo de la misma, de la situación en que se encuentra el niño, niña o adolescente y de los avances alcanzados en la consecución de los objetivos establecidos en la sentencia. Ese informe se evacuará cada tres meses, a menos que el juez señale un plazo mayor, con un máximo de seis meses, mediante resolución fundada.</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852280"/>
            <a:ext cx="8229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Suspensión, Modificación y Cesación de Medidas </a:t>
            </a:r>
            <a:r>
              <a:rPr b="0" lang="es-ES" sz="2400" spc="-1" strike="noStrike">
                <a:solidFill>
                  <a:srgbClr val="424456"/>
                </a:solidFill>
                <a:latin typeface="Trebuchet MS"/>
              </a:rPr>
              <a:t>(art. 80)</a:t>
            </a:r>
            <a:endParaRPr b="0" lang="en-US" sz="2400" spc="-1" strike="noStrike">
              <a:solidFill>
                <a:srgbClr val="424456"/>
              </a:solidFill>
              <a:latin typeface="Trebuchet MS"/>
            </a:endParaRPr>
          </a:p>
        </p:txBody>
      </p:sp>
      <p:sp>
        <p:nvSpPr>
          <p:cNvPr id="312" name="PlaceHolder 2"/>
          <p:cNvSpPr>
            <a:spLocks noGrp="1"/>
          </p:cNvSpPr>
          <p:nvPr>
            <p:ph/>
          </p:nvPr>
        </p:nvSpPr>
        <p:spPr>
          <a:xfrm>
            <a:off x="250920" y="3357360"/>
            <a:ext cx="8353440" cy="2592360"/>
          </a:xfrm>
          <a:prstGeom prst="rect">
            <a:avLst/>
          </a:prstGeom>
          <a:noFill/>
          <a:ln w="0">
            <a:noFill/>
          </a:ln>
        </p:spPr>
        <p:txBody>
          <a:bodyPr anchor="t">
            <a:normAutofit/>
          </a:bodyPr>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cualquier momento en que las circunstancias lo justifiquen, el juez podrá suspender, modifica o dejar sin efecto la medida adoptada, de oficio, a solicitud del  niño, niña o adolescente, de uno o de ambos padres, de las personas que lo tengan bajo su cuidado o del director del establecimiento o responsable del programa en que se cumple la medida.</a:t>
            </a:r>
            <a:endParaRPr b="0" lang="en-US" sz="1600" spc="-1" strike="noStrike">
              <a:solidFill>
                <a:srgbClr val="000000"/>
              </a:solidFill>
              <a:latin typeface="Georgia"/>
            </a:endParaRPr>
          </a:p>
        </p:txBody>
      </p:sp>
      <p:sp>
        <p:nvSpPr>
          <p:cNvPr id="313" name="Text Box 4"/>
          <p:cNvSpPr/>
          <p:nvPr/>
        </p:nvSpPr>
        <p:spPr>
          <a:xfrm>
            <a:off x="611280" y="620640"/>
            <a:ext cx="7993080" cy="26290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Derecho de Audiencia con el Juez (art. 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niños, niñas o adolescentes respecto de los cuales se encuentre vigente una medida de protección judicial, tendrán derecho a que el juez los reciba personalmente, cuando lo soliciten por sí mismos o a través de las personas señaladas en el artículo 8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620640"/>
            <a:ext cx="8229600" cy="1067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Trebuchet MS"/>
              </a:rPr>
              <a:t>3. Procedimiento por actos de violencia intrafamiliar</a:t>
            </a:r>
            <a:endParaRPr b="0" lang="en-US" sz="3200" spc="-1" strike="noStrike">
              <a:solidFill>
                <a:srgbClr val="424456"/>
              </a:solidFill>
              <a:latin typeface="Trebuchet MS"/>
            </a:endParaRPr>
          </a:p>
        </p:txBody>
      </p:sp>
      <p:sp>
        <p:nvSpPr>
          <p:cNvPr id="315" name=""/>
          <p:cNvSpPr txBox="1"/>
          <p:nvPr/>
        </p:nvSpPr>
        <p:spPr>
          <a:xfrm>
            <a:off x="457200" y="1700280"/>
            <a:ext cx="8229600" cy="4873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s competente para conocer de los asuntos de violencia intrafamiliar  que </a:t>
            </a:r>
            <a:r>
              <a:rPr b="0" lang="es-ES" sz="2000" spc="-1" strike="noStrike" u="sng">
                <a:solidFill>
                  <a:srgbClr val="53548a"/>
                </a:solidFill>
                <a:uFillTx/>
                <a:latin typeface="Georgia"/>
              </a:rPr>
              <a:t>no sean constitutivos de delito </a:t>
            </a:r>
            <a:r>
              <a:rPr b="0" lang="es-ES" sz="2000" spc="-1" strike="noStrike">
                <a:solidFill>
                  <a:srgbClr val="53548a"/>
                </a:solidFill>
                <a:latin typeface="Georgia"/>
              </a:rPr>
              <a:t>el tribunal de familia en cuyo territorio jurisdiccional tenga residencia o domicilio el afectado.</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Será constitutivo de violencia intrafamiliar todo maltrato que afecte la vida o la integridad física o psíquica de quien tenga o haya tenido la calidad de cónyuge del ofensor o una relación de convivencia con él; o sea pariente por consanguinidad o por afinidad en toda la línea recta o en la colateral hasta el tercer grado inclusive, del ofensor o de su cónyuge o de su actual conviviente.</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También habrá violencia intrafamiliar cuando la conducta referida anteriormente ocurra entre los padres de un hijo común, o recaiga sobre persona menor de edad, adulto mayor o discapacitada que se encuentre bajo el cuidado o dependencia de cualquiera de los integrantes del grupo familiar.</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4 Marcador de contenido" descr="violencia.jpg"/>
          <p:cNvPicPr/>
          <p:nvPr/>
        </p:nvPicPr>
        <p:blipFill>
          <a:blip r:embed="rId1"/>
          <a:stretch/>
        </p:blipFill>
        <p:spPr>
          <a:xfrm>
            <a:off x="324000" y="692280"/>
            <a:ext cx="8507160" cy="5761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692280"/>
            <a:ext cx="8229600" cy="5881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icio Procedimiento:</a:t>
            </a:r>
            <a:endParaRPr b="0" lang="en-US" sz="24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manda</a:t>
            </a:r>
            <a:endParaRPr b="0" lang="en-US" sz="22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nuncia </a:t>
            </a:r>
            <a:endParaRPr b="0" lang="en-US" sz="22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s partes podrán comparecer y actuar sin necesidad de mandatario judicial ni de abogado patrocinante, a menos que el juez lo estime necesario. </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manda podrá ser presentada por la víctima; ascendientes; descendientes; guardadores o personas que tengan a la víctima bajo su cuidado y deberá contener requisitos comunes a toda demanda civil.</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el caso de la denuncia, además de los anteriores sujetos referidos, podrá ser presentada por un tercero que tenga conocimiento directos de los hechos.</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nuncia hecha por la víctima le da el carácter de parte den el procedimiento, no así a las demás personas con legitimidad para realiza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692280"/>
            <a:ext cx="8229600" cy="588168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Tienen obligación de denunciar personal de carabineros, investigaciones, </a:t>
            </a:r>
            <a:r>
              <a:rPr b="0" lang="es-CL" sz="2000" spc="-1" strike="noStrike">
                <a:solidFill>
                  <a:srgbClr val="53548a"/>
                </a:solidFill>
                <a:latin typeface="Georgia"/>
              </a:rPr>
              <a:t>profesionales</a:t>
            </a:r>
            <a:r>
              <a:rPr b="0" lang="es-ES" sz="2000" spc="-1" strike="noStrike">
                <a:solidFill>
                  <a:srgbClr val="53548a"/>
                </a:solidFill>
                <a:latin typeface="Georgia"/>
              </a:rPr>
              <a:t> servicios de salud, </a:t>
            </a:r>
            <a:r>
              <a:rPr b="0" lang="es-CL" sz="2000" spc="-1" strike="noStrike">
                <a:solidFill>
                  <a:srgbClr val="53548a"/>
                </a:solidFill>
                <a:latin typeface="Georgia"/>
              </a:rPr>
              <a:t>fiscales y empleados públicos; los jefes de puertos, aeropuertos, estaciones de trenes o buses y otros análogos; los directores, inspectores y profesores de establecimientos educacionales so pena de multa.</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Como actuaciones previas:</a:t>
            </a:r>
            <a:endParaRPr b="0" lang="en-US" sz="2000" spc="-1" strike="noStrike">
              <a:solidFill>
                <a:srgbClr val="000000"/>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requerirá del Registro Civil un extracto de filiación del denunciado o demandad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Si lo hecho denunciado o demandados revisten caracteres de delito, enviará de inmediato los antecedentes al Ministerio Públic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Ante la demanda o denuncia de un tercero, el juez la pondrá en conocimiento de la víctima por el medio más idóneo, directo y seguro para su integridad.</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odrá recoger testimonio del demandante o denunciante.</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ude decretar en cualquier estado del proceso, de oficio cuando haya un riesgo inminente o a petición de parte, una o más medidas cautelares con el solo mérito de la presentación.</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476280"/>
            <a:ext cx="8229600" cy="609768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edidas Cautelares</a:t>
            </a:r>
            <a:endParaRPr b="0" lang="en-US" sz="2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ohibir </a:t>
            </a:r>
            <a:r>
              <a:rPr b="0" lang="es-CL" sz="1800" spc="-1" strike="noStrike">
                <a:solidFill>
                  <a:srgbClr val="000000"/>
                </a:solidFill>
                <a:latin typeface="Georgia"/>
              </a:rPr>
              <a:t>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gurar la entrega material de los efectos personales de la víctima que optare por no regresar al hogar común.</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Fijar alimentos provisorios </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Determinar un régimen provisorio de cuidado personal de los niños, niñas o adolescentes, y establecer la forma en que se mantendrá una relación directa y regular entre los progenitores y sus hij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prohibición de celebrar actos o contrat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rohibir el porte y tenencia o incautar cualquier arma de fuego. De lo cual informará a la Dirección General de Movilización, a la Comandancia de Guarnición o al Director del Servicio respectivo.</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reserva de la identidad del tercero denunciante.</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ablecer medidas de protección para adultos mayores o personas afectadas por alguna incapacidad o discapacidad.</a:t>
            </a: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476280"/>
            <a:ext cx="8229600" cy="6097680"/>
          </a:xfrm>
          <a:prstGeom prst="rect">
            <a:avLst/>
          </a:prstGeom>
          <a:noFill/>
          <a:ln w="0">
            <a:noFill/>
          </a:ln>
        </p:spPr>
        <p:txBody>
          <a:bodyPr anchor="t">
            <a:normAutofit/>
          </a:bodyPr>
          <a:p>
            <a:pPr marL="450720" indent="-34272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podrán decretarse las medidas cautelares especiales previstas en el procedimiento de protección (artículo 71)</a:t>
            </a: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tas u otras medidas cautelares podrán decretarse por un período que no excederá los 180 días hábiles, renovables, por una sola vez, hasta por igual plazo y podrán, asimismo, ampliarse, limitarse, modificarse, sustituirse o dejarse sin efecto, de oficio o a petición de parte, en cualquier momento del juicio.</a:t>
            </a:r>
            <a:r>
              <a:rPr b="0" lang="es-CL" sz="1800" spc="-1" strike="noStrike">
                <a:solidFill>
                  <a:srgbClr val="000000"/>
                </a:solidFill>
                <a:latin typeface="Georgia"/>
              </a:rPr>
              <a:t>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n caso de incumplimiento de las medidas cautelares, el juez pondrá en conocimiento del Ministerio Público los antecedentes para los efectos de lo previsto en el inciso segundo del artículo 240 del Código de Procedimiento Civil (el que quebrante lo ordenado cumplir será sancionado con reclusión menor en su grado medio a máximo). Sin perjuicio de ello, impondrá al infractor, como medida de apremio, arresto hasta por quince días.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Mediación Familiar (art. 103 a 114)</a:t>
            </a:r>
            <a:endParaRPr b="0" lang="en-US" sz="2400" spc="-1" strike="noStrike">
              <a:solidFill>
                <a:srgbClr val="424456"/>
              </a:solidFill>
              <a:latin typeface="Trebuchet MS"/>
            </a:endParaRPr>
          </a:p>
        </p:txBody>
      </p:sp>
      <p:sp>
        <p:nvSpPr>
          <p:cNvPr id="232" name="PlaceHolder 2"/>
          <p:cNvSpPr>
            <a:spLocks noGrp="1"/>
          </p:cNvSpPr>
          <p:nvPr>
            <p:ph/>
          </p:nvPr>
        </p:nvSpPr>
        <p:spPr>
          <a:xfrm>
            <a:off x="468360" y="1267920"/>
            <a:ext cx="822960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iende por mediación aquel sistema de resolución de conflictos en el que un mediador, ayuda a las partes a buscar </a:t>
            </a:r>
            <a:r>
              <a:rPr b="0" lang="es-ES" sz="1800" spc="-1" strike="noStrike" u="sng">
                <a:solidFill>
                  <a:srgbClr val="53548a"/>
                </a:solidFill>
                <a:uFillTx/>
                <a:latin typeface="Georgia"/>
              </a:rPr>
              <a:t>por si mismas</a:t>
            </a:r>
            <a:r>
              <a:rPr b="0" lang="es-ES" sz="1800" spc="-1" strike="noStrike">
                <a:solidFill>
                  <a:srgbClr val="53548a"/>
                </a:solidFill>
                <a:latin typeface="Georgia"/>
              </a:rPr>
              <a:t> una solución al conflicto y sus efectos, mediante acuerd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causas relativas al derecho de alimentos, cuidado personal y al derecho de los padres e hijos e hijas que vivan separados a mantener una relación directa y regular, aún cuando se deban tratar en el marco de una acción de divorcio o separación judicial, </a:t>
            </a:r>
            <a:r>
              <a:rPr b="0" lang="es-ES" sz="1800" spc="-1" strike="noStrike" u="sng">
                <a:solidFill>
                  <a:srgbClr val="53548a"/>
                </a:solidFill>
                <a:uFillTx/>
                <a:latin typeface="Georgia"/>
              </a:rPr>
              <a:t>deberán</a:t>
            </a:r>
            <a:r>
              <a:rPr b="0" lang="es-ES" sz="1800" spc="-1" strike="noStrike">
                <a:solidFill>
                  <a:srgbClr val="53548a"/>
                </a:solidFill>
                <a:latin typeface="Georgia"/>
              </a:rPr>
              <a:t> someterse a un procedimiento de mediación previo a la interposición de la demanda. (mediación obligatoria art. 106).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53548a"/>
                </a:solidFill>
                <a:uFillTx/>
                <a:latin typeface="Georgia"/>
              </a:rPr>
              <a:t>No se someterán</a:t>
            </a:r>
            <a:r>
              <a:rPr b="0" lang="es-ES" sz="1800" spc="-1" strike="noStrike">
                <a:solidFill>
                  <a:srgbClr val="53548a"/>
                </a:solidFill>
                <a:latin typeface="Georgia"/>
              </a:rPr>
              <a:t> a mediación los asuntos relativos al estado civil de las personas, la declaración de interdicción; las causas sobre maltrato de niños o niñas o adolescentes, y los procedimientos regulados e la ley Nª 19.620, sobre adopción (mediación prohibida art. 106). .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tantes materias de competencia de los juzgados de familiar, </a:t>
            </a:r>
            <a:r>
              <a:rPr b="0" lang="es-ES" sz="1800" spc="-1" strike="noStrike" u="sng">
                <a:solidFill>
                  <a:srgbClr val="53548a"/>
                </a:solidFill>
                <a:uFillTx/>
                <a:latin typeface="Georgia"/>
              </a:rPr>
              <a:t>podrán</a:t>
            </a:r>
            <a:r>
              <a:rPr b="0" lang="es-ES" sz="1800" spc="-1" strike="noStrike">
                <a:solidFill>
                  <a:srgbClr val="53548a"/>
                </a:solidFill>
                <a:latin typeface="Georgia"/>
              </a:rPr>
              <a:t> ser sometidas a mediación si así lo acuerdan o lo aceptan las partes (mediación facultativa y permitida art. 106). .</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620280"/>
            <a:ext cx="8229600" cy="5953320"/>
          </a:xfrm>
          <a:prstGeom prst="rect">
            <a:avLst/>
          </a:prstGeom>
          <a:noFill/>
          <a:ln w="0">
            <a:noFill/>
          </a:ln>
        </p:spPr>
        <p:txBody>
          <a:bodyPr anchor="t">
            <a:normAutofit fontScale="90000"/>
          </a:bodyPr>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Preparatoria.</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udiencia preparatoria. Recibida la demanda o denuncia, el juez citará a las partes a la audiencia preparatoria, la que deberá efectuarse dentro de los diez días siguientes.</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n todo caso, el denunciado o demandado deberá comparecer personalmente, debiendo para estos efectos citarlo el tribunal bajo apercibimiento de arresto</a:t>
            </a:r>
            <a:r>
              <a:rPr b="0" lang="es-ES" sz="1800" spc="-1" strike="noStrike">
                <a:solidFill>
                  <a:srgbClr val="000000"/>
                </a:solidFill>
                <a:latin typeface="Georgia"/>
              </a:rPr>
              <a:t>.</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 audiencia, en cuanto a su forma y contenido, será llevará a cabo conforme las reglas  pertinentes del procedimiento ordinario. </a:t>
            </a:r>
            <a:endParaRPr b="0" lang="en-US" sz="1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de Juicio</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terminará por: </a:t>
            </a:r>
            <a:endParaRPr b="0" lang="en-US" sz="1800" spc="-1" strike="noStrike">
              <a:solidFill>
                <a:srgbClr val="000000"/>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Requerimiento de la víctim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rchivo</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uspensión condicional de la 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92280"/>
            <a:ext cx="8229600" cy="5881680"/>
          </a:xfrm>
          <a:prstGeom prst="rect">
            <a:avLst/>
          </a:prstGeom>
          <a:noFill/>
          <a:ln w="0">
            <a:noFill/>
          </a:ln>
        </p:spPr>
        <p:txBody>
          <a:bodyPr anchor="t">
            <a:normAutofit/>
          </a:bodyPr>
          <a:p>
            <a:pPr marL="457200" indent="-457200" algn="jus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querimiento de la víctima</a:t>
            </a:r>
            <a:endParaRPr b="0" lang="en-US" sz="2400" spc="-1" strike="noStrike">
              <a:solidFill>
                <a:srgbClr val="000000"/>
              </a:solidFill>
              <a:latin typeface="Georgia"/>
            </a:endParaRPr>
          </a:p>
          <a:p>
            <a:pPr marL="457200" indent="-457200"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ea typeface="Times New Roman"/>
              </a:rPr>
              <a:t>	</a:t>
            </a:r>
            <a:r>
              <a:rPr b="0" lang="es-CL" sz="1800" spc="-1" strike="noStrike">
                <a:solidFill>
                  <a:srgbClr val="000000"/>
                </a:solidFill>
                <a:latin typeface="Arial Narrow"/>
                <a:ea typeface="Times New Roman"/>
              </a:rPr>
              <a:t> </a:t>
            </a:r>
            <a:r>
              <a:rPr b="0" lang="es-CL" sz="1800" spc="-1" strike="noStrike">
                <a:solidFill>
                  <a:srgbClr val="783a7a"/>
                </a:solidFill>
                <a:latin typeface="Georgia"/>
              </a:rPr>
              <a:t>Cuando el proceso se hubiere iniciado por demanda o denuncia de un tercero, el juez de familia, durante la audiencia preparatoria y previo informe del Consejo Técnico, podrá poner término al proceso a requerimiento de la víctima, siempre que su voluntad sea manifestada libre y espontáneamente.</a:t>
            </a: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Archivo</a:t>
            </a:r>
            <a:endParaRPr b="0" lang="en-US" sz="24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llegado el día de la celebración de la audiencia respectiva, no concurriere ninguna de las partes que figuren en el proceso, y el demandante o denunciante no pidiere una nueva citación dentro de quinto día, el juez de familia ordenará el archivo provisional de los antecedentes, pudiendo el denunciante o demandante solicitar, en cualquier momento, la reapertura del procedimiento. Transcurrido un año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1800" spc="-1" strike="noStrike">
              <a:solidFill>
                <a:srgbClr val="000000"/>
              </a:solidFill>
              <a:latin typeface="Georgia"/>
            </a:endParaRPr>
          </a:p>
          <a:p>
            <a:pPr marL="457200" indent="-457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5280" y="620280"/>
            <a:ext cx="8229600" cy="6048360"/>
          </a:xfrm>
          <a:prstGeom prst="rect">
            <a:avLst/>
          </a:prstGeom>
          <a:noFill/>
          <a:ln w="0">
            <a:noFill/>
          </a:ln>
        </p:spPr>
        <p:txBody>
          <a:bodyPr anchor="t">
            <a:normAutofit fontScale="90000"/>
          </a:bodyPr>
          <a:p>
            <a:pPr marL="560160" indent="-462960" algn="just">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uspensión condicional de la dictación de la sentencia definitiva</a:t>
            </a:r>
            <a:endParaRPr b="0" lang="en-US" sz="24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000000"/>
                </a:solidFill>
                <a:latin typeface="Georgia"/>
              </a:rPr>
              <a:t>Si el denunciado o demandado reconoce ante el tribunal los hechos en cuestión y existen antecedentes que permiten presumir fundadamente que no ejecutará actos similares en lo sucesivo, el juez podrá suspender condicionalmente la dictación de la sentencia, siempre y cuando se cumpla cualquiera de las siguientes condiciones:</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a) </a:t>
            </a:r>
            <a:r>
              <a:rPr b="0" lang="es-CL" sz="1800" spc="-1" strike="noStrike">
                <a:solidFill>
                  <a:srgbClr val="783a7a"/>
                </a:solidFill>
                <a:latin typeface="Georgia"/>
              </a:rPr>
              <a:t>Que se hayan establecido y aceptado por las partes obligaciones específicas y determinadas sobre sus relaciones de familia y aquéllas de carácter reparatorio a satisfacción de la víctima.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b) </a:t>
            </a:r>
            <a:r>
              <a:rPr b="0" lang="es-CL" sz="1800" spc="-1" strike="noStrike">
                <a:solidFill>
                  <a:srgbClr val="783a7a"/>
                </a:solidFill>
                <a:latin typeface="Georgia"/>
              </a:rPr>
              <a:t>Que se haya adquirido por el demandado o denunciado, con el acuerdo de la víctima, el compromiso de observancia de una o más de las medidas cautelares previstas en la ley por un lapso no inferior a seis meses ni superior a un año.</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ara efectos de la suspensión condicional, el juez </a:t>
            </a:r>
            <a:r>
              <a:rPr b="0" lang="es-CL" sz="1800" spc="-1" strike="noStrike" u="sng">
                <a:solidFill>
                  <a:srgbClr val="000000"/>
                </a:solidFill>
                <a:uFillTx/>
                <a:latin typeface="Georgia"/>
              </a:rPr>
              <a:t>debe</a:t>
            </a:r>
            <a:r>
              <a:rPr b="0" lang="es-CL" sz="1800" spc="-1" strike="noStrike">
                <a:solidFill>
                  <a:srgbClr val="000000"/>
                </a:solidFill>
                <a:latin typeface="Georgia"/>
              </a:rPr>
              <a:t> ser asesorado por uno o más miembros del Consejo Técnico, asegurándose de que las partes estén en capacidad para negociar libremente y en un plano de igualdad.</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549000"/>
            <a:ext cx="8229600" cy="6024600"/>
          </a:xfrm>
          <a:prstGeom prst="rect">
            <a:avLst/>
          </a:prstGeom>
          <a:noFill/>
          <a:ln w="0">
            <a:noFill/>
          </a:ln>
        </p:spPr>
        <p:txBody>
          <a:bodyPr anchor="t">
            <a:normAutofit fontScale="97000"/>
          </a:bodyPr>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resolución que apruebe la suspensión de la sentencia será inscrita en el registro especial que para estos procesos mantiene el Servicio de Registro Civil e Identificación, al igual que la sentencia.</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 procederá la suspensión condicional de la dictación de la sentencia en los siguientes casos:</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el juez estima conveniente la continuación del proceso;</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ha habido denuncia o demanda previa sobre la comisión de actos de violencia intrafamiliar en contra del denunciado o demandado, cualquiera que haya sido la víctima de éstos; y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el demandado o denunciado hubiere sido condenado previamente por la comisión de algún crimen o simple delito contra las personas, o por los delitos de violación, estupro, incesto y delitos sexuales, en general.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Revocación. Si la persona denunciada o demandada incurre en nuevos actos de violencia intrafamiliar en el período de condicionalidad, o incumple las obligaciones o medidas cautelares acordadas el tribunal dictará sentencia, acumulándose  los antecedentes al nuevo proceso en los casos de nuevo acto de violencia.</a:t>
            </a:r>
            <a:endParaRPr b="0" lang="en-US" sz="1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20280"/>
            <a:ext cx="8229600" cy="595332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l efecto de la suspensión condicional la dictación de la sentencia, es que si ha transcurrido un año desde su adopción, si el denunciado o demandado ha dado cumplimiento satisfactorio a las condiciones impuestas, el tribunal dictará una resolución reconociendo tal hecho, ordenando el archivo de los antecedentes y disponiendo la eliminación de la anotación en el registro de personas condenadas por actos de violencia intrafamiliar.</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Sentencia Definitiva</a:t>
            </a:r>
            <a:endParaRPr b="0" lang="en-US" sz="24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    </a:t>
            </a:r>
            <a:r>
              <a:rPr b="0" lang="es-CL" sz="2000" spc="-1" strike="noStrike">
                <a:solidFill>
                  <a:srgbClr val="783a7a"/>
                </a:solidFill>
                <a:latin typeface="Georgia"/>
              </a:rPr>
              <a:t>La sentencia contendrá un pronunciamiento sobre la existencia de hechos constitutivos de violencia intrafamiliar, establecerá la responsabilidad del denunciado o demandado y, en su caso, la sanción aplicable. </a:t>
            </a:r>
            <a:endParaRPr b="0" lang="en-US" sz="20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783a7a"/>
                </a:solidFill>
                <a:latin typeface="Georgia"/>
              </a:rPr>
              <a:t>  </a:t>
            </a:r>
            <a:r>
              <a:rPr b="0" lang="es-CL" sz="2000" spc="-1" strike="noStrike">
                <a:solidFill>
                  <a:srgbClr val="783a7a"/>
                </a:solidFill>
                <a:latin typeface="Georgia"/>
              </a:rPr>
              <a:t>La nueva ley de violencia intrafamiliar establece que el maltrato constitutivo de violencia intrafamiliar, atendida su gravedad, será sancionado con una multa de media a quince unidades tributarias mensuales a beneficio del gobierno regional del domicilio del denunciante o demandante</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68360" y="476280"/>
            <a:ext cx="8229600" cy="612144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Además de lo sanción de multa, la nueva ley de violencia intrafamiliar impone al juez el deber de aplicar en la sentencia una o más de las siguientes medidas accesorias:</a:t>
            </a:r>
            <a:endParaRPr b="0" lang="en-US" sz="1800" spc="-1" strike="noStrike">
              <a:solidFill>
                <a:srgbClr val="000000"/>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a) Obligación de abandonar el ofensor el hogar que comparte con la víctima.</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b) Prohibición de acercarse a la víctima o a su domicilio, lugar de trabajo o de estudio. Si ambos trabajan o estudian en el mismo lugar se oficiará al empleador o director del establecimiento para que adopte las medidas de resguardo necesarias.</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c) Prohibición de porte y tenencia y, en su caso, el comiso, de armas de fuego. De ello se informará, según corresponda, a la Dirección General de Movilización, a la Comandancia de Guarnición o al Director de Servicio respectivo, para los fines legales y reglamentarios que correspondan.</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d) La asistencia obligatoria a programas terapéuticos o de orientación familiar. Las instituciones que desarrollen dichos programas darán cuenta al respectivo tribunal del tratamiento que deba seguir el agresor, de su inicio y término.</a:t>
            </a:r>
            <a:endParaRPr b="0" lang="en-US" sz="1700" spc="-1" strike="noStrike">
              <a:solidFill>
                <a:srgbClr val="438086"/>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l juez fijará el plazo de estas medidas, que no podrá ser inferior a seis meses ni superior a un año, prorrogable, a petición de la víctima, si se mantienen los hechos que las justificar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n caso de incumplimiento de las medidas cautelares o accesorias decretadas, con excepción de aquella prevista en la letra d) supra, el juez pondrá en conocimiento del Ministerio Público los antecedentes para los efectos del </a:t>
            </a:r>
            <a:r>
              <a:rPr b="0" lang="es-CL" sz="1800" spc="-1" strike="noStrike" u="sng">
                <a:solidFill>
                  <a:srgbClr val="783a7a"/>
                </a:solidFill>
                <a:uFillTx/>
                <a:latin typeface="Georgia"/>
              </a:rPr>
              <a:t>delito de desacato</a:t>
            </a:r>
            <a:r>
              <a:rPr b="0" lang="es-CL" sz="1800" spc="-1" strike="noStrike">
                <a:solidFill>
                  <a:srgbClr val="000000"/>
                </a:solidFill>
                <a:latin typeface="Georgia"/>
              </a:rPr>
              <a:t>, sin perjuicio de imponer al infractor, como medida de apremio, arresto hasta por quince días. Además, la policía deberá detener a quien sea sorprendido en quebrantamiento flagrante de las medida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el juez resolverá la obligación del  condenado de pagar a la víctima los desembolsos y perjuicios de carácter patrimonial que se hubieren ocasionado con la ejecución del o los actos constitutivos de violencia intrafamilia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También se resolverá otros asuntos acumulados como alimentos definitivos, el régimen de cuidado personal y de relación directa y regular de los hij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549000"/>
            <a:ext cx="8229600" cy="5576760"/>
          </a:xfrm>
          <a:prstGeom prst="rect">
            <a:avLst/>
          </a:prstGeom>
          <a:noFill/>
          <a:ln w="0">
            <a:noFill/>
          </a:ln>
        </p:spPr>
        <p:txBody>
          <a:bodyPr anchor="t">
            <a:normAutofit/>
          </a:bodyPr>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Los actos judiciales no contenciosos son aquellos en los cuales, no obstante no existir controversia alguna entre partes, requieren la intervención de los tribunales; algunos de ellos son de competencia de los Juzgados de Familia, tal como la emancipación voluntaria del hijo de familia, el nombramiento y discernimiento de los cargos de tutores y curadores, y la rectificación de partidas, por mencionar algunos.</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La solicitud podrá ser presentada por escrito y el juez podrá resolverla de plano, a menos que considere necesario oír a los interesados. En tal caso, citará a una audiencia, a la que concurrirán con todos sus antecedentes, a fin de resolver en ella la cuestión no contenciosa sometida a su conocimiento.</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691920"/>
            <a:ext cx="9144000" cy="649080"/>
          </a:xfrm>
          <a:prstGeom prst="rect">
            <a:avLst/>
          </a:prstGeom>
          <a:noFill/>
          <a:ln w="0">
            <a:noFill/>
          </a:ln>
        </p:spPr>
        <p:txBody>
          <a:bodyPr anchor="ctr">
            <a:noAutofit/>
          </a:bodyPr>
          <a:p>
            <a:pPr marL="457200" indent="-457200">
              <a:buClr>
                <a:srgbClr val="424456"/>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Procedimiento Contravencional </a:t>
            </a:r>
            <a:br>
              <a:rPr sz="3600"/>
            </a:br>
            <a:r>
              <a:rPr b="0" lang="es-ES" sz="3600" spc="-1" strike="noStrike">
                <a:solidFill>
                  <a:srgbClr val="424456"/>
                </a:solidFill>
                <a:latin typeface="Trebuchet MS"/>
              </a:rPr>
              <a:t> </a:t>
            </a:r>
            <a:endParaRPr b="0" lang="en-US" sz="3600" spc="-1" strike="noStrike">
              <a:solidFill>
                <a:srgbClr val="424456"/>
              </a:solidFill>
              <a:latin typeface="Trebuchet MS"/>
            </a:endParaRPr>
          </a:p>
        </p:txBody>
      </p:sp>
      <p:sp>
        <p:nvSpPr>
          <p:cNvPr id="330" name="PlaceHolder 2"/>
          <p:cNvSpPr>
            <a:spLocks noGrp="1"/>
          </p:cNvSpPr>
          <p:nvPr>
            <p:ph/>
          </p:nvPr>
        </p:nvSpPr>
        <p:spPr>
          <a:xfrm>
            <a:off x="250560" y="1125000"/>
            <a:ext cx="8569080" cy="547236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s 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se verán conforme este procedimiento y constituyen faltas administrativas para todos los efectos legales</a:t>
            </a:r>
            <a:r>
              <a:rPr b="0" lang="es-CL" sz="2000" spc="-1" strike="noStrike">
                <a:solidFill>
                  <a:srgbClr val="000000"/>
                </a:solidFill>
                <a:latin typeface="Georgia"/>
              </a:rPr>
              <a:t>.</a:t>
            </a:r>
            <a:r>
              <a:rPr b="0" lang="es-CL" sz="2000" spc="-1" strike="noStrike">
                <a:solidFill>
                  <a:srgbClr val="000000"/>
                </a:solidFill>
                <a:latin typeface="Georgia"/>
              </a:rPr>
              <a:t>	</a:t>
            </a:r>
            <a:endParaRPr b="0" lang="en-US" sz="20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tribunal competente para este procedimiento es el del lugar donde se ejecutó el hecho (art. 102 C) o el domicilio del infractor en el caso de un hecho delictivo cometido por  un menor.</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podrá iniciarse con el sólo merito del parte policial que de cuenta de la denuncia interpuesta por un particular o de la falta flagrante en que se haya sorprendido a un adolescente. Los particulares también podrán formular la denuncia directamente al tribunal.</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realización de la primera audiencia a que deba comparecer el “imputado” deberá notificarse también a sus padres o a la persona que lo tenga bajo su cuidado, y al denunciante o al afectado, según corresponda. Todos quienes sean citados deberán concurrir a la audiencia con sus medios de prueba (art. 102 E).</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i el adolescente no concurriere a la primera citación, el tribunal podrá ordenar que sea conducido a su presencia por medio de la fuerza pública (art. 102 F).</a:t>
            </a:r>
            <a:endParaRPr b="0" lang="en-US" sz="1800" spc="-1" strike="noStrike">
              <a:solidFill>
                <a:srgbClr val="000000"/>
              </a:solidFill>
              <a:latin typeface="Georgia"/>
            </a:endParaRPr>
          </a:p>
          <a:p>
            <a:pPr marL="353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78920" y="3213000"/>
            <a:ext cx="8496360" cy="3456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 el adolescente negare los hechos o guardare silencio, se realizará el juzgamiento de inmediato, procediéndose a oír a los comparecientes y a recibir la prueba, tras lo cual se preguntará al adolescente si tiene algo que agregar. Con su declaración o sin ella, el juez pronunciará sentencia de absolución o conden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podrá imponer al adolescente únicamente –pero  es posible más de una-   alguna de las siguientes sanciones contravencionales:</a:t>
            </a:r>
            <a:endParaRPr b="0" lang="en-US" sz="1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Amonestación.</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Reparación material del dañ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etición de disculpas al ofendido o afectad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Multa de hasta dos Unidades Tributarias Mensuales.</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Servicios de beneficio de la comunidad, de ejecución instantánea o por un máximo de tres horas, y</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rohibición temporal de asistir a determinados espectáculos, hasta por tres meses.</a:t>
            </a:r>
            <a:endParaRPr b="0" lang="en-US" sz="1500" spc="-1" strike="noStrike">
              <a:solidFill>
                <a:srgbClr val="438086"/>
              </a:solidFill>
              <a:latin typeface="Georgia"/>
            </a:endParaRPr>
          </a:p>
        </p:txBody>
      </p:sp>
      <p:sp>
        <p:nvSpPr>
          <p:cNvPr id="332" name="Rectangle 6"/>
          <p:cNvSpPr/>
          <p:nvPr/>
        </p:nvSpPr>
        <p:spPr>
          <a:xfrm>
            <a:off x="395280" y="836640"/>
            <a:ext cx="8353440" cy="267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Al inicio de la audiencia el juez explicará al adolescente sus derechos y, lo interrogará sobre la veracidad de los hechos imputados por el requerimiento. En caso de que el adolescente reconozca los hechos, el juez dictará sentencia de inmediato, la que no será susceptible de recurso alguno.</a:t>
            </a:r>
            <a:endParaRPr b="0" lang="en-US" sz="1600" spc="-1" strike="noStrike">
              <a:solidFill>
                <a:srgbClr val="000000"/>
              </a:solidFill>
              <a:latin typeface="Arial"/>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la sentencia se podrá imponer la sanción de amonestación si ésta resulta proporcionada a la gravedad de los hechos y a la edad del adolescente para responsabilizarlo por la contravención, a menos que mediare reiteración , en cuyo caso deberá imponerse alguna de las restantes sanciones previstas en el art. 102 J.</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Las sentencias definitivas dictadas en procesos por infracciones cometidas por adolescentes  serán inapelables (art. 102 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178920" y="764640"/>
            <a:ext cx="8425080" cy="504036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llegar a acuerdo sobre todos o algunos de los puntos sometidos a mediación, se dejará constancia de ello en un </a:t>
            </a:r>
            <a:r>
              <a:rPr b="0" lang="es-ES" sz="1800" spc="-1" strike="noStrike" u="sng">
                <a:solidFill>
                  <a:srgbClr val="53548a"/>
                </a:solidFill>
                <a:uFillTx/>
                <a:latin typeface="Georgia"/>
              </a:rPr>
              <a:t>acta de mediación</a:t>
            </a:r>
            <a:r>
              <a:rPr b="0" lang="es-ES" sz="1800" spc="-1" strike="noStrike">
                <a:solidFill>
                  <a:srgbClr val="53548a"/>
                </a:solidFill>
                <a:latin typeface="Georgia"/>
              </a:rPr>
              <a:t>, la que, luego de ser leída por los participantes, será firmada por ellos y por el mediador, quedando una copia en poder de cada una de las partes. El  mediador debe remitirla al tribunal para su aprobación en todo aquello que no fuere contrario a derecho.</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mediación se frustrare, también se levantará un acta en la que se dejará constancia del término de la mediación. En lo posible, dicha acta será firmada por los participantes, se entregará copia de la misma a aquella parte que la solicite y se remitirá al tribunal correspondiente, con lo cual terminará la suspensión del procedimiento judicial o, en su caso, la parte solicitante quedará habilitada para demandar.</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 entenderá que la mediación se frustra si alguno de los participantes, citado por dos veces no concurriere a la sesión inicial ni justificare causa; si, habiendo concurrido a las sesiones manifiesta su voluntad de no perseverar en la mediación, y, en general, en cualquier momento en que el mediador adquiera la convicción de que no se alcanzará acuerdo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Procedimiento Ordinario </a:t>
            </a:r>
            <a:endParaRPr b="0" lang="en-US" sz="2800" spc="-1" strike="noStrike">
              <a:solidFill>
                <a:srgbClr val="424456"/>
              </a:solidFill>
              <a:latin typeface="Trebuchet MS"/>
            </a:endParaRPr>
          </a:p>
        </p:txBody>
      </p:sp>
      <p:sp>
        <p:nvSpPr>
          <p:cNvPr id="235" name=""/>
          <p:cNvSpPr txBox="1"/>
          <p:nvPr/>
        </p:nvSpPr>
        <p:spPr>
          <a:xfrm>
            <a:off x="179280" y="981000"/>
            <a:ext cx="8507520" cy="559296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e procedimiento es aplicable a todos los asuntos contenciosos cuyo conocimiento corresponda a los juzgados de familia y que no tengan señalado otro distinto en ésta u otras leyes. En cuanto a los asuntos que sí tengan otro procedimiento establecido, el procedimiento ordinario tienen carácter de supletorio.</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53548a"/>
                </a:solidFill>
                <a:latin typeface="Georgia"/>
              </a:rPr>
              <a:t>La ley obliga al juez de familia a conocer conjuntamente, en un solo proceso, de los distintos asuntos que una o ambas partes sometan a su consideración, siempre que se sustancien conforme al mismo procedimiento. </a:t>
            </a:r>
            <a:endParaRPr b="0" lang="en-US" sz="1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38086"/>
                </a:solidFill>
                <a:latin typeface="Georgia"/>
              </a:rPr>
              <a:t> </a:t>
            </a:r>
            <a:r>
              <a:rPr b="0" lang="es-MX" sz="1600" spc="-1" strike="noStrike">
                <a:solidFill>
                  <a:srgbClr val="438086"/>
                </a:solidFill>
                <a:latin typeface="Georgia"/>
              </a:rPr>
              <a:t>Sin perjuicio de lo anterior, la acumulación procederá incluso entre asuntos no sometidos al mismo procedimiento:</a:t>
            </a:r>
            <a:endParaRPr b="0" lang="en-US" sz="1600" spc="-1" strike="noStrike">
              <a:solidFill>
                <a:srgbClr val="438086"/>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3548a"/>
                </a:solidFill>
                <a:latin typeface="Georgia"/>
              </a:rPr>
              <a:t>En los casos de  violencia Intrafamiliar, el juez tiene la facultad en dicho procedimiento de fijar en la sentencia definitiva, los alimentos definitivos, el régimen de cuidado personal y de </a:t>
            </a:r>
            <a:r>
              <a:rPr b="0" lang="es-MX" sz="1400" spc="-1" strike="noStrike">
                <a:solidFill>
                  <a:srgbClr val="53548a"/>
                </a:solidFill>
                <a:latin typeface="Georgia"/>
              </a:rPr>
              <a:t>relación directa y regular de los hijos si los hubiere y cualquier otra cuestión de familia sometida a su conocimiento por las partes </a:t>
            </a:r>
            <a:endParaRPr b="0" lang="en-US" sz="1400" spc="-1" strike="noStrike">
              <a:solidFill>
                <a:srgbClr val="53548a"/>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53548a"/>
                </a:solidFill>
                <a:latin typeface="Georgia"/>
              </a:rPr>
              <a:t>Las materias relacionadas con las causas relativas al derecho de cuidado personal de los niños, niñas o adolescentes; aquellas relativas al derecho y el deber del padre o de la madre que no tenga el cuidado personal del hijo, a mantener con éste una relación directa y regular; y, los asuntos en que aparezcan niños, niñas o adolescentes gravemente vulnerados o amenazados en sus derechos, respecto de los cuales se requiera adoptar una medida de protección.</a:t>
            </a:r>
            <a:endParaRPr b="0" lang="en-US" sz="1400" spc="-1" strike="noStrike">
              <a:solidFill>
                <a:srgbClr val="53548a"/>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Georgia"/>
              </a:rPr>
              <a:t> </a:t>
            </a:r>
            <a:r>
              <a:rPr b="0" lang="es-CL" sz="1800" spc="-1" strike="noStrike">
                <a:solidFill>
                  <a:srgbClr val="53548a"/>
                </a:solidFill>
                <a:latin typeface="Georgia"/>
              </a:rPr>
              <a:t>La acumulación y desacumulación procederán sólo hasta el inicio de la audiencia preparatoria</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10 Marcador de contenido" descr="ordinario.jpg"/>
          <p:cNvPicPr/>
          <p:nvPr/>
        </p:nvPicPr>
        <p:blipFill>
          <a:blip r:embed="rId1"/>
          <a:stretch/>
        </p:blipFill>
        <p:spPr>
          <a:xfrm>
            <a:off x="900000" y="836640"/>
            <a:ext cx="7732800" cy="43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25:41Z</dcterms:created>
  <dc:creator>VERONICA BANNEN</dc:creator>
  <dc:description/>
  <dc:language>en-US</dc:language>
  <cp:lastModifiedBy>LUCARNA13</cp:lastModifiedBy>
  <dcterms:modified xsi:type="dcterms:W3CDTF">2012-05-31T23:30:18Z</dcterms:modified>
  <cp:revision>193</cp:revision>
  <dc:subject/>
  <dc:title>PROCEDIMIENTO RELATIVO A LOS ACTOS DE VIOLENCIA INTRAFAMILIAR.</dc:title>
</cp:coreProperties>
</file>