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51675" cy="12052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4B9-A5DC-420D-8646-AFE50F2E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656-DC02-49D7-B90E-CC1A69DD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7C6-BD65-4B81-8AAB-9B8ABA04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AA9-C116-4F7B-9629-5C541714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8DA4-61CA-4FEA-ABBC-C306C989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9221-6433-41E5-8158-D2D6EC70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CFFE-0BD2-4DA9-B960-4C53F6F4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916E-0099-41B4-BEFC-A9719094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B054-B068-43DE-86D0-DF1C1405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FF34-8093-4B55-9BB2-DC3C516E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1AC7-F5BD-4AF3-9F8F-4C1E2029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E8B-E0C4-4D41-BA3D-E909AA8F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5486-4EEA-4255-9E2B-14AEA663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3ACA-4288-4D58-A6AC-55B4981B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90CC-9DBB-4C07-ADD8-3CEC1C25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839E-3905-4C38-964A-65AD8138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2D2F-77B9-47C0-8F8B-A657BD3A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220-3005-4D4E-A4AE-89D08851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A99-9F28-45C5-9F25-F7BD7493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F71-1956-4C91-957A-5F0B8952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F15-527E-4012-BAF7-B0C47409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741-9663-4EC2-98D4-CC0A9CDF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77C-4323-4884-9BBE-35B822FB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CF6-5511-42CD-A97E-ED75723C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77CD-AD15-44C6-BB33-CE5DCF4466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D2B1-670D-4468-B5EB-3D8DD932FB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de Salud en Chi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lase   22  de junio de 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yudante: Jorge Ramón Martínez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A3CF-801C-4A3E-8D02-2F5F7A95A70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Régimen Público ¿cómo se financia? (continuació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n las contribuciones de parte del valor de las prestaciones, que hagan los afiliados y beneficiari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14948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ara ello, las personas se clasifican en cuatro grupos, según su nivel de ingresos: A, B, C, 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948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grupo tendrá una bonificación porcentual del sistema, debiendo pagar el res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9480" indent="-71136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B8FA-DCEE-4725-AEFA-F2C3DC9B750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Grup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</a:rPr>
              <a:t>Indigentes o carentes de recursos: </a:t>
            </a:r>
            <a:r>
              <a:rPr b="0" lang="es-ES" sz="1800" spc="-1" strike="noStrike" u="sng">
                <a:solidFill>
                  <a:srgbClr val="cc0000"/>
                </a:solidFill>
                <a:uFillTx/>
                <a:latin typeface="Verdana"/>
              </a:rPr>
              <a:t>no tienen co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filiados cuyos ingresos mensuales no excedan del IMM aplicable a trabajadores mayores de 18 años y menores de 65 años, o bien que siendo superior a éste, no excedan de 1,46 veces dicho monto, siempre que tengan 3 ó más cargas legales: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no tienen co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</a:rPr>
              <a:t>Afiliados con ingresos mensuales superiores a 1 IMM y hasta 1,46 veces IMM, siempre que cargas legales no excedan de 2: </a:t>
            </a:r>
            <a:r>
              <a:rPr b="0" lang="es-ES" sz="1800" spc="-1" strike="noStrike" u="sng">
                <a:solidFill>
                  <a:srgbClr val="cc0000"/>
                </a:solidFill>
                <a:uFillTx/>
                <a:latin typeface="Verdana"/>
              </a:rPr>
              <a:t>copago de 1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filiados con ingresos mensuales superiores a 1,46 veces IMM, con cargas legales que no excedan de 2: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copago de 20%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9CDF-3636-4AC9-A52E-21C169788EB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Financiamiento FONASA (201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1280" y="1752480"/>
          <a:ext cx="7956360" cy="2613240"/>
        </p:xfrm>
        <a:graphic>
          <a:graphicData uri="http://schemas.openxmlformats.org/drawingml/2006/table">
            <a:tbl>
              <a:tblPr/>
              <a:tblGrid>
                <a:gridCol w="3978360"/>
                <a:gridCol w="3978000"/>
              </a:tblGrid>
              <a:tr h="652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87.539.216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os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24.907.466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</a:tr>
              <a:tr h="65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orte 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90.804.773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uperación de présta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368.077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</a:tr>
            </a:tbl>
          </a:graphicData>
        </a:graphic>
      </p:graphicFrame>
      <p:sp>
        <p:nvSpPr>
          <p:cNvPr id="120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ADCB-5220-40B9-8CB1-461432DA5D7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La realidad financiera del FONASA (201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4 Marcador de contenido" descr=""/>
          <p:cNvPicPr/>
          <p:nvPr/>
        </p:nvPicPr>
        <p:blipFill>
          <a:blip r:embed="rId1"/>
          <a:stretch/>
        </p:blipFill>
        <p:spPr>
          <a:xfrm>
            <a:off x="515880" y="1701720"/>
            <a:ext cx="8102520" cy="4368960"/>
          </a:xfrm>
          <a:prstGeom prst="rect">
            <a:avLst/>
          </a:prstGeom>
          <a:ln w="0">
            <a:noFill/>
          </a:ln>
        </p:spPr>
      </p:pic>
      <p:sp>
        <p:nvSpPr>
          <p:cNvPr id="123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4315-B1BD-4FC3-830A-A04C2D6B80C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Prestacion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.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 Médica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Asistenciale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grupos A y 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Médicas con el sólo mérito de 7% de cotizació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control de embarazo y puerperio hasta 6º mes después de nacimiento de hijo, examen medicina preventiva, control niño sano hasta 6 a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Médicas con 7% de cotización más un copag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atención médica curativa, atención odontológica “según disponibilidad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I.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 Pecuniaria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ubsidios, préstamos, bonificación tarifas prestaciones médi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2CE6-41B3-4CFC-874F-0697842AB83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500040"/>
            <a:ext cx="8001000" cy="10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38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aracterísticas de grup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ramos A y B tienen derecho a 100% de bonificación estatal, pero sólo a través de modalidad institu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centajes de 100% bonificación y copagos garantizados de 10% y 20% rigen sólo en modalidad institu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Grupos B, C y D pueden optar por modalidad libre elección, pagando lo que corresponda de acuerdo con el  nivel de atención elegido: bonos nivel 1, 2, 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parto siempre tendrá una bonificación del 75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774A-154B-433B-BCFF-12323957C68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¿cómo se otorgan las prestacion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Instituciona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SN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Modalidad Libre Elección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sistema de bonos, emitidos por profesionales e instituciones previamente inscritas en niveles 1, 2 y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61928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¿Cómo se fijan las tarifas de los prestador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016000" indent="-7110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odalidad institucional y libre elecció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7742-31D9-46FB-AB7D-4DE7CC4E8DE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upervisión de los gast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. Fiscalizaciones a los prestado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i. Aplicación de criterios técnicos, absolutos y relativ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ii. Aplicación de límites financieros para determinadas prest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v. Tipos penales especiales (168-169 DFL 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.- Tipo común de fraude al fis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B4A6-FB80-4697-AC74-25AEB922675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¿caso del inmigra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úblico / privado ===cotiza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rt. 132 DFL 1: «Los servicios de salud no podrán  negar atención a quienes lo requieran, ni condicionarla al pago previo de aranceles o tarifas fijados a este efecto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ituación regular (no cotiza): «A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ituación irregular. Menores de 18 años y mujeres embarazad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9271-EBB2-4D6E-94FE-A6E763F9E34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«Derecho» a la salu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2923920"/>
            <a:ext cx="79898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Junta de Beneficencia (1886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onstitución de 1925: Art 10 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Ninguna clase de trabajo o industria puede ser prohibida, a menos que se oponga a las buenas costumbres, a la seguridad o 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a la salubridad pública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, o que lo exija el interés nacional y una ley lo declare así. Es deber del Estado velar por la salud pública y 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el bienestar higiénico del país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Deberá destinarse cada año una cantidad de dinero suficiente para mantener un servicio nacional de salubridad”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365120" indent="-4572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rimera institucionalidad de salud pública (S. Obrero de invalidez y enfermedad 1925, Ley de medicina preventiva 1938, SNS 1952, SSS, mutuales, 1674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881E-AF63-40C0-A119-136E04A05B7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15640" y="299700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La Constitución Política de 1980 garantiza (Art. 19 Nº9)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derecho público subjetivo a la protección de la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derecho a escoger entre los regímenes público y priv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igualitario acceso a acciones de promoción, protección, recuperación y rehabilitación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956A-0884-4907-977F-B99F7F17656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Normas positiv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ey 18.469 de 198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DFL 44 de 1978, del Ministerio del Trabajo y Previsión Soc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ey 18.933 de 1990, modificada por Ley 19.893 de 2003 y Ley 20.015 de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DFL 1 de 2006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Fija texto refundido, coordinado y sistematizado de DL 2763 y Leyes 18.933 y 18.46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CBE5-3198-4C43-AA7F-10D8B213AFC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inisterio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ONA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stema Nacional de Servicios de Salud (SNSS): incluye centros de atención primaria, consultorios y postas municipaliz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Fiscalización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uperintendencia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perintendencia de Seguridad Social (calific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541F-7C09-4429-ABCE-46E0370E470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Afiliación (art. 147 DFL 1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incorporación al régimen es automática, al adquirir la persona las calidade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afiliado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beneficiario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afiliación es indefini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filiados pueden optar por afiliarse a régimen privado, debiendo suscribir un contrato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afiliación a Isapre produce afiliación automática al régimen públ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168E-8D84-4011-9F52-442AB69F334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Son afiliad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rabajadores dependientes de sector público y priv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rabajadores independientes que coticen en cualquier régimen de seguridad so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tizantes volun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nsion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ienes gocen de subsidio cesantía DFL 1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ienes gocen de seguro de desempleo Ley 19.7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8559-9640-4BED-A57E-C4A71DC6AC7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Son beneficiari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trabajadores afili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causantes de asignación familiar de trabajadores afiliados y pensionados afili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s mujeres embarazadas, aun cuando no sean afiliadas, para el control del embaraz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sonas carentes de recursos y beneficiarios de pensiones solidar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usantes de S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s personas que gocen del seguro de cesantía y sus causantes de asignación famil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4900-7A71-4C8C-A87E-F2E40230559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¿Cómo se financia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 la cotización obligatoria de 7%, de cargo del trabaja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las tarifas arancelarias que paguen los NO beneficiarios por prestaciones que recib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los copagos que realicen los afiliados por las prestaciones que reciban en modalidad libre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tribución del Estado (partida del presupues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A134-C024-466C-AD50-BB1E50CF277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2:37:51Z</dcterms:created>
  <dc:creator>Invitado</dc:creator>
  <dc:description/>
  <dc:language>en-US</dc:language>
  <cp:lastModifiedBy>Derecho del Trabajo</cp:lastModifiedBy>
  <cp:lastPrinted>2012-06-22T02:02:29Z</cp:lastPrinted>
  <dcterms:modified xsi:type="dcterms:W3CDTF">2012-06-26T17:05:55Z</dcterms:modified>
  <cp:revision>28</cp:revision>
  <dc:subject/>
  <dc:title>Régimen de Salud MCG</dc:title>
</cp:coreProperties>
</file>