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51675" cy="12052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AF5-EE48-4945-8D31-E824C068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B8E-9EF0-48D0-B3B7-FB4352CA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BF18-8B36-46AE-AAAE-F141CFBC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534-EB82-4271-8ADC-03D5E8D0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AC15-05D3-42E9-ACC2-091EE358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3BE7-101F-4E7D-A14F-7B7820F7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D32A-AFE3-42F2-8A27-F1642E18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0E8D-4FFD-4815-8C0C-5B63CED5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D49A-CBE6-4E34-BCDD-F53424E5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97E1-59A9-4EDF-99DF-5A2BEF20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6264-C132-4F56-AE8A-13C27D9D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D8D-4377-4746-BB77-67A3BC58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26A3-7752-417B-9967-3C4F6846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FEC2-EBB3-49E8-A2E8-F8DF30CB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96F6-7FEE-4555-AF99-7D86E0C0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56D9-A02F-4665-A008-5EC6C034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93A5-AABE-4309-AD25-E7D49456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EA5-6B0D-4934-B04A-9EF4B8ED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B78-361F-4A38-83A5-03A82878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D88-7679-4E72-A78C-F69BECB7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C06-22A7-450B-92D3-B028FB3C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38F-D210-4D99-ADF3-D0F1AE42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9781-BFF8-4F42-B1FD-C08BA976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D97-5D03-4536-9188-77BDA15A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4783-E8FA-4B41-9E64-746D63873B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F9D1-B0DD-4DD0-BCBB-F4664EA44F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de Salud en Chi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lase   22  de junio de 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yudante: Jorge Ramón Martínez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84F6-E58E-42C3-A61D-E01CAA3AA6B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Régimen Público ¿cómo se financia? (continuació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n las contribuciones de parte del valor de las prestaciones, que hagan los afiliados y beneficiari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14948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ara ello, las personas se clasifican en cuatro grupos, según su nivel de ingresos: A, B, C, 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948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grupo tendrá una bonificación porcentual del sistema, debiendo pagar el res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9480" indent="-71136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55F5-FDD9-4FA6-ACD4-D79D18F60C4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Grup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</a:rPr>
              <a:t>Indigentes o carentes de recursos: </a:t>
            </a:r>
            <a:r>
              <a:rPr b="0" lang="es-ES" sz="1800" spc="-1" strike="noStrike" u="sng">
                <a:solidFill>
                  <a:srgbClr val="cc0000"/>
                </a:solidFill>
                <a:uFillTx/>
                <a:latin typeface="Verdana"/>
              </a:rPr>
              <a:t>no tienen co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filiados cuyos ingresos mensuales no excedan del IMM aplicable a trabajadores mayores de 18 años y menores de 65 años, o bien que siendo superior a éste, no excedan de 1,46 veces dicho monto, siempre que tengan 3 ó más cargas legales: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no tienen co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</a:rPr>
              <a:t>Afiliados con ingresos mensuales superiores a 1 IMM y hasta 1,46 veces IMM, siempre que cargas legales no excedan de 2: </a:t>
            </a:r>
            <a:r>
              <a:rPr b="0" lang="es-ES" sz="1800" spc="-1" strike="noStrike" u="sng">
                <a:solidFill>
                  <a:srgbClr val="cc0000"/>
                </a:solidFill>
                <a:uFillTx/>
                <a:latin typeface="Verdana"/>
              </a:rPr>
              <a:t>copago de 1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filiados con ingresos mensuales superiores a 1,46 veces IMM, con cargas legales que no excedan de 2: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copago de 20%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BCBF-124C-444A-97F9-FC1502EF64F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Financiamiento FONASA (201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11280" y="1752480"/>
          <a:ext cx="7956360" cy="2613240"/>
        </p:xfrm>
        <a:graphic>
          <a:graphicData uri="http://schemas.openxmlformats.org/drawingml/2006/table">
            <a:tbl>
              <a:tblPr/>
              <a:tblGrid>
                <a:gridCol w="3978360"/>
                <a:gridCol w="3978000"/>
              </a:tblGrid>
              <a:tr h="652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87.539.216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osi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24.907.466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</a:tr>
              <a:tr h="65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orte fi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90.804.773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uperación de présta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368.077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</a:tr>
            </a:tbl>
          </a:graphicData>
        </a:graphic>
      </p:graphicFrame>
      <p:sp>
        <p:nvSpPr>
          <p:cNvPr id="120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7B18-86C9-40DC-AB7E-AE7659B893C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La realidad financiera del FONASA (201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4 Marcador de contenido" descr=""/>
          <p:cNvPicPr/>
          <p:nvPr/>
        </p:nvPicPr>
        <p:blipFill>
          <a:blip r:embed="rId1"/>
          <a:stretch/>
        </p:blipFill>
        <p:spPr>
          <a:xfrm>
            <a:off x="515880" y="1701720"/>
            <a:ext cx="8102520" cy="4368960"/>
          </a:xfrm>
          <a:prstGeom prst="rect">
            <a:avLst/>
          </a:prstGeom>
          <a:ln w="0">
            <a:noFill/>
          </a:ln>
        </p:spPr>
      </p:pic>
      <p:sp>
        <p:nvSpPr>
          <p:cNvPr id="123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5350-1A3D-4ACF-BFE4-58757195951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Prestacion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.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 Médica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Asistenciale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grupos A y 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Médicas con el sólo mérito de 7% de cotizació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control de embarazo y puerperio hasta 6º mes después de nacimiento de hijo, examen medicina preventiva, control niño sano hasta 6 añ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Médicas con 7% de cotización más un copag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atención médica curativa, atención odontológica “según disponibilidad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I.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 Pecuniaria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ubsidios, préstamos, bonificación tarifas prestaciones médi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8ACD-51DE-48B8-8619-F145F7653A1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500040"/>
            <a:ext cx="8001000" cy="10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38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aracterísticas de grup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ramos A y B tienen derecho a 100% de bonificación estatal, pero sólo a través de modalidad institu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centajes de 100% bonificación y copagos garantizados de 10% y 20% rigen sólo en modalidad institu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Grupos B, C y D pueden optar por modalidad libre elección, pagando lo que corresponda de acuerdo con el  nivel de atención elegido: bonos nivel 1, 2, 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parto siempre tendrá una bonificación del 75%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B7B6-72DD-4594-BED4-1AC3A2FBD72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¿cómo se otorgan las prestacion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Instituciona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SN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Modalidad Libre Elección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sistema de bonos, emitidos por profesionales e instituciones previamente inscritas en niveles 1, 2 y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61928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¿Cómo se fijan las tarifas de los prestador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016000" indent="-7110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odalidad institucional y libre elecció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4C78-48E0-4D43-A957-5F5F0D17E5D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upervisión de los gast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. Fiscalizaciones a los prestado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i. Aplicación de criterios técnicos, absolutos y relativ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ii. Aplicación de límites financieros para determinadas prest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v. Tipos penales especiales (168-169 DFL 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.- Tipo común de fraude al fis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AE78-78D2-44C8-87A0-D16D4910881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¿caso del inmigra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úblico / privado ===cotiza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rt. 132 DFL 1: «Los servicios de salud no podrán  negar atención a quienes lo requieran, ni condicionarla al pago previo de aranceles o tarifas fijados a este efecto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ituación regular (no cotiza): «A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ituación irregular. Menores de 18 años y mujeres embarazad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B02D-615B-49A2-BA99-FA18CB22088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</a:rPr>
              <a:t>«Derecho» a la salu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2923920"/>
            <a:ext cx="79898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Junta de Beneficencia (1886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onstitución de 1925: Art 10 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Ninguna clase de trabajo o industria puede ser prohibida, a menos que se oponga a las buenas costumbres, a la seguridad o 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a la salubridad pública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, o que lo exija el interés nacional y una ley lo declare así. Es deber del Estado velar por la salud pública y 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el bienestar higiénico del país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Deberá destinarse cada año una cantidad de dinero suficiente para mantener un servicio nacional de salubridad”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365120" indent="-4572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rimera institucionalidad de salud pública (S. Obrero de invalidez y enfermedad 1925, Ley de medicina preventiva 1938, SNS 1952, SSS, mutuales, 1674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4CDC-AEAC-4656-BA70-FCAA0987493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15640" y="299700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La Constitución Política de 1980 garantiza (Art. 19 Nº9)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derecho público subjetivo a la protección de la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derecho a escoger entre los regímenes público y priv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igualitario acceso a acciones de promoción, protección, recuperación y rehabilitación de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985C-F71D-4FAD-A41A-34727942EB2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Normas positiv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ey 18.469 de 198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DFL 44 de 1978, del Ministerio del Trabajo y Previsión Soc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ey 18.933 de 1990, modificada por Ley 19.893 de 2003 y Ley 20.015 de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DFL 1 de 2006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Fija texto refundido, coordinado y sistematizado de DL 2763 y Leyes 18.933 y 18.46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4974-5CDA-4BAC-B99D-B7EB043F1F6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inisterio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ONA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stema Nacional de Servicios de Salud (SNSS): incluye centros de atención primaria, consultorios y postas municipaliz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Fiscalización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uperintendencia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perintendencia de Seguridad Social (calific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45B3-C191-4A88-A5F7-687EB61029A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Afiliación (art. 147 DFL 1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incorporación al régimen es automática, al adquirir la persona las calidade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afiliado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beneficiario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afiliación es indefini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filiados pueden optar por afiliarse a régimen privado, debiendo suscribir un contrato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afiliación a Isapre produce afiliación automática al régimen públ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C6EF-0E42-420E-AE94-E47D448BF24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Son afiliad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rabajadores dependientes de sector público y priv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rabajadores independientes que coticen en cualquier régimen de seguridad so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tizantes volunt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nsion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ienes gocen de subsidio cesantía DFL 1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ienes gocen de seguro de desempleo Ley 19.7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452A-8574-4DBA-8848-4884D9030B0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Son beneficiari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trabajadores afili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causantes de asignación familiar de trabajadores afiliados y pensionados afili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s mujeres embarazadas, aun cuando no sean afiliadas, para el control del embaraz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sonas carentes de recursos y beneficiarios de pensiones solidar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usantes de S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s personas que gocen del seguro de cesantía y sus causantes de asignación famil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A35F-E17B-44EB-A2E9-0A7C465E5AB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¿Cómo se financia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 la cotización obligatoria de 7%, de cargo del trabaja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las tarifas arancelarias que paguen los NO beneficiarios por prestaciones que recib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los copagos que realicen los afiliados por las prestaciones que reciban en modalidad libre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tribución del Estado (partida del presupues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6FE9-D153-4D8E-9127-EFC3CE95970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2:37:51Z</dcterms:created>
  <dc:creator>Invitado</dc:creator>
  <dc:description/>
  <dc:language>en-US</dc:language>
  <cp:lastModifiedBy>Derecho del Trabajo</cp:lastModifiedBy>
  <cp:lastPrinted>2012-06-22T02:02:29Z</cp:lastPrinted>
  <dcterms:modified xsi:type="dcterms:W3CDTF">2012-06-26T17:05:55Z</dcterms:modified>
  <cp:revision>28</cp:revision>
  <dc:subject/>
  <dc:title>Régimen de Salud MCG</dc:title>
</cp:coreProperties>
</file>