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51675" cy="120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0FC-2309-4CFF-8A7D-AD4CB3F9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CD0-FFF9-4AD3-9051-175DCC9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D82-D5BC-433A-AF79-DDBD82FF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968-278B-4139-89DB-E9E507AF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E25-91B3-48C9-95B1-0A14C04B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DB14-EEAE-4E2E-937A-ED2DC37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30B3-348C-45FF-A79F-D8C512B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44BA-17F1-4E13-9280-AEFF696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929-5A48-447D-881B-3D06B19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7C57-00DD-4AAA-81C3-A85F16A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B49-788A-422F-9CAD-CE83528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6CC-D3C1-47B7-9D38-69C49C7B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0C0F-D5FA-44F6-83C1-30A282E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E2A-ADC7-4D85-B159-5A98B33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518-77E1-4569-921B-C9D3B876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267F-652F-46B2-8934-F2D84BB5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AA1-C1D7-4D7B-A82E-E190DB7A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7A6-99AD-4A0D-8FBE-EF97E5A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282-BDEB-468A-9F09-DFD59C3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DBE-610B-4548-BCF4-AF9D2E5C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820-D629-40DF-9FD7-32E4B88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AB1-3302-4700-AAA4-8B597ED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D4-226E-414A-A69B-2402043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AFB-8A94-4851-97C1-D6BA3907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D8B-2319-4737-9DB1-EB1CFF9CEC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5476-FFBF-4E9E-BAAF-27BF788C10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de Salud en Chi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ase   22  de junio de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F82-2004-44F9-85B5-89F875BBDD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égimen Público ¿cómo se financia? (continuació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 las contribuciones de parte del valor de las prestaciones, que hagan los afiliados y beneficia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a ello, las personas se clasifican en cuatro grupos, según su nivel de ingresos: A, B, C, 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grupo tendrá una bonificación porcentual del sistema, debiendo pagar el r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149480" indent="-711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F72-2202-4508-90D2-E98260F47A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Gru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Indigentes o carentes de recursos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uyos ingresos mensuales no excedan del IMM aplicable a trabajadores mayores de 18 años y menores de 65 años, o bien que siendo superior a éste, no excedan de 1,46 veces dicho monto, siempre que tengan 3 ó más cargas leg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no tienen co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</a:rPr>
              <a:t>Afiliados con ingresos mensuales superiores a 1 IMM y hasta 1,46 veces IMM, siempre que cargas legales no excedan de 2: </a:t>
            </a:r>
            <a:r>
              <a:rPr b="0" lang="es-ES" sz="1800" spc="-1" strike="noStrike" u="sng">
                <a:solidFill>
                  <a:srgbClr val="cc0000"/>
                </a:solidFill>
                <a:uFillTx/>
                <a:latin typeface="Verdana"/>
              </a:rPr>
              <a:t>copago de 1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filiados con ingresos mensuales superiores a 1,46 veces IMM, con cargas legales que no excedan de 2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opago de 2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AD8A-6C9E-4800-BFB2-C3D6ED6D1F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inanciamiento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52480"/>
          <a:ext cx="7956360" cy="2613240"/>
        </p:xfrm>
        <a:graphic>
          <a:graphicData uri="http://schemas.openxmlformats.org/drawingml/2006/table">
            <a:tbl>
              <a:tblPr/>
              <a:tblGrid>
                <a:gridCol w="3978360"/>
                <a:gridCol w="3978000"/>
              </a:tblGrid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87.539.21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24.907.466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rte 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90.804.773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f6e7e7"/>
                    </a:solidFill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peración de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68.077 (M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eccbcb"/>
                    </a:solidFill>
                  </a:tcPr>
                </a:tc>
              </a:tr>
            </a:tbl>
          </a:graphicData>
        </a:graphic>
      </p:graphicFrame>
      <p:sp>
        <p:nvSpPr>
          <p:cNvPr id="120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7F7-B0EA-44F8-A208-0F803204CB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a realidad financiera del FONASA (201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4 Marcador de contenido" descr=""/>
          <p:cNvPicPr/>
          <p:nvPr/>
        </p:nvPicPr>
        <p:blipFill>
          <a:blip r:embed="rId1"/>
          <a:stretch/>
        </p:blipFill>
        <p:spPr>
          <a:xfrm>
            <a:off x="515880" y="1701720"/>
            <a:ext cx="8102520" cy="4368960"/>
          </a:xfrm>
          <a:prstGeom prst="rect">
            <a:avLst/>
          </a:prstGeom>
          <a:ln w="0">
            <a:noFill/>
          </a:ln>
        </p:spPr>
      </p:pic>
      <p:sp>
        <p:nvSpPr>
          <p:cNvPr id="12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3DF-63BA-464C-B7AB-9CC4A9F9E0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Prestacio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Médic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Asisten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grupos A y 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el sólo mérito de 7% de cotizac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control de embarazo y puerperio hasta 6º mes después de nacimiento de hijo, examen medicina preventiva, control niño sano hasta 6 a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Médicas con 7% de cotización más un copag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atención médica curativa, atención odontológica “según disponibilida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I.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 Pecuniari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sidios, préstamos, bonificación tarifas prestaciones médi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FE9-7B7D-4B73-946B-622BE4C74BD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500040"/>
            <a:ext cx="800100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38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de grup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ramos A y B tienen derecho a 100% de bonificación estatal, pero sólo a través de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centajes de 100% bonificación y copagos garantizados de 10% y 20% rigen sólo en modalidad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upos B, C y D pueden optar por modalidad libre elección, pagando lo que corresponda de acuerdo con el  nivel de atención elegido: bonos nivel 1, 2,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parto siempre tendrá una bonificación del 7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F74B-E7E5-4906-A638-A8A1644F56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¿cómo se otorgan las prestacio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Institucio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N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Modalidad Libre Elec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sistema de bonos, emitidos por profesionales e instituciones previamente inscritas en niveles 1, 2 y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619280" indent="-711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ómo se fijan las tarifas de los prestad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2016000" indent="-7110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odalidad institucional y libre elecc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EAFB-0B70-4CA3-8C48-0B2E3A6FE5E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upervisión de los gast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. Fiscalizaciones a los prestad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. Aplicación de criterios técnicos, absolutos y relativ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ii. Aplicación de límites financieros para determinadas prest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iv. Tipos penales especiales (168-169 DFL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.- Tipo común de fraude al fis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07F-41D1-4695-A400-E8F99564A1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caso del inmigra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úblico / privado ===cotiz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rt. 132 DFL 1: «Los servicios de salud no podrán  negar atención a quienes lo requieran, ni condicionarla al pago previo de aranceles o tarifas fijados a este efecto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regular (no cotiza): «A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ituación irregular. Menores de 18 años y mujeres embaraz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E08-A835-412D-BFE7-7492DDD849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«Derecho» a la salu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2923920"/>
            <a:ext cx="7989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Junta de Beneficencia (188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onstitución de 1925: Art 10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Ninguna clase de trabajo o industria puede ser prohibida, a menos que se oponga a las buenas costumbres, a la seguridad o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a la salubridad pública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, o que lo exija el interés nacional y una ley lo declare así. Es deber del Estado velar por la salud pública y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l bienestar higiénico del país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Deberá destinarse cada año una cantidad de dinero suficiente para mantener un servicio nacional de salubridad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365120" indent="-4572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imera institucionalidad de salud pública (S. Obrero de invalidez y enfermedad 1925, Ley de medicina preventiva 1938, SNS 1952, SSS, mutuales, 1674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B8A0-3CC1-427D-B5DB-31A6365D98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2997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La Constitución Política de 1980 garantiza (Art. 19 Nº9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público subjetivo a la protección de la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derecho a escoger entre los regímenes público y priv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igualitario acceso a acciones de promoción, protección, recuperación y rehabilitación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63E-4867-45F1-B977-2D6F329A43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Normas positiv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469 de 19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44 de 1978, del Ministerio del Trabajo y Previsión So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y 18.933 de 1990, modificada por Ley 19.893 de 2003 y Ley 20.015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FL 1 de 200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ja texto refundido, coordinado y sistematizado de DL 2763 y Leyes 18.933 y 18.4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9B5F-EB63-433B-9BA3-9CE52069BB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N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stema Nacional de Servicios de Salud (SNSS): incluye centros de atención primaria, consultorios y postas municip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Fiscal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perintendencia de Seguridad Social (califi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9E4-595D-44E1-A0F9-B575E03B88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filiación (art. 147 DFL 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ncorporación al régimen es automática, al adquirir la persona las calidade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afiliad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beneficiari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afiliación es indefin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filiados pueden optar por afiliarse a régimen privado, debiendo suscribir un contrat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filiación a Isapre produce afiliación automática al régimen públ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48C-72F7-4623-8970-076D1FD4EE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afili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dependientes de sector público y priv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bajadores independientes que coticen en cualquier régimen de seguridad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tizantes volu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nsion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ubsidio cesantía DFL 1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ienes gocen de seguro de desempleo Ley 19.7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7B5-21D4-4016-8AFC-4269B32686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Son beneficiar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trabajadore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causantes de asignación familiar de trabajadores afiliados y pensionados afil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mujeres embarazadas, aun cuando no sean afiliadas, para el control del embar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sonas carentes de recursos y beneficiarios de pensiones solidar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usantes de S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personas que gocen del seguro de cesantía y sus causantes de asignación fam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7258-6F97-4904-BC7C-059E37353F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égimen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Verdana"/>
              </a:rPr>
              <a:t>Público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de Salud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Cómo se financi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763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 la cotización obligatoria de 7%, de cargo del trabaja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as tarifas arancelarias que paguen los NO beneficiarios por prestaciones que reci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los copagos que realicen los afiliados por las prestaciones que reciban en modalidad libre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ibución del Estado (partida del presupues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E411-0D5F-4944-87FA-087614753D6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2:37:51Z</dcterms:created>
  <dc:creator>Invitado</dc:creator>
  <dc:description/>
  <dc:language>en-US</dc:language>
  <cp:lastModifiedBy>Derecho del Trabajo</cp:lastModifiedBy>
  <cp:lastPrinted>2012-06-22T02:02:29Z</cp:lastPrinted>
  <dcterms:modified xsi:type="dcterms:W3CDTF">2012-06-26T17:05:55Z</dcterms:modified>
  <cp:revision>28</cp:revision>
  <dc:subject/>
  <dc:title>Régimen de Salud MCG</dc:title>
</cp:coreProperties>
</file>