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5167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3E9-9A53-4CF1-A70D-1CFB36B0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E05-758D-41A9-A135-EB691B65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2D8-3522-48E8-9533-A69E9927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183-7A9D-40A0-8F59-DA17BE9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A43C-584C-489E-96FF-322CE7FB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D193-1E83-4FB4-AB9E-CF245C1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4CE-4851-4569-9F63-B024243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1E2-82CC-4FF9-A7EF-0AAEA31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8374-6831-4BCF-AE48-B15AE2A2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7755-6D29-4065-A9A5-229E2FA0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308-D636-41D9-B84B-B07B26D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8CA-5534-4B89-89A3-8623A41A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0B7A-6857-4D7C-B602-B7142D0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5571-F47B-4BA1-9B0C-33ECE00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80B-1E38-4876-AA11-97BFE23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BCC6-23B9-4544-9F26-BEC56AA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FDF3-91CC-40C2-8165-1236A164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2BD-A798-4415-904E-BBDB323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85A-05D9-412C-9E37-1BF2FC2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020-DF3C-44B3-AA74-60D01FAE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C28-90DF-4C68-B775-68474D2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C74-A10E-473D-A2D0-F060BD5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0F1-FEC9-4325-8D4E-B6ACDF2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E60-1B2B-4AFF-B608-5CC64AC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067A-D3C6-4353-8575-9D0794B6E0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660-407C-4952-9B84-38256E8137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de Salud en Chi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ase   22  de junio de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6F89-FFED-4DE3-A2BB-9D686C1999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égimen Público ¿cómo se financia? (continuació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 las contribuciones de parte del valor de las prestaciones, que hagan los afiliados y beneficia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a ello, las personas se clasifican en cuatro grupos, según su nivel de ingresos: A, B, C, 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grupo tendrá una bonificación porcentual del sistema, debiendo pagar el r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7DA-F12B-42DD-81AF-7FEAE53017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Indigentes o carentes de recursos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uyos ingresos mensuales no excedan del IMM aplicable a trabajadores mayores de 18 años y menores de 65 años, o bien que siendo superior a éste, no excedan de 1,46 veces dicho monto, siempre que tengan 3 ó más cargas leg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Afiliados con ingresos mensuales superiores a 1 IMM y hasta 1,46 veces IMM, siempre que cargas legales no excedan de 2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copago de 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on ingresos mensuales superiores a 1,46 veces IMM, con cargas legales que no excedan de 2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opago de 2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532-BEA4-4791-A111-1E60C07F39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inanciamiento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52480"/>
          <a:ext cx="7956360" cy="2613240"/>
        </p:xfrm>
        <a:graphic>
          <a:graphicData uri="http://schemas.openxmlformats.org/drawingml/2006/table">
            <a:tbl>
              <a:tblPr/>
              <a:tblGrid>
                <a:gridCol w="3978360"/>
                <a:gridCol w="3978000"/>
              </a:tblGrid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87.539.21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24.907.46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rte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90.804.773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peración de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68.077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</a:tbl>
          </a:graphicData>
        </a:graphic>
      </p:graphicFrame>
      <p:sp>
        <p:nvSpPr>
          <p:cNvPr id="120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C5A-9A5F-45B4-BA65-7D10DE945B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a realidad financiera del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4 Marcador de contenido" descr=""/>
          <p:cNvPicPr/>
          <p:nvPr/>
        </p:nvPicPr>
        <p:blipFill>
          <a:blip r:embed="rId1"/>
          <a:stretch/>
        </p:blipFill>
        <p:spPr>
          <a:xfrm>
            <a:off x="515880" y="1701720"/>
            <a:ext cx="8102520" cy="4368960"/>
          </a:xfrm>
          <a:prstGeom prst="rect">
            <a:avLst/>
          </a:prstGeom>
          <a:ln w="0">
            <a:noFill/>
          </a:ln>
        </p:spPr>
      </p:pic>
      <p:sp>
        <p:nvSpPr>
          <p:cNvPr id="12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E1F-44A7-4D91-BCDD-233BDB1C15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Prestacio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Médic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Asisten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grupos A y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el sólo mérito de 7% de cotizac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control de embarazo y puerperio hasta 6º mes después de nacimiento de hijo, examen medicina preventiva, control niño sano hasta 6 a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7% de cotización más un copag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atención médica curativa, atención odontológica “según disponibilida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Pecuniari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sidios, préstamos, bonificación tarifas prestaciones médi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8F2-7502-40D2-A7CF-7D7884D9F5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500040"/>
            <a:ext cx="800100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38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de grup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ramos A y B tienen derecho a 100% de bonificación estatal, pero sólo a través de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centajes de 100% bonificación y copagos garantizados de 10% y 20% rigen sólo en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s B, C y D pueden optar por modalidad libre elección, pagando lo que corresponda de acuerdo con el  nivel de atención elegido: bonos nivel 1, 2,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parto siempre tendrá una bonificación del 7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548-8447-4D78-92BE-BC41364E6CB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¿cómo se otorgan las prestacio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Institucio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N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Modalidad Libre Elec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istema de bonos, emitidos por profesionales e instituciones previamente inscritas en niveles 1, 2 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61928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ómo se fijan las tarifas de los prestad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016000" indent="-7110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odalidad institucional y libre elecc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050-8094-4EF8-B566-201ACE57269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upervisión de los gast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. Fiscalizaciones a los prestad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. Aplicación de criterios técnicos, absolutos y relativ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i. Aplicación de límites financieros para determinadas prest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v. Tipos penales especiales (168-169 DFL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.- Tipo común de fraude al fis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78D4-67CE-47F3-8359-6EEB163583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caso del inmigra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úblico / privado ===cotiz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rt. 132 DFL 1: «Los servicios de salud no podrán  negar atención a quienes lo requieran, ni condicionarla al pago previo de aranceles o tarifas fijados a este efecto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regular (no cotiza): «A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irregular. Menores de 18 años y mujeres embaraz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1A4-FDD1-4D3E-AEB1-FC0812111F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«Derecho» a la salu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7989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Junta de Beneficencia (188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onstitución de 1925: Art 10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Ninguna clase de trabajo o industria puede ser prohibida, a menos que se oponga a las buenas costumbres, a la seguridad o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a la salubridad pública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, o que lo exija el interés nacional y una ley lo declare así. Es deber del Estado velar por la salud pública y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l bienestar higiénico del país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Deberá destinarse cada año una cantidad de dinero suficiente para mantener un servicio nacional de salubridad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365120" indent="-4572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imera institucionalidad de salud pública (S. Obrero de invalidez y enfermedad 1925, Ley de medicina preventiva 1938, SNS 1952, SSS, mutuales, 1674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597-2923-4A58-B1C0-2E5E37E3303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La Constitución Política de 1980 garantiza (Art. 19 Nº9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público subjetivo a la protección de la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a escoger entre los regímenes público y priv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igualitario acceso a acciones de promoción, protección, recuperación y rehabilitación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64B-6B8E-41CE-A3C8-E33CDB1089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Normas positiv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469 de 19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44 de 1978, del Ministerio del Trabajo y Previsión So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933 de 1990, modificada por Ley 19.893 de 2003 y Ley 20.015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1 de 200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ja texto refundido, coordinado y sistematizado de DL 2763 y Leyes 18.933 y 18.4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E99C-3BFF-497F-874E-701EA3FE1D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N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stema Nacional de Servicios de Salud (SNSS): incluye centros de atención primaria, consultorios y postas municip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Fiscal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perintendencia de Seguridad Social (califi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FFD-0539-4459-A8DD-B87D3B224AF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filiación (art. 147 DFL 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ncorporación al régimen es automática, al adquirir la persona las calidade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afiliad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beneficiari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afiliación es indefin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filiados pueden optar por afiliarse a régimen privado, debiendo suscribir un contrat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filiación a Isapre produce afiliación automática al régimen públ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A222-8C24-42E4-B17A-F31832043A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afili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dependientes de sector público y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independientes que coticen en cualquier régimen de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tizantes volu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nsion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ubsidio cesantía DFL 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eguro de desempleo Ley 19.7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4BC7-EAE9-4608-98AB-5B784035F2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beneficiar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trabajadore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causantes de asignación familiar de trabajadores afiliados y pensionado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mujeres embarazadas, aun cuando no sean afiliadas, para el control del embar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sonas carentes de recursos y beneficiarios de pensiones solidar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usantes de S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personas que gocen del seguro de cesantía y sus causantes de asignación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27F4-5DEF-42FC-99D5-46CFEB8DA7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Cómo se financi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 la cotización obligatoria de 7%, de cargo del trabaja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as tarifas arancelarias que paguen los NO beneficiarios por prestaciones que reci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os copagos que realicen los afiliados por las prestaciones que reciban en modalidad libre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ibución del Estado (partida del presupues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726-218D-4DF0-9429-EB12ED52ED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37:51Z</dcterms:created>
  <dc:creator>Invitado</dc:creator>
  <dc:description/>
  <dc:language>en-US</dc:language>
  <cp:lastModifiedBy>Derecho del Trabajo</cp:lastModifiedBy>
  <cp:lastPrinted>2012-06-22T02:02:29Z</cp:lastPrinted>
  <dcterms:modified xsi:type="dcterms:W3CDTF">2012-06-26T17:05:55Z</dcterms:modified>
  <cp:revision>28</cp:revision>
  <dc:subject/>
  <dc:title>Régimen de Salud MCG</dc:title>
</cp:coreProperties>
</file>