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AF3FE-167E-4660-9D9A-A783DF8D78A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670AD-25B5-4DC4-9090-4D7BAE192C13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56C-5CC7-4FF9-8842-0F840EC0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00D-5B20-404A-B888-9A740C3E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4C3-7203-43B6-9297-D9BBD607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0E9-D003-45E0-8493-1BB432D7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742A-E857-4A42-9F79-88460F95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D055-8E0E-4DDE-B9E2-4350EB5B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A4B8-D5E1-448E-A7B1-E9915978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E675-12FF-4041-9920-1FA0DDF6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A7A3-6938-4290-BD69-757C2A63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7384-D061-455F-A1F4-E76B2855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412B-DD23-4AD8-9277-2A0AAFE5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70A-5787-4EEE-967A-BBB5AF1B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60CD-6F83-4201-938F-E925372B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EAB6-37E1-41A5-B03C-03328D7F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561C-EB6E-42AB-BA4D-EC04BB2C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B48B-C1B7-4E4F-84FD-1A21E1F1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D042-F11B-4E9D-B99B-4215FAA8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A42-1EA1-4DD3-BE26-DA722C27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28E-7C79-48EB-80BF-F91AD79D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7E1-484C-4044-B901-ABCBC99B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2A6-A284-41EA-83AB-63DD210A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617-BE19-41A0-A31C-20ADF477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13D-FA45-4115-BD9C-7BAACA43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E64-12A6-4416-9A69-1F40D651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2695-4250-47D8-BCD9-29F371DB03E1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003E-930A-485C-B4F1-2F60DF7FC712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400" spc="-1" strike="noStrike">
                <a:solidFill>
                  <a:srgbClr val="ffffcc"/>
                </a:solidFill>
                <a:latin typeface="Garamond"/>
              </a:rPr>
              <a:t>INTRODUCCIÓN AL DERECHO 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rimer Semestre 20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5 Imagen" descr="logo_facultad_fondotransparente.png"/>
          <p:cNvPicPr/>
          <p:nvPr/>
        </p:nvPicPr>
        <p:blipFill>
          <a:blip r:embed="rId1"/>
          <a:stretch/>
        </p:blipFill>
        <p:spPr>
          <a:xfrm>
            <a:off x="317520" y="182520"/>
            <a:ext cx="21016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ones básica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Regula y orienta el comportamiento de las perso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Facilita las relaciones (jurídicas) entre particul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Modelo o técnica de solución pacífica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Legitima y limita el poder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0040" y="16430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todos los conceptos requieren ser defi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ás que buscar la naturaleza o definición del derecho, debemos preguntar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¿Cuáles son las características necesarias del derecho (objetivo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c000"/>
                </a:solidFill>
                <a:uFillTx/>
                <a:latin typeface="Garamond"/>
              </a:rPr>
              <a:t>Características necesarias del Derecho (Objetivo)</a:t>
            </a:r>
            <a:r>
              <a:rPr b="1" lang="es-ES_tradnl" sz="2800" spc="-1" strike="noStrike">
                <a:solidFill>
                  <a:srgbClr val="ffc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 sistema institucionaliz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coerc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preferentemente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práctica argumentativa e interpre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 vincula con normas o está compuesto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¿Qué tipo de norm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 prev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) Leyes de la naturale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b) Leyes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naturaleza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criben realidades empí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caus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será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sociedad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presan pautas de comport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impu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, dado no B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C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Qué distingue a las normas jurídicas de otros tipos de normas (de la sociedad), como son las normas religiosas o las normas morale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1714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Las </a:t>
            </a:r>
            <a:r>
              <a:rPr b="1" lang="es-ES" sz="3100" spc="-1" strike="noStrike">
                <a:solidFill>
                  <a:srgbClr val="ffffff"/>
                </a:solidFill>
                <a:latin typeface="Garamond"/>
              </a:rPr>
              <a:t>normas jurídica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, a diferencia de las normas de trato social, morales, éticas o religiosas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Pertenecen a u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sistema institucionalizado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So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coercible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 sistema instituciona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regula su propia creación (autogener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ñala quiénes, a través de qué procedimientos y con qué limites están facultados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rear, modificar o derogar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solver conflictos de relevancia juríd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racterística asociada 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Fuent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ormas de compe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coerc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sgo distintivo y de mayor capacidad identific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clusión del uso de la fuerza en las relaciones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uso de la fuerza el derecho lo reserva para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) Coerci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) Co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i)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ercibilidad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es un atributo inhe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ementos del concep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del empleo de la fuer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legí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Uso de la fuerza socialmente organizada o institucionaliz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Las funciones sociales o puntos de 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relacionados con 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4 Conector recto"/>
          <p:cNvSpPr/>
          <p:nvPr/>
        </p:nvSpPr>
        <p:spPr>
          <a:xfrm>
            <a:off x="428760" y="1428840"/>
            <a:ext cx="8215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preferentemente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realidad normativa es por sí misma un fenómeno complejo y de componentes vari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complejidad aumenta desde el instante en que se advierte que las normas no son el único componente o piez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nto a las normas existen también otros estándares jurídicos, a saber: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y valores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ándares del derecho que adolecen de indeterminación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tan mayor grado de abstracción y generalidad que las nor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han identificado diversos sentidos del térmi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conocidos en nuestro ordenamiento com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espíritu general de la legislación”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y/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principios de equidad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Ej. caso Riggs vs. Palmer (N. York, 1889)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(…) todas las leyes pueden ser controladas en su operación y efecto por máximas generales y fundamentales del derecho consuetudinario. </a:t>
            </a:r>
            <a:r>
              <a:rPr b="1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A nadie se le permitirá aprovecharse de su propio fraude o sacar partido de su propia injusticia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, o fundar demanda alguna sobre su propia inequidad o adquirir propiedad por su propio crimen”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jemplos de nuestro orde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supremacía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egalidad (juridic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oc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non bis in id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no discrim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buena 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autonomía de la volunt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reconocidas a los principios en nuestro ordenamiento juríd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espíritu general de la legis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art. 24 C. Civi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gr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principios de equidad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(art. 170 Nº 5 CP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Val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estándares aún más abiertos e indeterminados que los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rechamente vinculados a la noción de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.1 Constitución español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España se constituye como un Estado social y democrático de derecho, que propugna como 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valores superiores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 de su ordenamiento jurídico la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ibertad, la justicia, la igualdad y el pluralismo político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Gran relevancia de los valores en el ámbito constituc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 inc.1º CPR: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Las personas nacen libres e iguales en dignidad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y derech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rtalecen la constitución en el proceso de creación y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fieren al ordenamiento jurídico mayor densidad normativa y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práctica argumentativa e interpret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tinción entre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debe tomar en cuenta las distintas piezas del derecho: normas,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es un razonamient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se manifiesta en diversas sedes a través de distintos agentes u operadores jurídicos, siendo la más visible la actividad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 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estudio del derecho no se reduce sólo a la búsqueda de un concepto o a la exposición de determinadas características esenciales, sino que debe incorporar, para su mayor comprensión, la perspectiva de ciertas actividades o funciones sociales relacionadas con el m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Roles a conside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1. Persona comú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. Legislador (polít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. Ju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4. Abog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5. Jur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egunta que genera desorient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mnipres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eterogeneidad de respues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La cosa justa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Conjunto de órdenes respaldadas por la amenaza de castigos”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ducto orgánico determinado históricamente por el desarrollo del pueblo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fecías acerca de lo que harán los tribunale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Orden coactivo eficaz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Unión de reglas primarias y secundaria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persona comú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é entendemos por persona comú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os principales formas de manifestar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úbdito (lego = moralidad de la autor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Ciudadano (informad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Ciudadano mínimo (indiferent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Ciudadano situado (participativo = moralidad de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la asociación y moralidad de los principi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cepción menos erudit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legislador (polí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el creador por excelencia de las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en su esfera de atribuciones crear, modificar o suprimir las normas (leyes) que compone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directamente vinculada a la política (régimen democrátic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iénes cumplen el rol de legislado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isión instrumental del derecho (¿activación del cambio social?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sgos atribuidos al legislador: imparcial, neutral, general y futur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a de “legislador racional”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Ún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Impereceder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scien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perativ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comprensivo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Coherent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Preciso y justo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l central en el conocimiento y comprens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jurisdiccional (art. 76 CP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stinción entre juez y tribu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conocedor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funcionario del Estado. Integra una organización burocrática y jerarquizada: Poder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isión tradicional de la cultura jurídica chilena sobre la función judici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El juez no produce derecho, sólo aplica el derec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existente (poder subordinado al legisl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Concepción mecanicista y logicista de la fun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risdiccional (silogismo judici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Su labor interpretativa debe conducir siempre a 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único resultado posible e invari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 juez “es el esclavo de la ley” (Andrés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abog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que tiene reconocimiento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definiciones que entregan el COT y el Código de Ética se centran en el rol de abogado litig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para el abogado un elemento fijo con el que es necesario contar para determinar sus cursos de a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bog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Negoci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consej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Gestion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0040" y="17859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abogado es un “traductor” del lenguaje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esenci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contrat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Constitución de sociedades civiles o comer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estatutos sociales o corpo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Litigios ante tribu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Defensa ante órganos administ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r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el objeto de su ciencia (“lingüista”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ume la posición de un analista, un pensador, un investigador, un científico f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aliza el derecho en sí mismo, sin una finalidad inmediata o prác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, conceptualiza, clasifica, sistematiza e interpre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llamado a conectar en forma comprensiva todos las funciones sociales o puntos de vista relacionados co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¿Presenta el derecho fines específic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gunta controversial que cuenta con respuestas disímiles dependiendo de la visión del derecho con que se abor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al margen de las disputas dogmáticas o ideológicas en torno al derecho, todo parece indicar que sí es posible asociarlo a ciertos fines o metas socialmente dese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 éstos destacan: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paz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,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eguridad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justi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az (or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la enmarca dentro de la noción de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sistema jurídico es visto como un mecanismo de paz social (misión pacificado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medio institucionalizado de solución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hibición del uso de la fuerza por parte de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dispone del uso de la fuerza socialmente organizada (es un sistema coerc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luralidad de enfo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rigen de las dificultades para su defin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lación entre el lenguaje y la re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cepciones contrapuestas en el campo de la teoría de la defin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Concepción pla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Concepción convencional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plantea una distinción conceptualmente útil. A su juicio, el derecho resguar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en las relaciones jurídicas entre 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del individuo frente a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en las relaciones jurídicas entre los individu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guridad en el tráfic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ocimiento de las normas, vías e instituciones jurídicas de que disponen los individuos para relacionarse en socie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ones ámbito privado. Ej. normas sobre la compraventa de inmuebles, constitución de sociedades, reglas sucesori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Asociado a la idea de certez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las normas del derecho sean conocidas y comprendidas por los sujetos impera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dichas normas fijen con razonable precis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lo que ordenan, prohíben y autorizan;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las consecuencias jurídicas que generan s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umplimientos o contraven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Protección de los derechos fundament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ases doctrinari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iberalismo polí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stad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nstituciona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arantía de derechos civiles y políticos (Declaración de los Derechos del Hombre y del Ciudadano, 178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afío: reconocimiento y garantía de los derechos económicos, sociales y cultur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Just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ntificada tradicionalmente como el más alto de los fines que el derecho debe satisfa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imológicamente la palabra “derecho” está asociada a la idea o noción de justicia (latín 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direct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directo, recto, correcto, jus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o de los conceptos que mayores discusiones ha generado en el ámbito de la filosofí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versas concepciones o teorías de la justicia han intentado delimitar su alcance y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riterios de clasific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Justicia form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y legalidad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Justicia sustanci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como proporció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1. Justicia distribu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2. Justicia conmu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 Justicia reparad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1. Justicia compens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2. Justicia corre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plató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Conceptos reflejan una presunta esencia de las cos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xistencia de una sola definición válida para cada palab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re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convencion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l lenguaje (sistema de símbolos) es conven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Las cosas por sí solas no tienen propiedades esen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nomi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inguna de estas concepciones garantiza que podamos obtener una caracterización del concepto de derecho con perfiles claros y defini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alabra “derecho”: paradigma de ambig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ü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arga emotiva asoci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es una palabra unív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 varios significados estrechamente relacionados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ª) El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hileno regula el divorcio vinc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ª) Tengo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expresar libremente mis opin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ª) Los estudios de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menzaron en el siglo X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 de la palabra “Derecho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1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2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Su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3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iencia del Derecho o Dogmátic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resupuestos esenciale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fenómeno cul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reación humana (derecho occident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Orientado al cumplimiento de ciertos f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ige la vida en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Ubi societas, ibi i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existe con otros órdenes norma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12-04-04T04:52:22Z</dcterms:modified>
  <cp:revision>69</cp:revision>
  <dc:subject/>
  <dc:title>INTRODUCCIÓN AL DERECHO I  </dc:title>
</cp:coreProperties>
</file>