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D4209-88B9-4831-A60C-33E8DAED989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06639-B5BA-446B-9E3F-C1E74D55ABF1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0BE-A5D2-4EE6-A806-1A9D6ADF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707-C82C-4B7B-9E01-47063E9B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687-5303-4C18-AFD5-1336F938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12D-9ABA-48A1-970A-A0CDF0E4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883D-0811-418D-A2A4-4979F259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1AB5-986B-4D2C-BAA9-090EF687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6BA6-31F3-402C-9E13-B2DC5B54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DD5E-A39C-4343-8882-B8085A34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D396-D203-4B87-88C9-47CD2E49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C603-7D4F-4D15-AE7F-9089F1F4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A3A8-D1AC-4335-99F7-C618E9B4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FA0-B4AA-4E4D-84EF-53A79371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26A5-CDA7-4034-86E8-2F5FBC9C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139E-7843-4006-8749-90B7DF56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55FA-5BA3-4056-BE5C-A33774CF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65AC-1A49-42C9-ABA0-7EFAA709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04C4-34DF-4723-957D-281CABC3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B2C-4424-4D04-A818-37C4AC2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29E-FE5A-4276-A2AE-0433C1B6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6CD-5736-465F-AA9D-C64B4BF3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18E-63B8-47E1-9219-A18E171A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7E5-AD10-4D62-B299-12AFB9E7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9D0-CF45-4BE7-A3A1-71B1EAC9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53D-C11A-4E90-9CA3-01988F2A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868-315B-453E-A426-8101CEE90AEA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C838-98F1-4663-865A-505EBB364795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5 Imagen" descr="logo_facultad_fondotransparente.png"/>
          <p:cNvPicPr/>
          <p:nvPr/>
        </p:nvPicPr>
        <p:blipFill>
          <a:blip r:embed="rId1"/>
          <a:stretch/>
        </p:blipFill>
        <p:spPr>
          <a:xfrm>
            <a:off x="317520" y="182520"/>
            <a:ext cx="21016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y valores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2-04-04T04:52:22Z</dcterms:modified>
  <cp:revision>69</cp:revision>
  <dc:subject/>
  <dc:title>INTRODUCCIÓN AL DERECHO I  </dc:title>
</cp:coreProperties>
</file>