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 - Facultad de Der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1562AA-8FF8-484D-B22F-5B718E8827A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Universidad de Chile - Facultad de Derech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8D7C26-9ABC-4519-BED2-72B6CB313B6E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CE6-00F0-469E-9DD9-4275305F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B7FC-32F8-420B-8759-F75F6AC9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8CA8-4B14-4BE8-AF27-13BC4BAC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F09-B1BF-46F8-816F-2354773D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CB28-8EDA-4D52-A1CE-B8D7E110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F90D-F1C2-42DB-961A-BA7FF433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D715-4F18-479E-A9A8-8FD3CCD6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2979-508A-487E-86B7-173CEEB8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83CD-9CDF-4BC3-8F20-98046736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269A-E478-4AF1-9F61-486E6C55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12D5-DC46-4A2F-A715-D729C059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974-6C9E-4D58-9D5C-CCF29837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C788-6A3A-4812-8E70-3A057439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3EEB-CA19-4FF4-8CD8-2914BB22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11B2-EE0D-47A0-9C6E-213ABC03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0A8A-008B-4AEE-95E9-3AB897D3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B842-608E-4E9D-A20F-C2FF7E5A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B74-548B-4CE1-A6FE-25E5DBEB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4D5-52F6-4C8C-AB69-DE66D8DD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BC6-E0C6-40C4-A773-22880E02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581-F929-480F-BF17-77D55942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4EC-0ED1-4F1E-98F0-0F7155AD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D26-8153-4695-97BB-7D15CEFD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3993-D9E1-47DE-8077-05CC783B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2CFB-4DAE-4610-B174-EDE532B8CA9E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013E-0056-4E7C-A551-1CB03C996FDB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3400" spc="-1" strike="noStrike">
                <a:solidFill>
                  <a:srgbClr val="ffffcc"/>
                </a:solidFill>
                <a:latin typeface="Garamond"/>
              </a:rPr>
              <a:t>INTRODUCCIÓN AL DERECHO I</a:t>
            </a:r>
            <a:br>
              <a:rPr sz="32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_____________________________________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Prof. Miguel González Le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Universidad de Chile - Facultad de Derec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Primer Semestre 20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5 Imagen" descr="logo_facultad_fondotransparente.png"/>
          <p:cNvPicPr/>
          <p:nvPr/>
        </p:nvPicPr>
        <p:blipFill>
          <a:blip r:embed="rId1"/>
          <a:stretch/>
        </p:blipFill>
        <p:spPr>
          <a:xfrm>
            <a:off x="317520" y="182520"/>
            <a:ext cx="210168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ones básicas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Regula y orienta el comportamiento de las person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Facilita las relaciones (jurídicas) entre particula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Modelo o técnica de solución pacífica de conflic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Legitima y limita el poder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0040" y="16430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o,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¿qué es el derec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todos los conceptos requieren ser defi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ás que buscar la naturaleza o definición del derecho, debemos preguntarn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¿Cuáles son las características necesarias del derecho (objetivo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c000"/>
                </a:solidFill>
                <a:uFillTx/>
                <a:latin typeface="Garamond"/>
              </a:rPr>
              <a:t>Características necesarias del Derecho (Objetivo)</a:t>
            </a:r>
            <a:r>
              <a:rPr b="1" lang="es-ES_tradnl" sz="2800" spc="-1" strike="noStrike">
                <a:solidFill>
                  <a:srgbClr val="ffc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realidad norm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 sistema institucionaliz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coerc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realidad preferentemente norm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práctica argumentativa e interpretativ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realidad norm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e vincula con normas o está compuesto de el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¿Qué tipo de norm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stinción prev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) Leyes de la naturale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b) Leyes de la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Leyes de la naturaleza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escriben realidades empír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Ámbito 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ncipio de causa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do 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será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B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Leyes de la sociedad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xpresan pautas de comporta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Ámbito de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ncipio de impu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do 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be ser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B, dado no B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be ser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C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Qué distingue a las normas jurídicas de otros tipos de normas (de la sociedad), como son las normas religiosas o las normas morale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8760" y="17146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Las </a:t>
            </a:r>
            <a:r>
              <a:rPr b="1" lang="es-ES" sz="3100" spc="-1" strike="noStrike">
                <a:solidFill>
                  <a:srgbClr val="ffffff"/>
                </a:solidFill>
                <a:latin typeface="Garamond"/>
              </a:rPr>
              <a:t>normas jurídicas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, a diferencia de las normas de trato social, morales, éticas o religiosas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Pertenecen a un </a:t>
            </a:r>
            <a:r>
              <a:rPr b="0" lang="es-ES" sz="3100" spc="-1" strike="noStrike" u="sng">
                <a:solidFill>
                  <a:srgbClr val="ffffff"/>
                </a:solidFill>
                <a:uFillTx/>
                <a:latin typeface="Garamond"/>
              </a:rPr>
              <a:t>sistema institucionalizado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Son </a:t>
            </a:r>
            <a:r>
              <a:rPr b="0" lang="es-ES" sz="3100" spc="-1" strike="noStrike" u="sng">
                <a:solidFill>
                  <a:srgbClr val="ffffff"/>
                </a:solidFill>
                <a:uFillTx/>
                <a:latin typeface="Garamond"/>
              </a:rPr>
              <a:t>coercibles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 sistema institucionaliz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regula su propia creación (autogenerativ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eñala quiénes, a través de qué procedimientos y con qué limites están facultados par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)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rear, modificar o derogar normas juríd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)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solver conflictos de relevancia jurídi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aracterística asociada 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Fuent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Normas de compet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coerc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sgo distintivo y de mayor capacidad identificat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xclusión del uso de la fuerza en las relaciones so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uso de la fuerza el derecho lo reserva para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stin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) Coerci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i) Coa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ii) San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oercibilidad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es un atributo inherente a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ementos del concep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osibilidad del empleo de la fuer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osibilidad legít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Uso de la fuerza socialmente organizada o institucionaliz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cc"/>
                </a:solidFill>
                <a:latin typeface="Garamond"/>
              </a:rPr>
              <a:t>INTRODUCCIÓN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. Las funciones sociales o puntos de v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relacionados con el der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4 Conector recto"/>
          <p:cNvSpPr/>
          <p:nvPr/>
        </p:nvSpPr>
        <p:spPr>
          <a:xfrm>
            <a:off x="428760" y="1428840"/>
            <a:ext cx="8215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realidad preferentemente norm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 realidad normativa es por sí misma un fenómeno complejo y de componentes variad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 complejidad aumenta desde el instante en que se advierte que las normas no son el único componente o piez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nto a las normas existen también otros estándares jurídicos, a saber: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principios y valores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Principios jurí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ándares del derecho que adolecen de indeterminación concep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resentan mayor grado de abstracción y generalidad que las nor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 han identificado diversos sentidos del térmi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conocidos en nuestro ordenamiento com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espíritu general de la legislación”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y/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principios de equidad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 u="sng">
                <a:solidFill>
                  <a:srgbClr val="ffffff"/>
                </a:solidFill>
                <a:uFillTx/>
                <a:latin typeface="Garamond"/>
              </a:rPr>
              <a:t>Ej. caso Riggs vs. Palmer (N. York, 1889)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(…) todas las leyes pueden ser controladas en su operación y efecto por máximas generales y fundamentales del derecho consuetudinario. </a:t>
            </a:r>
            <a:r>
              <a:rPr b="1" lang="es-CL" sz="3000" spc="-1" strike="noStrike" u="sng">
                <a:solidFill>
                  <a:srgbClr val="ffffff"/>
                </a:solidFill>
                <a:uFillTx/>
                <a:latin typeface="Garamond"/>
              </a:rPr>
              <a:t>A nadie se le permitirá aprovecharse de su propio fraude o sacar partido de su propia injusticia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, o fundar demanda alguna sobre su propia inequidad o adquirir propiedad por su propio crimen”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Ejemplos de nuestro ordenamiento jurídico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supremacía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egalidad (juridicida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excusa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oc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non bis in id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no discrim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a buena 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a autonomía de la volunt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ones reconocidas a los principios en nuestro ordenamiento jurídic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ón de interpret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espíritu general de la legisl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(art. 24 C. Civi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ón de integr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principios de equidad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(art. 170 Nº 5 CPC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Val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on estándares aún más abiertos e indeterminados que los princip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rechamente vinculados a la noción de princip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. Artículo 1.1 Constitución español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España se constituye como un Estado social y democrático de derecho, que propugna como </a:t>
            </a:r>
            <a:r>
              <a:rPr b="1" i="1" lang="es-CL" sz="2800" spc="-1" strike="noStrike">
                <a:solidFill>
                  <a:srgbClr val="ffffff"/>
                </a:solidFill>
                <a:latin typeface="Garamond"/>
              </a:rPr>
              <a:t>valores superiores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 de su ordenamiento jurídico la </a:t>
            </a: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libertad, la justicia, la igualdad y el pluralismo político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Gran relevancia de los valores en el ámbito constitucion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. Artículo 1 inc.1º CPR: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Las personas nacen libres e iguales en dignidad</a:t>
            </a:r>
            <a:r>
              <a:rPr b="1" i="1" lang="es-C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y derechos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ortalecen la constitución en el proceso de creación y aplica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onfieren al ordenamiento jurídico mayor densidad normativa y concep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práctica argumentativa e interpret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stinción entre razonar, argumentar 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debe tomar en cuenta las distintas piezas del derecho: normas, 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es un razonamient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se manifiesta en diversas sedes a través de distintos agentes u operadores jurídicos, siendo la más visible la actividad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 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lcances preliminares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estudio del derecho no se reduce sólo a la búsqueda de un concepto o a la exposición de determinadas características esenciales, sino que debe incorporar, para su mayor comprensión, la perspectiva de ciertas actividades o funciones sociales relacionadas con el mism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Roles a consider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1. Persona comú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2. Legislador (polític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3. Ju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4. Abog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5. Jur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004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egunta que genera desorient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Omnipresenci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eterogeneidad de respuest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La cosa justa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Conjunto de órdenes respaldadas por la amenaza de castigos”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Producto orgánico determinado históricamente por el desarrollo del pueblo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Profecías acerca de lo que harán los tribunales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Orden coactivo eficaz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Unión de reglas primarias y secundarias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persona comú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Qué entendemos por persona comú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os principales formas de manifestar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Súbdito (lego = moralidad de la autorida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Ciudadano (informad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1) Ciudadano mínimo (indiferent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2) Ciudadano situado (participativo = moralidad de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la asociación y moralidad de los principio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cepción menos erudit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legislador (políti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el creador por excelencia de las normas juríd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á en su esfera de atribuciones crear, modificar o suprimir las normas (leyes) que componen 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directamente vinculada a la política (régimen democrátic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Quiénes cumplen el rol de legislador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Visión instrumental del derecho (¿activación del cambio social?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sgos atribuidos al legislador: imparcial, neutral, general y futuris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dea de “legislador racional”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Únic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Impereceder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mniscient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perativ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mnicomprensivo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Coherente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Preciso y justo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ju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ol central en el conocimiento y comprens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jurisdiccional (art. 76 CP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istinción entre juez y tribu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conocedor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funcionario del Estado. Integra una organización burocrática y jerarquizada: Poder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Visión tradicional de la cultura jurídica chilena sobre la función judicial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El juez no produce derecho, sólo aplica el derech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existente (poder subordinado al legislativ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Concepción mecanicista y logicista de la fun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jurisdiccional (silogismo judici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Su labor interpretativa debe conducir siempre a u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único resultado posible e invari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El juez “es el esclavo de la ley” (Andrés Bell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abog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que tiene reconocimiento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s definiciones que entregan el COT y el Código de Ética se centran en el rol de abogado litig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para el abogado un elemento fijo con el que es necesario contar para determinar sus cursos de ac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Abog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Negoci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Aconsej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Gestion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0040" y="17859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abogado es un “traductor” del lenguaje leg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ones esenci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Positiva constru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Redacción de contrat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Constitución de sociedades civiles o comerci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Redacción de estatutos sociales o corporativ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Negativa defens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Litigios ante tribun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Defensa ante órganos administrativ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jur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el objeto de su ciencia (“lingüista”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sume la posición de un analista, un pensador, un investigador, un científico frente a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aliza el derecho en sí mismo, sin una finalidad inmediata o práct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, conceptualiza, clasifica, sistematiza e interpre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á llamado a conectar en forma comprensiva todos las funciones sociales o puntos de vista relacionados con 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lcances prelimina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¿Presenta el derecho fines específic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gunta controversial que cuenta con respuestas disímiles dependiendo de la visión del derecho con que se abor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o, al margen de las disputas dogmáticas o ideológicas en torno al derecho, todo parece indicar que sí es posible asociarlo a ciertos fines o metas socialmente dese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tre éstos destacan: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paz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,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seguridad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y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justi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Paz (or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torre la enmarca dentro de la noción de segu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sistema jurídico es visto como un mecanismo de paz social (misión pacificador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un medio institucionalizado de solución de conflic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ohibición del uso de la fuerza por parte de los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dispone del uso de la fuerza socialmente organizada (es un sistema coerci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luralidad de enfoq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Origen de las dificultades para su defini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lación entre el lenguaje y la re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ncepciones contrapuestas en el campo de la teoría de la defini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. Concepción plató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. Concepción convencionali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torre plantea una distinción conceptualmente útil. A su juicio, el derecho resguar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seguridad en las relaciones jurídicas entre  los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seguridad del individuo frente a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en las relaciones jurídicas entre los individu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guridad en el tráfico juríd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ocimiento de las normas, vías e instituciones jurídicas de que disponen los individuos para relacionarse en socieda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laciones ámbito privado. Ej. normas sobre la compraventa de inmuebles, constitución de sociedades, reglas sucesoria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del individuo frente al 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1) Asociado a la idea de certez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Que las normas del derecho sean conocidas y comprendidas por los sujetos imperado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Que dichas normas fijen con razonable precis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lo que ordenan, prohíben y autorizan; 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las consecuencias jurídicas que generan s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cumplimientos o contraven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del individuo frente al 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2) Protección de los derechos fundament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ases doctrinari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iberalismo polí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stado de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onstitucionalis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Garantía de derechos civiles y políticos (Declaración de los Derechos del Hombre y del Ciudadano, 1789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afío: reconocimiento y garantía de los derechos económicos, sociales y cultur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Justi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dentificada tradicionalmente como el más alto de los fines que el derecho debe satisfac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timológicamente la palabra “derecho” está asociada a la idea o noción de justicia (latín </a:t>
            </a: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directu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directo, recto, correcto, just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o de los conceptos que mayores discusiones ha generado en el ámbito de la filosofí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iversas concepciones o teorías de la justicia han intentado delimitar su alcance y conteni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riterios de clasific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Justicia formal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(justicia y legalidad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Justicia sustancial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(justicia como proporció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1. Justicia distribu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2. Justicia conmu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 Justicia reparado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1. Justicia compens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2. Justicia corre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Concepción platón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Conceptos reflejan una presunta esencia de las cos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Existencia de una sola definición válida para cada palabr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Definiciones re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Concepción convencional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El lenguaje (sistema de símbolos) es conven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Las cosas por sí solas no tienen propiedades esenci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Definiciones nomin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Ninguna de estas concepciones garantiza que podamos obtener una caracterización del concepto de derecho con perfiles claros y definid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alabra “derecho”: paradigma de ambig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ü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oble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arga emotiva asoci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es una palabra unívo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senta varios significados estrechamente relacionados entre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cepci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ª) El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hileno regula el divorcio vinc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ª) Tengo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 expresar libremente mis opin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3ª) Los estudios de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menzaron en el siglo X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cepciones de la palabra “Derecho”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1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Derecho O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2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Derecho Su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3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iencia del Derecho o Dogmátic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 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Presupuestos esenciales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i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un fenómeno cul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reación humana (derecho occident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Orientado al cumplimiento de ciertos f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ii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ige la vida en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Ubi societas, ibi iu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oexiste con otros órdenes norma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14:57Z</dcterms:created>
  <dc:creator>Miguel</dc:creator>
  <dc:description/>
  <dc:language>en-US</dc:language>
  <cp:lastModifiedBy> </cp:lastModifiedBy>
  <dcterms:modified xsi:type="dcterms:W3CDTF">2012-04-04T04:52:22Z</dcterms:modified>
  <cp:revision>69</cp:revision>
  <dc:subject/>
  <dc:title>INTRODUCCIÓN AL DERECHO I  </dc:title>
</cp:coreProperties>
</file>