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17325-4335-4C13-95E9-AC3AEEE7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00B1F-6941-48D3-A46B-CDF78A31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00ED6-60E5-4107-BE34-874C4EA31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D0B05-240C-4786-AC5B-9C8D04621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6433F-61BD-4F49-AC3C-87B27AADC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B7061-3119-4E34-A797-B41041921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46645-BE60-4F65-BAAB-2C7931352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6DEC2-5344-405C-9E86-B8E1FDF7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B2331-288E-405E-B5C2-B41841472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675F-FFEB-466E-B437-D1FFBC3A2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E44F9-1BAB-414F-8A67-99C79FDBC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F659-417C-46EE-9DC8-FD7597E2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2B89-7C07-4DD2-A91E-F6F3D4E73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C372D-7E11-4E2E-A253-C9F7D5FB0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CD8C3-04AA-4CB9-8585-1EFCAE39C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4FA1C-D2D5-4077-8687-A57C4BA85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CA704-4C4D-457F-BCA8-9143AD782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7A218D-B96E-470E-8809-42CB9A781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8E430-8182-4A58-BC71-B7FBB7FC9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A95CF-FA85-4AB1-B03D-8574B2970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22D13-9275-49CA-8744-6466F87ED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A1F1A-71FD-42CD-81F4-91CBA6F88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B2FE-3BB2-4562-B40C-E56787C10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C5290-5DBB-4994-86FE-C2C9EB140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75BD3-F358-4952-BEE3-B31F762F0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56591-8F2A-4FBB-B0D5-B87987CC3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3FB82-4F07-494B-81A2-2C2D56F0F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265BD-5F2B-4498-9EDD-AA0499F6E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F78A68-C347-472F-BC83-7A4DEEBAA9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2F4F0-7346-48B7-A23C-5F7C8E3047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3E28F-69F4-489C-807C-C65807486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2DD14-D161-452C-81B7-9E50D09346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937BA-B820-4660-8451-F9846010B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685A0-7DD9-49B0-8A99-A0F72E5A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574FA-1876-4C84-8F07-7CB2ECED8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14B56-ED69-4830-9B24-252AF188B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2576E-7A69-45F6-B2D2-B2C7BE0AA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79198-33A7-4778-984A-FE3177455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A48C0-A833-4FB7-9965-F08670E7E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A11C1-708B-403E-BC9F-AE0EDBBCA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3CC93-7748-4FA6-AB67-B0C227F06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33C3BA-3FFA-4CF5-99E0-68E1E572BC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C10CD-AD71-4576-89AE-CCE90E879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74244-E8D7-408C-A2D3-2F5DA6F77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BB7BD-3736-4030-8B5D-35E11B4A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ACC85-EB07-4DBB-8FB1-F4E0AAAB5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376B0-19EA-4806-8184-F46FEB411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04F2A-3FC2-46BD-ABE2-A5E291055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E06D5-B068-4FB3-BC4E-02051CDA4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5A434-FEB7-4570-9D13-CC78D3FE9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13D59-4EDF-4D58-8249-F6AF06BE5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DB542-6EFB-4CF9-BF59-F86866B75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F62B3-E61C-421D-94EE-7067D42CC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78C78-5540-4D4A-8F97-B3697C6BE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2DF847-FF93-4F98-889A-68921F5AFE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E158C-D46D-4192-A78D-A5BF90913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0F4CCC-5680-4EBD-B5A7-48B5B1004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6098EF-9CD5-4602-AC6E-1B246E5A2D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D4CF1-2E3B-413A-A21B-10A5AD9AA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AC849-65C6-4AFA-9342-37186A057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7293D-3369-4703-8F71-456BBA80B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C7E02E-146F-4CDE-839E-ECD94D56A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B28983-0126-444C-83B6-C516C59E0D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4866E-DB5A-4E1E-A32A-FB720849F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E86CF-82DD-4FEF-9BBB-A416B25C6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0FA4E-87AC-432B-A692-6E5C78CEA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7638-7F3A-4DE7-B847-56CCCD63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B409E-8B30-4D65-9130-BFDDAAA21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7398F4-5383-43E7-A84C-69C4B60F5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06515B-FD46-444A-B7BC-3DE07BC969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EF3469-CBB2-42B5-A1AA-8EBB34120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85087-21FA-4170-A65E-B209CF485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A9376-9A5B-4390-831F-D8945766F6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B469E8-F0CA-4D0F-AE55-5DF62B6BA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5FA6BF-26E7-4E1E-8F8E-4BA3DBCF6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4BB4E-0959-490E-B750-3AC86E734E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34797-C82A-4987-97A6-0DFBE1D65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3222-9B70-4925-AFB7-EF2B65324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AD5B6-2176-44A3-8E23-95B168907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92775-CC19-49BB-B695-6DF144A7A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5866C3-7C9C-4FF0-8B62-FD0819B87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EDECBF-1700-405F-9DA7-CAAF856D9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F5FDAD-AF70-4D44-95EA-E0B6ABFE2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E15AB9-66C2-471C-BE8F-200A7A73C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C6BFF7-DC9D-4505-8820-26E1D713F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7D4CA-FB6C-4495-A6D2-E58009AED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CAABE-FB11-4D7C-AFF7-22AE393FC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86D13-A7C2-42DA-A4B1-F32DD56E8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5720-99F2-48B7-9CC4-2156AAB6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2979E-B2B6-4847-B4F3-0F4A42B97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7DE27-6DDB-48CD-851D-FC982CC59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C9E95-8FD1-4872-BFE5-CB8DAAE1D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959F7-BD99-4655-B2BD-452AEECD6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1E4D71-7D80-4560-9343-3FA925252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E12361-35E3-4A87-931C-4475500A5D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54584-FF8B-4C54-A978-9B7CA285987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1447-6F83-4BA6-B6CB-06748986C7D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A91B-2D8E-4E73-9FA3-80ED35128607}"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4911-63AF-4C8F-A710-2D6595EE9E5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1059-5FEE-4DAD-B7E5-D031053928F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250B-4532-43F7-B6EE-38C4ECB6FE0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FE03-2FC9-4588-BE10-90C49DCAA94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8C11-76C3-4EFF-ABB3-8832ED51B66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3593-22DA-4F90-B4E5-DEE08B2C4F2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615960"/>
            <a:ext cx="81997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Century Gothic"/>
              </a:rPr>
              <a:t>Claudio Palavecin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Busca simplificar al máximo las actuaciones procesales (sumariedad cuantitativa).</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entury Gothic"/>
              </a:rPr>
              <a:t>Principio de unidad de acto </a:t>
            </a:r>
            <a:r>
              <a:rPr b="0" lang="es-CL" sz="2300" spc="-1" strike="noStrike">
                <a:solidFill>
                  <a:srgbClr val="000000"/>
                </a:solidFill>
                <a:latin typeface="Century Gothic"/>
              </a:rPr>
              <a:t>que preside el desarrollo de las audiencias, que no puede suspenderse nunca, salvo caso fortuito o fuerza mayor (</a:t>
            </a:r>
            <a:r>
              <a:rPr b="0" lang="es-CL" sz="2300" spc="-1" strike="noStrike" u="sng">
                <a:solidFill>
                  <a:srgbClr val="000000"/>
                </a:solidFill>
                <a:uFillTx/>
                <a:latin typeface="Century Gothic"/>
              </a:rPr>
              <a:t>art. 426 inc. 3° CT</a:t>
            </a:r>
            <a:r>
              <a:rPr b="0" lang="es-CL" sz="2300" spc="-1" strike="noStrike">
                <a:solidFill>
                  <a:srgbClr val="000000"/>
                </a:solidFill>
                <a:latin typeface="Century Gothic"/>
              </a:rPr>
              <a:t>).</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En el Foro de la Reforma (2000 a 2002) se discutió si el juicio oral debía desarrollarse en una, dos o tres audiencias: “Prosperó, en definitiva, en ese instante y fue parte del proyecto de ley, realizar una sola audiencia, pero, a larga, se demostró en el Parlamento que eso ocasionaba una gran cantidad de problemas, y [...] se impuso la tesis de la doble audiencia” (HUMERES)</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Procedimiento “Monitori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214280"/>
            <a:ext cx="8229600" cy="53769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os aspectos:</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1° Publicidad en relación a las partes (manifestación de la defensa como garantía constitucional de todo proceso y que consiste en “saber en qué consiste la demanda o acusación.” CAROCCA)  y </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2° Publicidad respecto a los terceros o al público en general</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28 CT </a:t>
            </a:r>
            <a:r>
              <a:rPr b="0" i="1" lang="es-CL" sz="1900" spc="-1" strike="noStrike">
                <a:solidFill>
                  <a:srgbClr val="000000"/>
                </a:solidFill>
                <a:latin typeface="Century Gothic"/>
              </a:rPr>
              <a:t>“los actos procesales serán públicos…”.</a:t>
            </a:r>
            <a:r>
              <a:rPr b="0" lang="es-CL" sz="1900" spc="-1" strike="noStrike">
                <a:solidFill>
                  <a:srgbClr val="000000"/>
                </a:solidFill>
                <a:latin typeface="Century Gothic"/>
              </a:rPr>
              <a:t> La norma no explica nada más acerca de la manera en que se cumplirá esto.  Todas las personas que lo deseen van a poder entrar a la Sala de Audiencias, y en consecuencia, los juicios van a tener público común, periodistas, simpatizantes de las partes, testigos, etc. (HALPERN – HUMER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Ley 20.005 (DO 18/03/2005) había agregado un inciso segundo al antiguo </a:t>
            </a:r>
            <a:r>
              <a:rPr b="0" lang="es-CL" sz="1900" spc="-1" strike="noStrike" u="sng">
                <a:solidFill>
                  <a:srgbClr val="000000"/>
                </a:solidFill>
                <a:uFillTx/>
                <a:latin typeface="Century Gothic"/>
              </a:rPr>
              <a:t>art. 425 CT</a:t>
            </a:r>
            <a:r>
              <a:rPr b="0" lang="es-CL" sz="1900" spc="-1" strike="noStrike">
                <a:solidFill>
                  <a:srgbClr val="000000"/>
                </a:solidFill>
                <a:latin typeface="Century Gothic"/>
              </a:rPr>
              <a:t>, conforme al cual las causas laborales en que se invocara una acusación de acoso sexual, debían ser mantenidas en custodia por el secretario del tribunal, y sólo tendrían acceso a ellas las partes y sus apoderados judiciales. El nuevo art. 425, que reemplazó al anterior, no dejó subsistente esta norma, ni la reemplazó por otra que excepcionara del principio de publicidad las causas por acoso sexua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1" name="2 Título" descr=""/>
          <p:cNvPicPr/>
          <p:nvPr/>
        </p:nvPicPr>
        <p:blipFill>
          <a:blip r:embed="rId1"/>
          <a:stretch/>
        </p:blipFill>
        <p:spPr>
          <a:xfrm>
            <a:off x="450720" y="-6480"/>
            <a:ext cx="824256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1 Marcador de contenido"/>
          <p:cNvSpPr/>
          <p:nvPr/>
        </p:nvSpPr>
        <p:spPr>
          <a:xfrm>
            <a:off x="755640" y="907920"/>
            <a:ext cx="8229600" cy="5599080"/>
          </a:xfrm>
          <a:prstGeom prst="rect">
            <a:avLst/>
          </a:prstGeom>
          <a:noFill/>
          <a:ln w="0">
            <a:noFill/>
          </a:ln>
        </p:spPr>
        <p:style>
          <a:lnRef idx="0"/>
          <a:fillRef idx="0"/>
          <a:effectRef idx="0"/>
          <a:fontRef idx="minor"/>
        </p:style>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conflictos laborales deben encontrar solución de la forma más rápida posible </a:t>
            </a:r>
            <a:r>
              <a:rPr b="0" i="1" lang="es-CL" sz="1900" spc="-1" strike="noStrike">
                <a:solidFill>
                  <a:srgbClr val="000000"/>
                </a:solidFill>
                <a:latin typeface="Century Gothic"/>
              </a:rPr>
              <a:t>“procurando concentrar en un solo acto aquellas diligencias en que esto sea posible”</a:t>
            </a:r>
            <a:r>
              <a:rPr b="0" lang="es-CL" sz="1900" spc="-1" strike="noStrike">
                <a:solidFill>
                  <a:srgbClr val="000000"/>
                </a:solidFill>
                <a:latin typeface="Century Gothic"/>
              </a:rPr>
              <a:t> (</a:t>
            </a:r>
            <a:r>
              <a:rPr b="0" lang="es-CL" sz="1900" spc="-1" strike="noStrike" u="sng">
                <a:solidFill>
                  <a:srgbClr val="000000"/>
                </a:solidFill>
                <a:uFillTx/>
                <a:latin typeface="Century Gothic"/>
              </a:rPr>
              <a:t>art. 428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Conecta con la buena fe y las facultades del juez para evitar las actuaciones dilatorias, en entendiéndose por tales, </a:t>
            </a:r>
            <a:r>
              <a:rPr b="0" i="1" lang="es-CL" sz="1900" spc="-1" strike="noStrike">
                <a:solidFill>
                  <a:srgbClr val="000000"/>
                </a:solidFill>
                <a:latin typeface="Century Gothic"/>
              </a:rPr>
              <a:t>“aquellas que con el sólo objeto de demorar la prosecución del juicio sean intentadas por alguna de las partes”,</a:t>
            </a:r>
            <a:r>
              <a:rPr b="0" lang="es-CL" sz="1900" spc="-1" strike="noStrike">
                <a:solidFill>
                  <a:srgbClr val="000000"/>
                </a:solidFill>
                <a:latin typeface="Century Gothic"/>
              </a:rPr>
              <a:t> pudiendo el juez rechazarlas de plano (</a:t>
            </a:r>
            <a:r>
              <a:rPr b="0" lang="es-CL" sz="1900" spc="-1" strike="noStrike" u="sng">
                <a:solidFill>
                  <a:srgbClr val="000000"/>
                </a:solidFill>
                <a:uFillTx/>
                <a:latin typeface="Century Gothic"/>
              </a:rPr>
              <a:t>art. 430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eclaración oficiosa de incompetencia, señalamiento del tribunal competente y remisión de los antecedentes (</a:t>
            </a:r>
            <a:r>
              <a:rPr b="0" lang="es-CL" sz="1900" spc="-1" strike="noStrike" u="sng">
                <a:solidFill>
                  <a:srgbClr val="000000"/>
                </a:solidFill>
                <a:uFillTx/>
                <a:latin typeface="Century Gothic"/>
              </a:rPr>
              <a:t>art. 447 inc. 1°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Acumulación de acciones y la acumulación de autos  para evitar una repetición innecesaria de actuaciones procesales  (</a:t>
            </a:r>
            <a:r>
              <a:rPr b="0" lang="es-CL" sz="1900" spc="-1" strike="noStrike" u="sng">
                <a:solidFill>
                  <a:srgbClr val="000000"/>
                </a:solidFill>
                <a:uFillTx/>
                <a:latin typeface="Century Gothic"/>
              </a:rPr>
              <a:t>Arts. 448 y 449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El </a:t>
            </a:r>
            <a:r>
              <a:rPr b="0" lang="es-CL" sz="1900" spc="-1" strike="noStrike" u="sng">
                <a:solidFill>
                  <a:srgbClr val="000000"/>
                </a:solidFill>
                <a:uFillTx/>
                <a:latin typeface="Century Gothic"/>
              </a:rPr>
              <a:t>art. 426 inc. 3</a:t>
            </a:r>
            <a:r>
              <a:rPr b="0" lang="es-CL" sz="1900" spc="-1" strike="noStrike">
                <a:solidFill>
                  <a:srgbClr val="000000"/>
                </a:solidFill>
                <a:latin typeface="Century Gothic"/>
              </a:rPr>
              <a:t>° CT, = iniciada la audiencia, ésta no podrá suspenderse, salvo caso fortuito o fuerza mayor.</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osibilidad del juez de recurrir a cualquier medio idóneo de comunicación o de transmisión de datos para comunicar al perito su designación o para acelerar la tramitación de oficios que se hubieren decretado (</a:t>
            </a:r>
            <a:r>
              <a:rPr b="0" lang="es-CL" sz="1900" spc="-1" strike="noStrike" u="sng">
                <a:solidFill>
                  <a:srgbClr val="000000"/>
                </a:solidFill>
                <a:uFillTx/>
                <a:latin typeface="Century Gothic"/>
              </a:rPr>
              <a:t>art. 453 N° 9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Rechazo de la prueba “sobreabundante”.</a:t>
            </a:r>
            <a:endParaRPr b="0" lang="en-US" sz="1900" spc="-1" strike="noStrike">
              <a:solidFill>
                <a:srgbClr val="000000"/>
              </a:solidFill>
              <a:latin typeface="Arial"/>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93" name="2 Título" descr=""/>
          <p:cNvPicPr/>
          <p:nvPr/>
        </p:nvPicPr>
        <p:blipFill>
          <a:blip r:embed="rId1"/>
          <a:stretch/>
        </p:blipFill>
        <p:spPr>
          <a:xfrm>
            <a:off x="450720" y="-7920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0680"/>
            <a:ext cx="8229600" cy="49482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Gothic"/>
              </a:rPr>
              <a:t>Art. 431 CT</a:t>
            </a:r>
            <a:r>
              <a:rPr b="0" lang="en-US" sz="2100" spc="-1" strike="noStrike">
                <a:solidFill>
                  <a:srgbClr val="000000"/>
                </a:solidFill>
                <a:latin typeface="Century Gothic"/>
              </a:rPr>
              <a:t>, </a:t>
            </a:r>
            <a:r>
              <a:rPr b="0" i="1" lang="en-US" sz="2100" spc="-1" strike="noStrike">
                <a:solidFill>
                  <a:srgbClr val="000000"/>
                </a:solidFill>
                <a:latin typeface="Century Gothic"/>
              </a:rPr>
              <a:t>“En las causas laborales, toda actuación, trámite o diligencia del juicio, realizada por funcionarios del tribunal será gratuita para las parte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El encargado de la gestión administrativa del tribunal será responsable disciplinariamente de la estricta observancia tanto de esta gratuidad como del oportuno cumplimiento de las diligencias.</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partes que gocen de privilegio de pobreza tendrán derecho a defensa letrada gratuita por parte de las respectivas Corporaciones de Asistencia Judicial o, en su defecto, por un abogado de turno, o del sistema de defensa gratuita que disponga la ley. Asimismo, tendrán derecho, a que todas las actuaciones en que deban intervenir auxiliares de la administración de justicia se cumplan oportuna y gratuitamente.</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defensas orales sólo podrán ser efectuadas por abogados habilitados”. </a:t>
            </a:r>
            <a:r>
              <a:rPr b="0" i="1" lang="en-US" sz="2100" spc="-1" strike="noStrike">
                <a:solidFill>
                  <a:srgbClr val="000000"/>
                </a:solidFill>
                <a:latin typeface="Century Gothic"/>
              </a:rPr>
              <a:t>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9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entury Gothic"/>
              </a:rPr>
              <a:t>Las partes tendrían un deber de probidad, lealtad, colaboración con la justicia y veracidad de los actos procesales.</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veracidad;</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mpletitud; y</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laboración</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14360" y="1474920"/>
            <a:ext cx="8229600" cy="4525920"/>
          </a:xfrm>
          <a:prstGeom prst="rect">
            <a:avLst/>
          </a:prstGeom>
          <a:noFill/>
          <a:ln w="0">
            <a:noFill/>
          </a:ln>
        </p:spPr>
        <p:txBody>
          <a:bodyPr anchor="t">
            <a:normAutofit fontScale="98000"/>
          </a:bodyPr>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veracidad</a:t>
            </a:r>
            <a:r>
              <a:rPr b="0" lang="es-ES" sz="2400" spc="-1" strike="noStrike">
                <a:solidFill>
                  <a:srgbClr val="000000"/>
                </a:solidFill>
                <a:latin typeface="Century Gothic"/>
              </a:rPr>
              <a:t>, = no alegar como existentes hechos que se saben inexistentes y o negar hechos que se saben inexistentes;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mpletitud</a:t>
            </a:r>
            <a:r>
              <a:rPr b="0" lang="es-ES" sz="2400" spc="-1" strike="noStrike">
                <a:solidFill>
                  <a:srgbClr val="000000"/>
                </a:solidFill>
                <a:latin typeface="Century Gothic"/>
              </a:rPr>
              <a:t> en las alegaciones  = alegar todos los hechos relevantes para la correcta resolución del conflicto sin omitir dato alguno que recaiga bajo el dominio de la parte; y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laboración,</a:t>
            </a:r>
            <a:r>
              <a:rPr b="0" lang="es-ES" sz="2400" spc="-1" strike="noStrike">
                <a:solidFill>
                  <a:srgbClr val="000000"/>
                </a:solidFill>
                <a:latin typeface="Century Gothic"/>
              </a:rPr>
              <a:t> = esfuerzo conjunto de las partes para buscar con el juez la justa y pronta solución del conflicto, y cuya manifestación principal sería la de acompañar al procedimiento todos los medios de prueba al alcance de la parte;</a:t>
            </a:r>
            <a:endParaRPr b="0" lang="en-US" sz="2400" spc="-1" strike="noStrike">
              <a:solidFill>
                <a:srgbClr val="000000"/>
              </a:solidFill>
              <a:latin typeface="Lucida Sans Unicode"/>
            </a:endParaRPr>
          </a:p>
        </p:txBody>
      </p:sp>
      <p:pic>
        <p:nvPicPr>
          <p:cNvPr id="399" name="2 Título" descr=""/>
          <p:cNvPicPr/>
          <p:nvPr/>
        </p:nvPicPr>
        <p:blipFill>
          <a:blip r:embed="rId1"/>
          <a:stretch/>
        </p:blipFill>
        <p:spPr>
          <a:xfrm>
            <a:off x="450720" y="281160"/>
            <a:ext cx="8242560" cy="11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34920" y="785880"/>
            <a:ext cx="8786880" cy="56433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30 inc. 1° CT </a:t>
            </a:r>
            <a:r>
              <a:rPr b="0" i="1" lang="es-CL" sz="1900" spc="-1" strike="noStrike">
                <a:solidFill>
                  <a:srgbClr val="000000"/>
                </a:solidFill>
                <a:latin typeface="Century Gothic"/>
              </a:rPr>
              <a:t>“los actos procesales deberán ejecutarse de buena fe, facultándose al tribunal para adoptar las medidas necesarias para impedir el fraude, el abuso del derecho y las actuaciones dilatoria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obstáculos formales y los defectos procedimentales no deben ser motivos que, por regla general, impidan el examen de fondo del asunto. </a:t>
            </a:r>
            <a:r>
              <a:rPr b="0" lang="es-CL" sz="1900" spc="-1" strike="noStrike" u="sng">
                <a:solidFill>
                  <a:srgbClr val="000000"/>
                </a:solidFill>
                <a:uFillTx/>
                <a:latin typeface="Century Gothic"/>
              </a:rPr>
              <a:t>Art. 429 inc. 2° CT  </a:t>
            </a:r>
            <a:r>
              <a:rPr b="0" lang="es-CL" sz="1900" spc="-1" strike="noStrike">
                <a:solidFill>
                  <a:srgbClr val="000000"/>
                </a:solidFill>
                <a:latin typeface="Century Gothic"/>
              </a:rPr>
              <a:t>en orden a que </a:t>
            </a:r>
            <a:r>
              <a:rPr b="0" i="1" lang="es-CL" sz="1900" spc="-1" strike="noStrike">
                <a:solidFill>
                  <a:srgbClr val="000000"/>
                </a:solidFill>
                <a:latin typeface="Century Gothic"/>
              </a:rPr>
              <a:t>“la nulidad procesal sólo podrá ser decretada si el vicio hubiere ocasionado perjuicio al litigante que la reclama o si no fuere susceptible de ser subsanado por otro medio”.</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rohibición de la prueba ilícita</a:t>
            </a:r>
            <a:r>
              <a:rPr b="0" lang="es-CL" sz="1900" spc="-1" strike="noStrike" u="sng">
                <a:solidFill>
                  <a:srgbClr val="000000"/>
                </a:solidFill>
                <a:uFillTx/>
                <a:latin typeface="Century Gothic"/>
              </a:rPr>
              <a:t>. Art. 453 N° 4, inc. 3°, </a:t>
            </a:r>
            <a:r>
              <a:rPr b="0" lang="es-CL" sz="1900" spc="-1" strike="noStrike">
                <a:solidFill>
                  <a:srgbClr val="000000"/>
                </a:solidFill>
                <a:latin typeface="Century Gothic"/>
              </a:rPr>
              <a:t>dispone al efecto que </a:t>
            </a:r>
            <a:r>
              <a:rPr b="0" i="1" lang="es-CL" sz="1900" spc="-1" strike="noStrike">
                <a:solidFill>
                  <a:srgbClr val="000000"/>
                </a:solidFill>
                <a:latin typeface="Century Gothic"/>
              </a:rPr>
              <a:t>“carecerán de valor probatorio y, en consecuencia, no podrán ser apreciadas por el tribunal, las pruebas que las partes aporten y que se hubieren obtenido directa o indirectamente por medios ilícitos o a través de actos que impliquen violación de derechos fundamental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obligación del juez de poner en conocimiento del testigo, en forma expresa y previa a su declaración, las sanciones contempladas en el art. 209 CP, por incurrir en falso testimonio (</a:t>
            </a:r>
            <a:r>
              <a:rPr b="0" lang="es-CL" sz="1900" spc="-1" strike="noStrike" u="sng">
                <a:solidFill>
                  <a:srgbClr val="000000"/>
                </a:solidFill>
                <a:uFillTx/>
                <a:latin typeface="Century Gothic"/>
              </a:rPr>
              <a:t>art. 454 N°5 CT</a:t>
            </a:r>
            <a:r>
              <a:rPr b="0" lang="es-CL" sz="1900" spc="-1" strike="noStrike">
                <a:solidFill>
                  <a:srgbClr val="000000"/>
                </a:solidFill>
                <a:latin typeface="Century Gothic"/>
              </a:rPr>
              <a:t>); </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prohibición de formular a los testigos preguntas en forma asertiva, o que contengan elementos de juicio que determinen la respuesta  o que sean impertinentes (</a:t>
            </a:r>
            <a:r>
              <a:rPr b="0" lang="es-CL" sz="1900" spc="-1" strike="noStrike" u="sng">
                <a:solidFill>
                  <a:srgbClr val="000000"/>
                </a:solidFill>
                <a:uFillTx/>
                <a:latin typeface="Century Gothic"/>
              </a:rPr>
              <a:t>art. 454 N°6 CT</a:t>
            </a:r>
            <a:r>
              <a:rPr b="0" lang="es-CL" sz="1900" spc="-1" strike="noStrike">
                <a:solidFill>
                  <a:srgbClr val="000000"/>
                </a:solidFill>
                <a:latin typeface="Century Gothic"/>
              </a:rPr>
              <a: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2 Título" descr=""/>
          <p:cNvPicPr/>
          <p:nvPr/>
        </p:nvPicPr>
        <p:blipFill>
          <a:blip r:embed="rId1"/>
          <a:stretch/>
        </p:blipFill>
        <p:spPr>
          <a:xfrm>
            <a:off x="450720" y="-79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rt. </a:t>
            </a:r>
            <a:r>
              <a:rPr b="0" lang="es-CL" sz="2000" spc="-1" strike="noStrike">
                <a:solidFill>
                  <a:srgbClr val="000000"/>
                </a:solidFill>
                <a:latin typeface="Century Gothic"/>
              </a:rPr>
              <a:t> </a:t>
            </a:r>
            <a:r>
              <a:rPr b="0" lang="es-ES" sz="2000" spc="-1" strike="noStrike">
                <a:solidFill>
                  <a:srgbClr val="000000"/>
                </a:solidFill>
                <a:latin typeface="Century Gothic"/>
              </a:rPr>
              <a:t>453, Nº1, inciso séptimo prescribe </a:t>
            </a:r>
            <a:r>
              <a:rPr b="0" i="1" lang="es-ES" sz="2000" spc="-1" strike="noStrike">
                <a:solidFill>
                  <a:srgbClr val="000000"/>
                </a:solidFill>
                <a:latin typeface="Century Gothic"/>
              </a:rPr>
              <a:t>“En la audiencia preparatoria se aplicarán las siguientes reglas: Nº1… Cuando el demandado no contestare la demanda, o de hacerlo no negare en ella algunos de los hechos contendidos en la demanda, el juez, en la sentencia definitiva, podrá estimarlos como tácitamente admitidos”.</a:t>
            </a: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La posibilidad de dar por probados unos hechos ante  conductas obstaculizadoras de la prueba realizadas por alguna de las partes: negativa a confesar (art. 454 N° 3 CT); negativa a exhibir documentos (art. 453 N° 5 CT).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Deberes positivos de actuación… los derechos de las partes juegan un papel subordinado al interés prioritario estatal</a:t>
            </a:r>
            <a:endParaRPr b="0" lang="en-US" sz="2000" spc="-1" strike="noStrike">
              <a:solidFill>
                <a:srgbClr val="000000"/>
              </a:solidFill>
              <a:latin typeface="Lucida Sans Unicode"/>
            </a:endParaRPr>
          </a:p>
        </p:txBody>
      </p:sp>
      <p:pic>
        <p:nvPicPr>
          <p:cNvPr id="403" name="2 Título" descr=""/>
          <p:cNvPicPr/>
          <p:nvPr/>
        </p:nvPicPr>
        <p:blipFill>
          <a:blip r:embed="rId1"/>
          <a:stretch/>
        </p:blipFill>
        <p:spPr>
          <a:xfrm>
            <a:off x="493560" y="268200"/>
            <a:ext cx="819972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40096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Las repetidas alusiones a que el proceso es el medio para que las partes y sus abogados colaboren con el juez en la obtención de lo más justo, en el descubrimiento de la verdad o la justicia material, sólo se comprende en un contexto ideológico que parte de dar por sobreentendido que los ciudadanos no tienen derecho a “pelear” por lo que crean que es suyo y a hacerlo con todas las armas que les proporciona el ordenamiento jurídico.” (</a:t>
            </a:r>
            <a:r>
              <a:rPr b="0" lang="es-ES" sz="1800" spc="-1" strike="noStrike">
                <a:solidFill>
                  <a:srgbClr val="000000"/>
                </a:solidFill>
                <a:latin typeface="Century Gothic"/>
              </a:rPr>
              <a:t>Montero Aroca: “Sobre el mito autoritario de la buena fe procesal”, </a:t>
            </a:r>
            <a:r>
              <a:rPr b="0" i="1" lang="es-ES" sz="1800" spc="-1" strike="noStrike">
                <a:solidFill>
                  <a:srgbClr val="000000"/>
                </a:solidFill>
                <a:latin typeface="Century Gothic"/>
              </a:rPr>
              <a:t>Proceso civil e ideología, </a:t>
            </a:r>
            <a:r>
              <a:rPr b="0" lang="es-ES" sz="1800" spc="-1" strike="noStrike">
                <a:solidFill>
                  <a:srgbClr val="000000"/>
                </a:solidFill>
                <a:latin typeface="Century Gothic"/>
              </a:rPr>
              <a:t>p. 337).</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l </a:t>
            </a:r>
            <a:r>
              <a:rPr b="1" lang="es-CL" sz="2700" spc="-1" strike="noStrike" u="sng">
                <a:solidFill>
                  <a:srgbClr val="000000"/>
                </a:solidFill>
                <a:uFillTx/>
                <a:latin typeface="Century Gothic"/>
              </a:rPr>
              <a:t>art. 425 </a:t>
            </a:r>
            <a:r>
              <a:rPr b="0" lang="es-CL" sz="2700" spc="-1" strike="noStrike">
                <a:solidFill>
                  <a:srgbClr val="000000"/>
                </a:solidFill>
                <a:latin typeface="Century Gothic"/>
              </a:rPr>
              <a:t>CT establece que </a:t>
            </a:r>
            <a:r>
              <a:rPr b="0" i="1" lang="es-CL" sz="2700" spc="-1" strike="noStrike">
                <a:solidFill>
                  <a:srgbClr val="000000"/>
                </a:solidFill>
                <a:latin typeface="Century Gothic"/>
              </a:rPr>
              <a:t>“los procedimientos del trabajo serán </a:t>
            </a:r>
            <a:r>
              <a:rPr b="0" i="1" lang="es-CL" sz="2700" spc="-1" strike="noStrike" u="sng">
                <a:solidFill>
                  <a:srgbClr val="000000"/>
                </a:solidFill>
                <a:uFillTx/>
                <a:latin typeface="Century Gothic"/>
              </a:rPr>
              <a:t>orales,</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públicos</a:t>
            </a:r>
            <a:r>
              <a:rPr b="0" i="1" lang="es-CL" sz="2700" spc="-1" strike="noStrike">
                <a:solidFill>
                  <a:srgbClr val="000000"/>
                </a:solidFill>
                <a:latin typeface="Century Gothic"/>
              </a:rPr>
              <a:t> y </a:t>
            </a:r>
            <a:r>
              <a:rPr b="0" i="1" lang="es-CL" sz="2700" spc="-1" strike="noStrike" u="sng">
                <a:solidFill>
                  <a:srgbClr val="000000"/>
                </a:solidFill>
                <a:uFillTx/>
                <a:latin typeface="Century Gothic"/>
              </a:rPr>
              <a:t>concentrados</a:t>
            </a:r>
            <a:r>
              <a:rPr b="0" i="1" lang="es-CL" sz="2700" spc="-1" strike="noStrike">
                <a:solidFill>
                  <a:srgbClr val="000000"/>
                </a:solidFill>
                <a:latin typeface="Century Gothic"/>
              </a:rPr>
              <a:t>. Primarán en ellos los principios de la i</a:t>
            </a:r>
            <a:r>
              <a:rPr b="0" i="1" lang="es-CL" sz="2700" spc="-1" strike="noStrike" u="sng">
                <a:solidFill>
                  <a:srgbClr val="000000"/>
                </a:solidFill>
                <a:uFillTx/>
                <a:latin typeface="Century Gothic"/>
              </a:rPr>
              <a:t>nmediación</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impulso procesal de oficio</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celeridad</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uena fe</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ilateralidad de la audiencia</a:t>
            </a:r>
            <a:r>
              <a:rPr b="0" lang="es-CL" sz="2700" spc="-1" strike="noStrike" u="sng">
                <a:solidFill>
                  <a:srgbClr val="000000"/>
                </a:solidFill>
                <a:uFillTx/>
                <a:latin typeface="Century Gothic"/>
              </a:rPr>
              <a:t> </a:t>
            </a:r>
            <a:r>
              <a:rPr b="0" i="1" lang="es-CL" sz="2700" spc="-1" strike="noStrike">
                <a:solidFill>
                  <a:srgbClr val="000000"/>
                </a:solidFill>
                <a:latin typeface="Century Gothic"/>
              </a:rPr>
              <a:t>y </a:t>
            </a:r>
            <a:r>
              <a:rPr b="0" i="1" lang="es-CL" sz="2700" spc="-1" strike="noStrike" u="sng">
                <a:solidFill>
                  <a:srgbClr val="000000"/>
                </a:solidFill>
                <a:uFillTx/>
                <a:latin typeface="Century Gothic"/>
              </a:rPr>
              <a:t>gratuidad</a:t>
            </a:r>
            <a:r>
              <a:rPr b="0" i="1" lang="es-CL" sz="2700" spc="-1" strike="noStrike">
                <a:solidFill>
                  <a:srgbClr val="000000"/>
                </a:solidFill>
                <a:latin typeface="Century Gothic"/>
              </a:rPr>
              <a:t>”.</a:t>
            </a:r>
            <a:r>
              <a:rPr b="0" lang="es-CL"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n el proyecto presentado por el Ejecutivo no se contemplaba dentro de este catálogo de principios el de “bilateralidad de la audiencia”. </a:t>
            </a:r>
            <a:endParaRPr b="0" lang="en-US" sz="2700" spc="-1" strike="noStrike">
              <a:solidFill>
                <a:srgbClr val="000000"/>
              </a:solidFill>
              <a:latin typeface="Lucida Sans Unicode"/>
            </a:endParaRPr>
          </a:p>
        </p:txBody>
      </p:sp>
      <p:pic>
        <p:nvPicPr>
          <p:cNvPr id="373"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Indicación que obedeció a la necesidad de “…mantener ciertos principios de bilateralidad </a:t>
            </a:r>
            <a:r>
              <a:rPr b="0" i="1" lang="es-CL" sz="2700" spc="-1" strike="noStrike">
                <a:solidFill>
                  <a:srgbClr val="000000"/>
                </a:solidFill>
                <a:latin typeface="Century Gothic"/>
              </a:rPr>
              <a:t>(sic) </a:t>
            </a:r>
            <a:r>
              <a:rPr b="0" lang="es-CL" sz="2700" spc="-1" strike="noStrike">
                <a:solidFill>
                  <a:srgbClr val="000000"/>
                </a:solidFill>
                <a:latin typeface="Century Gothic"/>
              </a:rPr>
              <a:t>en el procedimiento, cuestión que implica otorgar derechos equivalentes tanto al demandante como al demandado, lo que el proyecto –en su estructura original- no respeta al establecer estructuras dispares para las partes litigantes”.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Informe de la Comisión de Trabajo y Seguridad Social, recaído en el proyecto de ley que sustituye el procedimiento laboral contemplado en el Libro V del Código del Trabajo,</a:t>
            </a:r>
            <a:r>
              <a:rPr b="0" i="1" lang="es-CL" sz="1800" spc="-1" strike="noStrike">
                <a:solidFill>
                  <a:srgbClr val="000000"/>
                </a:solidFill>
                <a:latin typeface="Century Gothic"/>
              </a:rPr>
              <a:t> </a:t>
            </a:r>
            <a:r>
              <a:rPr b="0" lang="es-CL" sz="1800" spc="-1" strike="noStrike">
                <a:solidFill>
                  <a:srgbClr val="000000"/>
                </a:solidFill>
                <a:latin typeface="Century Gothic"/>
              </a:rPr>
              <a:t>p. 23. </a:t>
            </a:r>
            <a:endParaRPr b="0" lang="en-US" sz="1800" spc="-1" strike="noStrike">
              <a:solidFill>
                <a:srgbClr val="000000"/>
              </a:solidFill>
              <a:latin typeface="Lucida Sans Unicode"/>
            </a:endParaRPr>
          </a:p>
        </p:txBody>
      </p:sp>
      <p:pic>
        <p:nvPicPr>
          <p:cNvPr id="375"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El proceso es “</a:t>
            </a:r>
            <a:r>
              <a:rPr b="0" i="1" lang="en-US" sz="2700" spc="-1" strike="noStrike">
                <a:solidFill>
                  <a:srgbClr val="000000"/>
                </a:solidFill>
                <a:latin typeface="Century Gothic"/>
              </a:rPr>
              <a:t>el método de debate dialéctico y pacífico entre dos personas actuando en pie de perfecta </a:t>
            </a:r>
            <a:r>
              <a:rPr b="0" i="1" lang="en-US" sz="2700" spc="-1" strike="noStrike" u="sng">
                <a:solidFill>
                  <a:srgbClr val="000000"/>
                </a:solidFill>
                <a:uFillTx/>
                <a:latin typeface="Century Gothic"/>
              </a:rPr>
              <a:t>igualdad</a:t>
            </a:r>
            <a:r>
              <a:rPr b="0" i="1" lang="en-US" sz="2700" spc="-1" strike="noStrike">
                <a:solidFill>
                  <a:srgbClr val="000000"/>
                </a:solidFill>
                <a:latin typeface="Century Gothic"/>
              </a:rPr>
              <a:t> ante un tercero que ostenta el carácter de autoridad. </a:t>
            </a:r>
            <a:r>
              <a:rPr b="0" lang="en-US" sz="2700" spc="-1" strike="noStrike" u="sng">
                <a:solidFill>
                  <a:srgbClr val="000000"/>
                </a:solidFill>
                <a:uFillTx/>
                <a:latin typeface="Century Gothic"/>
              </a:rPr>
              <a:t>Y no otra cosa”.</a:t>
            </a:r>
            <a:r>
              <a:rPr b="0" lang="en-US" sz="2700" spc="-1" strike="noStrike">
                <a:solidFill>
                  <a:srgbClr val="000000"/>
                </a:solidFill>
                <a:latin typeface="Century Gothic"/>
              </a:rPr>
              <a:t>  (Alvarado Velloso)</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Mientras los principios del procedimiento son meras opciones político-legislativas y, por tanto, puramente </a:t>
            </a:r>
            <a:r>
              <a:rPr b="0" i="1" lang="en-US" sz="2700" spc="-1" strike="noStrike" u="sng">
                <a:solidFill>
                  <a:srgbClr val="000000"/>
                </a:solidFill>
                <a:uFillTx/>
                <a:latin typeface="Century Gothic"/>
              </a:rPr>
              <a:t>contingentes</a:t>
            </a:r>
            <a:r>
              <a:rPr b="0" lang="en-US" sz="2700" spc="-1" strike="noStrike">
                <a:solidFill>
                  <a:srgbClr val="000000"/>
                </a:solidFill>
                <a:latin typeface="Century Gothic"/>
              </a:rPr>
              <a:t>, los principios del proceso, son principios jurídico-naturales, vale decir, </a:t>
            </a:r>
            <a:r>
              <a:rPr b="0" i="1" lang="en-US" sz="2700" spc="-1" strike="noStrike" u="sng">
                <a:solidFill>
                  <a:srgbClr val="000000"/>
                </a:solidFill>
                <a:uFillTx/>
                <a:latin typeface="Century Gothic"/>
              </a:rPr>
              <a:t>necesarios</a:t>
            </a:r>
            <a:r>
              <a:rPr b="0" lang="en-US" sz="2700" spc="-1" strike="noStrike">
                <a:solidFill>
                  <a:srgbClr val="000000"/>
                </a:solidFill>
                <a:latin typeface="Century Gothic"/>
              </a:rPr>
              <a:t>.  </a:t>
            </a: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fesor CAROCCA identifica los </a:t>
            </a:r>
            <a:r>
              <a:rPr b="0" lang="en-US" sz="2800" spc="-1" strike="noStrike" u="sng">
                <a:solidFill>
                  <a:srgbClr val="000000"/>
                </a:solidFill>
                <a:uFillTx/>
                <a:latin typeface="Century Gothic"/>
                <a:ea typeface="Calibri"/>
              </a:rPr>
              <a:t>principios del proceso </a:t>
            </a:r>
            <a:r>
              <a:rPr b="0" lang="en-US" sz="2800" spc="-1" strike="noStrike">
                <a:solidFill>
                  <a:srgbClr val="000000"/>
                </a:solidFill>
                <a:latin typeface="Century Gothic"/>
                <a:ea typeface="Calibri"/>
              </a:rPr>
              <a:t>con las </a:t>
            </a:r>
            <a:r>
              <a:rPr b="0" lang="en-US" sz="2800" spc="-1" strike="noStrike" u="sng">
                <a:solidFill>
                  <a:srgbClr val="000000"/>
                </a:solidFill>
                <a:uFillTx/>
                <a:latin typeface="Century Gothic"/>
                <a:ea typeface="Calibri"/>
              </a:rPr>
              <a:t>“garantías del proceso”</a:t>
            </a:r>
            <a:r>
              <a:rPr b="0" lang="en-US" sz="2800" spc="-1" strike="noStrike">
                <a:solidFill>
                  <a:srgbClr val="000000"/>
                </a:solidFill>
                <a:latin typeface="Century Gothic"/>
                <a:ea typeface="Calibri"/>
              </a:rPr>
              <a:t> y, en definitiva, con la garantía del </a:t>
            </a:r>
            <a:r>
              <a:rPr b="0" lang="en-US" sz="2800" spc="-1" strike="noStrike" u="sng">
                <a:solidFill>
                  <a:srgbClr val="000000"/>
                </a:solidFill>
                <a:uFillTx/>
                <a:latin typeface="Century Gothic"/>
                <a:ea typeface="Calibri"/>
              </a:rPr>
              <a:t>“debido o justo proceso”.</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debido (justo) o no es proceso (es otra cosa)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un sistema de garantía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La principal de todas es la igualdad de las partes. Todas las demás se desprenden de ella…</a:t>
            </a:r>
            <a:endParaRPr b="0" lang="en-US" sz="2800" spc="-1" strike="noStrike">
              <a:solidFill>
                <a:srgbClr val="000000"/>
              </a:solidFill>
              <a:latin typeface="Lucida Sans Unicode"/>
            </a:endParaRPr>
          </a:p>
        </p:txBody>
      </p:sp>
      <p:pic>
        <p:nvPicPr>
          <p:cNvPr id="379"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Gothic"/>
              </a:rPr>
              <a:t>Principios del procedimiento  </a:t>
            </a:r>
            <a:r>
              <a:rPr b="0" lang="en-US" sz="2200" spc="-1" strike="noStrike">
                <a:solidFill>
                  <a:srgbClr val="000000"/>
                </a:solidFill>
                <a:latin typeface="Century Gothic"/>
              </a:rPr>
              <a:t>son opciones político-legislativas. Son binari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el legislador debe elegir si establece un procedimiento que permite tramitar un proceso oral o escrito; regido por la inmediación o la mediación; concentrado o desconcentrado; que sólo pueden iniciarse por las partes o de oficio por el tribunal; si permite la doble instancia o no, etc., lo que hará dependiendo de las </a:t>
            </a:r>
            <a:r>
              <a:rPr b="0" lang="en-US" sz="2200" spc="-1" strike="noStrike" u="sng">
                <a:solidFill>
                  <a:srgbClr val="000000"/>
                </a:solidFill>
                <a:uFillTx/>
                <a:latin typeface="Century Gothic"/>
              </a:rPr>
              <a:t>materias </a:t>
            </a:r>
            <a:r>
              <a:rPr b="0" lang="en-US" sz="2200" spc="-1" strike="noStrike">
                <a:solidFill>
                  <a:srgbClr val="000000"/>
                </a:solidFill>
                <a:latin typeface="Century Gothic"/>
              </a:rPr>
              <a:t>de que se trata y los </a:t>
            </a:r>
            <a:r>
              <a:rPr b="0" lang="en-US" sz="2200" spc="-1" strike="noStrike" u="sng">
                <a:solidFill>
                  <a:srgbClr val="000000"/>
                </a:solidFill>
                <a:uFillTx/>
                <a:latin typeface="Century Gothic"/>
              </a:rPr>
              <a:t>objetivos</a:t>
            </a:r>
            <a:r>
              <a:rPr b="0" lang="en-US" sz="2200" spc="-1" strike="noStrike">
                <a:solidFill>
                  <a:srgbClr val="000000"/>
                </a:solidFill>
                <a:latin typeface="Century Gothic"/>
              </a:rPr>
              <a:t> que persigue con su respectivo procedimiento “(CAROCCA) </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t>
            </a:r>
            <a:r>
              <a:rPr b="0" lang="en-US" sz="2200" spc="-1" strike="noStrike" u="sng">
                <a:solidFill>
                  <a:srgbClr val="000000"/>
                </a:solidFill>
                <a:uFillTx/>
                <a:latin typeface="Century Gothic"/>
              </a:rPr>
              <a:t>Art. 425 CT</a:t>
            </a:r>
            <a:r>
              <a:rPr b="0" lang="en-US" sz="2200" spc="-1" strike="noStrike">
                <a:solidFill>
                  <a:srgbClr val="000000"/>
                </a:solidFill>
                <a:latin typeface="Century Gothic"/>
              </a:rPr>
              <a:t>: oralidad, publicidad, concentración, inmediación, impulso procesal de oficio, [celeridad], [buena fe], [bilateralidad de la audiencia] y gratuidad.</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1" name="2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464646"/>
                </a:solidFill>
                <a:latin typeface="Century Gothic"/>
              </a:rPr>
              <a:t>Principios del procedimiento</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ralidad</a:t>
            </a:r>
            <a:r>
              <a:rPr b="0" lang="es-ES" sz="2700" spc="-1" strike="noStrike">
                <a:solidFill>
                  <a:srgbClr val="000000"/>
                </a:solidFill>
                <a:latin typeface="Century Gothic"/>
              </a:rPr>
              <a:t> y principios derivad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oncentr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Inmediación; 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Publicidad.</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tros principios:</a:t>
            </a:r>
            <a:r>
              <a:rPr b="0" i="1" lang="es-ES"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eler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Gratu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Buena f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y condiciona todas las actuaciones procedimentales (art. 425 inc. 2°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Posibilita la vigencia de los otros principios.</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Dos audiencias orales: preparatoria y de juicio.</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los incidentes (art. 443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l tribunal dicta resoluciones, autos y sentencias de forma verbal. Así, </a:t>
            </a:r>
            <a:r>
              <a:rPr b="0" i="1" lang="es-CL" sz="2500" spc="-1" strike="noStrike">
                <a:solidFill>
                  <a:srgbClr val="000000"/>
                </a:solidFill>
                <a:latin typeface="Century Gothic"/>
              </a:rPr>
              <a:t>“la reposición interpuesta en una audiencia deberá formularse verbalmente y resolverse en el acto”</a:t>
            </a:r>
            <a:r>
              <a:rPr b="0" lang="es-CL" sz="2500" spc="-1" strike="noStrike">
                <a:solidFill>
                  <a:srgbClr val="000000"/>
                </a:solidFill>
                <a:latin typeface="Century Gothic"/>
              </a:rPr>
              <a:t> (art. 475 inc. final CT)</a:t>
            </a:r>
            <a:r>
              <a:rPr b="0" i="1" lang="es-CL" sz="2500" spc="-1" strike="noStrike">
                <a:solidFill>
                  <a:srgbClr val="000000"/>
                </a:solidFill>
                <a:latin typeface="Century Gothic"/>
              </a:rPr>
              <a: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xcepciones = fase de discusión; recursos (fuera de audiencia);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0680"/>
            <a:ext cx="8229600" cy="51627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Necesaria presencia del Juez en las actuaciones procesales, especialmente en las alegaciones y prueba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lang="es-CL" sz="2100" spc="-1" strike="noStrike">
                <a:solidFill>
                  <a:srgbClr val="000000"/>
                </a:solidFill>
                <a:latin typeface="Century Gothic"/>
              </a:rPr>
              <a:t>El material probatorio en base a los cuales forma su convencimiento, se adquiere a través de la percepción directa del tribunal, de la información que ve y percibe a través de sus propios sentidos” (CAROCCA)</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Century Gothic"/>
              </a:rPr>
              <a:t>Art. 427 inc. 1° CT: </a:t>
            </a:r>
            <a:r>
              <a:rPr b="0" i="1" lang="es-CL" sz="2100" spc="-1" strike="noStrike">
                <a:solidFill>
                  <a:srgbClr val="000000"/>
                </a:solidFill>
                <a:latin typeface="Century Gothic"/>
              </a:rPr>
              <a:t>“Las audiencias se desarrollarán en su totalidad ante el juez de la causa, el que las presidirá y no podrá delegar su ministerio. El incumplimiento de este deber será sancionado con la nulidad insaneable de las actuaciones y de la audiencia, la que deberá declarar el juez de oficio o a petición de parte.”</a:t>
            </a:r>
            <a:r>
              <a:rPr b="0" lang="es-CL" sz="2100" spc="-1" strike="noStrike">
                <a:solidFill>
                  <a:srgbClr val="000000"/>
                </a:solidFill>
                <a:latin typeface="Century Gothic"/>
              </a:rPr>
              <a:t> En este último caso, </a:t>
            </a:r>
            <a:r>
              <a:rPr b="0" i="1" lang="es-CL" sz="2100" spc="-1" strike="noStrike">
                <a:solidFill>
                  <a:srgbClr val="000000"/>
                </a:solidFill>
                <a:latin typeface="Century Gothic"/>
              </a:rPr>
              <a:t>“el tribunal no podrá excusarse de decretar la nulidad”</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29, inc. 2°,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i="1" lang="es-CL" sz="2100" spc="-1" strike="noStrike">
                <a:solidFill>
                  <a:srgbClr val="000000"/>
                </a:solidFill>
                <a:latin typeface="Century Gothic"/>
              </a:rPr>
              <a:t>Si el juez que presidió la audiencia de juicio no pudiere dictar sentencia, aquélla deberá celebrarse nuevamente”</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60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2:44:17Z</dcterms:created>
  <dc:creator>sony</dc:creator>
  <dc:description/>
  <dc:language>en-US</dc:language>
  <cp:lastModifiedBy>cpalavecino</cp:lastModifiedBy>
  <dcterms:modified xsi:type="dcterms:W3CDTF">2011-08-29T20:49:05Z</dcterms:modified>
  <cp:revision>12</cp:revision>
  <dc:subject/>
  <dc:title>PRINCIPIOS DEL PROCESO Y PRINCIPIOS DE LOS PROCEDIMIENTOS LABORALES</dc:title>
</cp:coreProperties>
</file>