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99E-4D1B-45CD-A4AF-67EF85FD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804-CAF7-44A2-AA49-C033F6AA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74E-6B1D-4325-8E92-CCD04F6F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693-F0B3-437B-B8C3-9D2DB2EE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9187-AC83-4C8A-B00C-003A5A6D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C49-3498-4542-B18A-6F0E5E14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677D-3FE0-470D-87A6-2B81D3FE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F92A-022E-4767-BCE0-AB036B99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E068-6989-4FE2-9FBD-F93FBC1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3E1-FAE5-4829-8A47-6DDA1A5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9354-47E1-48E5-9CFC-7F25814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1D4-37B2-420A-97AE-8EBF300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C062-B706-462B-B1E9-CD9DB79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3BDC-FDC5-4CF8-A25D-BA92C4B6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635-1369-4E9B-9935-57DB7386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C53-0435-4F90-8F29-DC50F67C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B3B0-1C3E-45A7-A1C2-1B692B77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366-C1A6-4C8C-A4DC-94F533F0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666-E4BD-4C86-9A70-A0C1447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27E-B250-4DD8-AF3A-06B0E86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8EE-6578-4BC4-98E0-1C8AD47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DA8-373A-40BB-9886-2495D199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292-85C9-4427-A16F-3090716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B7F-61CF-49CD-A691-45351DC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4BBA-0B9D-4D58-AC5E-A064B38AEEF6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86DE-9922-4876-A937-D4C9EA0191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4360" y="2421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0C1-8DAC-44E9-8611-1A45A80AF353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C26-FABF-4F2B-B523-F8C3EED51D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ORNADA DE TRABAJO Y DESCAN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 Martínez Riv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A176-95C2-420C-80AC-28EEA99844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Concepto [Art. 2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Jornada Pasiva: el cambio de ropa: Jurisprudencia C.S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Ayala con CODELCO”: sólo el tiempo que se utiliza en la casa de cambio al llega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8 de CODELCO con CODELCO el Tte.”: el cambio de ropa nunca es jornad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7 de CODELCO con CODELCO el Tte.”: el cambio de ropa en casa de cambio tanto inicio como al término constituye jornada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Duración y distribución de la jornad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Trabajadores excluidos de jornada (22 CT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que pp. ss. a distintos empleador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gerentes, adm., apoderados con facultades de adm. y todos aquellos que trabajen sin supervisión directa inmediat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agentes comisionistas y de seguros, vendedores viajantes, cobradores y demás  similares que no ejerzan su función en el lugar del establecimien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trabajadores que se desempeñan a bordo de naves pesquer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trabajadores que prestan sus servicios fuera del lugar o sitio de la empresa mediante medios informáticos  o de telecomunicacion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DED-D8B6-41FA-BDA7-21C2A39895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dores excluidos de jornada (cont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ortistas profesionales y trabajadores que desempeñan labores conex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oficiales y tripulantes de la marina mercante (108 CT excepción al 106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de casa particular (149 CT) 1X12x1/1x12x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B78-E178-4926-B58B-C4C7EEC03E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 Imagen" descr="Imagen3.png"/>
          <p:cNvPicPr/>
          <p:nvPr/>
        </p:nvPicPr>
        <p:blipFill>
          <a:blip r:embed="rId2"/>
          <a:stretch/>
        </p:blipFill>
        <p:spPr>
          <a:xfrm>
            <a:off x="281160" y="204840"/>
            <a:ext cx="858168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FB4-B8BD-467A-87FE-FCAF1700F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Jornada Mayor o Prolongada (art. 27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endientes que prestan servicio en hoteles, restaurantes o clubes, exceptuado el personal administrativo y de lavandería, lencería o cocina  (garzones y camareros) cuando el movimiento diario sea escaso y los trabajadores deban mantenerse constantemente a disposición del públ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embarcados o gente de mar (art. 106 CT). Nave en el mar/puer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5FF-5E38-439A-B54E-D7FC936C96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Jornadas espe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l transporte público de pasajeros y de carg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casa particul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agríco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artes y espectácu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B36-507E-4B1A-AC0B-A158694413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ornada Excedida (Ius variandi, se pagan como extraordinaria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Casos genéricos (art. 29 CT) = evitar perjuicios en el establecimiento o faena; CF; impedir accidentes o realizar arreglo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Dependientes del comercio (art. 2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Extensión de la jornada por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sta 2 horas diari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Por 9 días dentro de los últimos 15 antes de nav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más allá de las 23 hrs x 9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ías, y de las 20 hrs el día antes de navidad y año nue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A25-3DE0-4867-B2CC-3F0644F3B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traordinaria (art. 30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: PE; faenas que pueda pactarse, límite máxi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muneración de las horas extraordinarias. Ejemp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trol de la jornada y horas extraordinarias (Art. 33 C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escrip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D24-4F05-4672-B611-7B53546CA2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Parcial (art. 40 bis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cepcional autorizada por el Director del Trabajo (Art. 38 Inc 6° y final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 (revisar formulario 35 DT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1. Caso calificado por 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2. Resolución fundada (t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3. Acuerdo con los trabaj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4. Fiscalización de higiene y segur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6C0-47E6-4641-9FEC-07DD905D1C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- 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LASIFIC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El descanso diari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 (art. 34 C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(no se imputa, 30 min., d° irrenunciab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cep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672-256B-447A-8CA8-4124968C72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canso seman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oncepto  (art. 35 CT)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uración: Inicio y término (art. 36 CT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aracterísticas: *Irrenunciable, caso art. 35 bis. (hábil entre dos feriados, o sábado o domingo) las recuperativas no son extraordinarias, no se puede recuperar en domingo... *Remuner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rabajadores exceptuados de descanso dominic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8 N° 1-8, (caso 1, 3, 4, 5, 6, 8) (caso 2 y 7) 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¿Cómo se paga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38 inc. 6° y final. Jornada excep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9 pp.ss. en lugares apartados de centros urbanos. Bisemanales, descanso + 1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DD1-36F7-4C53-8B87-64B2FA9A2D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AUTA CLASE (2 y 4 de enero)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.- CAPACIDAD LABORAL, NACIONA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.- JORNADA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I.- DESCAN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. DESCANSO DIAR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. DESCANSO SEMA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. DESCANSO ANUAL, FERIADO, VAC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95280" y="155736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1FA-CCC7-436D-A476-B063006842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Descanso anual, feriado o va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e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nda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Concep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Oportunidad (67 inc. 2°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Duración/clasificación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Base: 15 días hábi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Mayor: 25 días I, II, III, XI y X (14/08/1981). Ley 20056= 20 días hábiles XII, XI y Palen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gresivo (art. 68): 10 años continuos o no, para uno o más empleadores, devenga 1 día + por cada 3 años por sobre 10. Es negociable. (Mostrar ejemplos de situaciones posible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porcional: no cumple req. para el base, indemnización. (Hacer ejercicio de cálcul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lectivo (art. 76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AA0-388C-4A6D-81B2-3D7577DDC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aracterísticas Feriad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Remunerado (arts. 67 y 71 C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muneración integra”, distingu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(Ejercicio de cálculo con remuneración variabl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Cómputo en días hábi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rrenunci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es compensable en dinero “es para que lo goce”, excepcio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Acumulable. Prescrip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ncremento de remuneración durante el feri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Se puede fracciona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EAC-E3C5-42B2-B2DE-FB166A313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.-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Gene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el Código del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dad para contra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das de prote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del contrato con men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(sanciones) por incumpl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8C4-66D9-45E4-92CC-D8FF3E78C7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- Reglas de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8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5 y menores de 18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e o mad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elo o abu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dadores o institución que lo tomó a su ca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ector del trabajo c/conocimiento del Juez de Famil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nores de 15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n trabajar si son autorizados por su Representante Legal o Juez de Famil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s de cine teatro o televi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plimiento de normas de prote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jer casada (150 C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BEF-84FF-4F3D-BBB2-7E47F57F0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- Reglas de prote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ligación escolar y jornad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creditar haber culminado EM, o, en su caso, estar cursando ésta o la EB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M o EB el trabajo no debe dificultar la asistencia a cla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B o EM no puede trabajar más de 30 horas seman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todo caso, no podrán trabajar más de 8 horas diari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establecimientos industriales o comerciales entre las 22 y 07 h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Tipo de trabaj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se trate de trabajos ligeros que no perjudiquen la salud y desarrollo del menor (art. 13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faenas que requieran fuerzas excesivas o actividades que puedan resultar peligrosas para su salud, seguridad, moralidad (art. 14 inc. 1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Los menores de 21 años no podrán ser contratados para trabajos mineros subterráneos, sin realizarse previamente un examen de salud (14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empujar, arrastrar, cargar manualmente, y sin ayuda mecánica, más de 20 kg (art. 211 C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el trabajo no sea de aquellos que el reglamento determine como peligrosos para su salud y desarrollo (13 inc. 8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EFD-E131-46AC-BA41-594E8CF42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2.- Reglas de protección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ugar de trabaj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podrán trabajar en cabarets y establecimientos análogos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ue presenten espectáculos vivos (art. 15 inc. 1º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mpoco en lugares que se expendan bebidas alcohólicas que se consuman en el establecimiento (supermercado, botillerías, pub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umplen normas de prote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orización del RL y del J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scripción del contr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 empresa (empleador) debe registrar dicho contrato en la inspección comunal del trabajo (art. 13 inc. 9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BC2-9A5F-4829-A1F2-7370133480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- Efectos del contrato de men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las del Derecho Comú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eculio profesional (250 y 251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rigen las reglas de la patria potestad (Dº legal de goce y adm. del pad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quiere autorización del juez para enajenar bienes raíces (254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ujer casada menor de 18 años, que ejerza… separada de bienes (patrimonio reservado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. judicial para enajenar inmuebles (art. 150 C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DD2-6A60-4246-AB4E-964A81195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4.- Efectos (sanciones) por incumpimient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. 17 CT :”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i se contratare a un  menor sin sujeción a lo dispuesto en los artículos anteriores…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empleador estará sujeto a todas las obligaciones inherentes al contrato mientras se apli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inspector de oficio o a petición de parte, ordenará la cesación de la relación labo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 aplicará una multa (506 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l art. 211-j C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 los menores en trabajos minero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“non bis in idem” (ya tiene sanción 3-8 UT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CD7-527C-46E3-B30E-04406A030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acionalidad en el 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rt. 19 CT: “El 85%, a lo menos, de los trabajadores que sirvan a un mismo empleador será de nacionalidad chilena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cepción si ocupa menos de 25 trabaj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ómput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el total de los trabajadores dentro del territorio y no por sucur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o se considera personal técnico irreemplazable por chile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rá chileno al extranjero cuyo cónyuge o hijo sean chilenos, o viudo o viuda de cónyuge chile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chileno a los extranjeros residentes por más de 5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906-1502-443D-8C63-D87493B9F8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2-01-28T21:50:58Z</dcterms:modified>
  <cp:revision>27</cp:revision>
  <dc:subject/>
  <dc:title>Modelo</dc:title>
</cp:coreProperties>
</file>