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052-160B-402C-B36C-36B4AB35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C4E-3952-4640-97C7-91578F0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BC7-96DC-444D-A57F-2E075B5A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A3D-371E-4304-80D4-86E9F338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30D-E8BB-497E-BA3D-D55E30B8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A017-A022-480A-90A9-70D31C46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1B2-BD53-4F63-B551-6493793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D8F6-B3EC-46E5-A7D1-3D3D694B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8778-B740-44D4-B913-A85605D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AC2-6C46-4991-925C-8A220B70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3452-E07B-4AA9-B0B2-B5D5A92A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42F-4B96-41A4-86DB-7B2B64C2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D6C1-59EF-49AB-9011-1FEB39C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52D-B301-496E-85C2-70C9F01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556A-16EA-43FE-8003-D7F7F24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AAB2-E1DA-420C-A6F3-B8DB924D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3EA1-CFC2-4E38-85F7-1C6D8D9C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9F9-A37A-4C01-905F-0535A7AC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BE3-667E-4D2C-BBCB-EFC15AC5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846-EA36-4DD3-BAD6-69236E0D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438-263A-4092-A687-EEABD75E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947-C30F-4D18-8F18-F7A5884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373-E9D4-470C-8395-CF80CC1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68B-164D-4BE9-9A33-1830CF6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88BB-BD3E-4588-8A93-2388B5D8B2F9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6C6-B7D1-4573-A076-999822994F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4360" y="2421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353-25F7-414F-A8A7-B78BBAADC24F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01B0-4F85-4B44-8D68-E333C0031F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ORNADA DE TRABAJO Y DESCAN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 Martínez Riv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BFDC-32E1-4587-99E7-82106B6F89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Concepto [Art. 2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Jornada Pasiva: el cambio de ropa: Jurisprudencia C.S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Ayala con CODELCO”: sólo el tiempo que se utiliza en la casa de cambio al llega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8 de CODELCO con CODELCO el Tte.”: el cambio de ropa nunca es jornad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7 de CODELCO con CODELCO el Tte.”: el cambio de ropa en casa de cambio tanto inicio como al término constituye jornada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Duración y distribución de la jornad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Trabajadores excluidos de jornada (22 CT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que pp. ss. a distintos empleador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gerentes, adm., apoderados con facultades de adm. y todos aquellos que trabajen sin supervisión directa inmediat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agentes comisionistas y de seguros, vendedores viajantes, cobradores y demás  similares que no ejerzan su función en el lugar del establecimien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trabajadores que se desempeñan a bordo de naves pesquer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trabajadores que prestan sus servicios fuera del lugar o sitio de la empresa mediante medios informáticos  o de telecomunicacion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448-93D0-4AFA-8C24-0F3B02CCA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dores excluidos de jornada (cont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ortistas profesionales y trabajadores que desempeñan labores conex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oficiales y tripulantes de la marina mercante (108 CT excepción al 106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de casa particular (149 CT) 1X12x1/1x12x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051-2EC0-476A-A11F-00C20D9B7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 Imagen" descr="Imagen3.png"/>
          <p:cNvPicPr/>
          <p:nvPr/>
        </p:nvPicPr>
        <p:blipFill>
          <a:blip r:embed="rId2"/>
          <a:stretch/>
        </p:blipFill>
        <p:spPr>
          <a:xfrm>
            <a:off x="281160" y="204840"/>
            <a:ext cx="858168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4D4-265E-4DAA-A4BF-852B12F779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Jornada Mayor o Prolongada (art. 27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endientes que prestan servicio en hoteles, restaurantes o clubes, exceptuado el personal administrativo y de lavandería, lencería o cocina  (garzones y camareros) cuando el movimiento diario sea escaso y los trabajadores deban mantenerse constantemente a disposición del públ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embarcados o gente de mar (art. 106 CT). Nave en el mar/puer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1B6-77D2-454B-A5D4-7B945B01B1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Jornadas espe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l transporte público de pasajeros y de carg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casa particul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agríco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artes y espectácu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BA4-B5E0-4144-99AB-A25801F97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ornada Excedida (Ius variandi, se pagan como extraordinaria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Casos genéricos (art. 29 CT) = evitar perjuicios en el establecimiento o faena; CF; impedir accidentes o realizar arreglo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Dependientes del comercio (art. 2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Extensión de la jornada por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sta 2 horas diari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Por 9 días dentro de los últimos 15 antes de nav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más allá de las 23 hrs x 9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ías, y de las 20 hrs el día antes de navidad y año nue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7A9-BDE1-4322-9437-A35DB66084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traordinaria (art. 30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: PE; faenas que pueda pactarse, límite máxi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muneración de las horas extraordinarias. Ejemp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trol de la jornada y horas extraordinarias (Art. 33 C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escrip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7A8-0D94-4A67-B4A6-6CB2E048A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Parcial (art. 40 bis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cepcional autorizada por el Director del Trabajo (Art. 38 Inc 6° y final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 (revisar formulario 35 DT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1. Caso calificado por 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2. Resolución fundada (t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3. Acuerdo con los trabaj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4. Fiscalización de higiene y segur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4C6-18BD-4412-AF43-36A6E128D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- 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LASIFIC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El descanso diari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 (art. 34 C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(no se imputa, 30 min., d° irrenunciab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cep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E5B-9BE9-48A5-A032-7A0DD91084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canso seman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oncepto  (art. 35 CT)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uración: Inicio y término (art. 36 CT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aracterísticas: *Irrenunciable, caso art. 35 bis. (hábil entre dos feriados, o sábado o domingo) las recuperativas no son extraordinarias, no se puede recuperar en domingo... *Remuner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rabajadores exceptuados de descanso dominic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8 N° 1-8, (caso 1, 3, 4, 5, 6, 8) (caso 2 y 7) 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¿Cómo se paga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38 inc. 6° y final. Jornada excep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9 pp.ss. en lugares apartados de centros urbanos. Bisemanales, descanso + 1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A85-02BC-494F-9095-746B665984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AUTA CLASE (2 y 4 de enero)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.- CAPACIDAD LABORAL, NACIONA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.- JORNADA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I.- DESCAN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. DESCANSO DIAR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. DESCANSO SEMA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. DESCANSO ANUAL, FERIADO, VAC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95280" y="155736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CB8-F97F-4D4C-BB86-0B4CA417EA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Descanso anual, feriado o va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e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nda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Concep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Oportunidad (67 inc. 2°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Duración/clasificación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Base: 15 días hábi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Mayor: 25 días I, II, III, XI y X (14/08/1981). Ley 20056= 20 días hábiles XII, XI y Palen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gresivo (art. 68): 10 años continuos o no, para uno o más empleadores, devenga 1 día + por cada 3 años por sobre 10. Es negociable. (Mostrar ejemplos de situaciones posible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porcional: no cumple req. para el base, indemnización. (Hacer ejercicio de cálcul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lectivo (art. 76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034-A36B-45BC-8BC7-60861E4FB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aracterísticas Feriad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Remunerado (arts. 67 y 71 C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muneración integra”, distingu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(Ejercicio de cálculo con remuneración variabl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Cómputo en días hábi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rrenunci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es compensable en dinero “es para que lo goce”, excepcio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Acumulable. Prescrip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ncremento de remuneración durante el feri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Se puede fracciona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B49-99F6-496A-BE02-A18DD20A47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.-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Gene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el Código del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dad para contra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das de prote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del contrato con men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(sanciones) por incumpl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1CA-88D8-47BA-9CBE-D64B1032CC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- Reglas de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8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5 y menores de 18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e o mad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elo o abu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dadores o institución que lo tomó a su ca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ector del trabajo c/conocimiento del Juez de Famil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nores de 15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n trabajar si son autorizados por su Representante Legal o Juez de Famil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s de cine teatro o televi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plimiento de normas de prote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jer casada (150 C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C25-3854-485A-BC6D-8F85FBD07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- Reglas de prote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ligación escolar y jornad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creditar haber culminado EM, o, en su caso, estar cursando ésta o la EB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M o EB el trabajo no debe dificultar la asistencia a cla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B o EM no puede trabajar más de 30 horas seman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todo caso, no podrán trabajar más de 8 horas diari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establecimientos industriales o comerciales entre las 22 y 07 h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Tipo de trabaj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se trate de trabajos ligeros que no perjudiquen la salud y desarrollo del menor (art. 13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faenas que requieran fuerzas excesivas o actividades que puedan resultar peligrosas para su salud, seguridad, moralidad (art. 14 inc. 1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Los menores de 21 años no podrán ser contratados para trabajos mineros subterráneos, sin realizarse previamente un examen de salud (14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empujar, arrastrar, cargar manualmente, y sin ayuda mecánica, más de 20 kg (art. 211 C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el trabajo no sea de aquellos que el reglamento determine como peligrosos para su salud y desarrollo (13 inc. 8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E14-2572-44A7-A73A-84B0EFBC1C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2.- Reglas de protección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ugar de trabaj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podrán trabajar en cabarets y establecimientos análogos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ue presenten espectáculos vivos (art. 15 inc. 1º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mpoco en lugares que se expendan bebidas alcohólicas que se consuman en el establecimiento (supermercado, botillerías, pub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umplen normas de prote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orización del RL y del J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scripción del contr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 empresa (empleador) debe registrar dicho contrato en la inspección comunal del trabajo (art. 13 inc. 9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D90-A75C-42F4-84EA-EF538BEF6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- Efectos del contrato de men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las del Derecho Comú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eculio profesional (250 y 251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rigen las reglas de la patria potestad (Dº legal de goce y adm. del pad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quiere autorización del juez para enajenar bienes raíces (254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ujer casada menor de 18 años, que ejerza… separada de bienes (patrimonio reservado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. judicial para enajenar inmuebles (art. 150 C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F20-BE53-4837-BDCA-C92D400046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4.- Efectos (sanciones) por incumpimient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. 17 CT :”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i se contratare a un  menor sin sujeción a lo dispuesto en los artículos anteriores…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empleador estará sujeto a todas las obligaciones inherentes al contrato mientras se apli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inspector de oficio o a petición de parte, ordenará la cesación de la relación labo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 aplicará una multa (506 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l art. 211-j C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 los menores en trabajos minero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“non bis in idem” (ya tiene sanción 3-8 UT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6DE-7329-41C8-9023-8761983524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acionalidad en el 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rt. 19 CT: “El 85%, a lo menos, de los trabajadores que sirvan a un mismo empleador será de nacionalidad chilena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cepción si ocupa menos de 25 trabaj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ómput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el total de los trabajadores dentro del territorio y no por sucur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o se considera personal técnico irreemplazable por chile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rá chileno al extranjero cuyo cónyuge o hijo sean chilenos, o viudo o viuda de cónyuge chile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chileno a los extranjeros residentes por más de 5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AF0-40E1-4288-A83A-0E09B3ABD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2-01-28T21:50:58Z</dcterms:modified>
  <cp:revision>27</cp:revision>
  <dc:subject/>
  <dc:title>Modelo</dc:title>
</cp:coreProperties>
</file>