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49A-4ACA-43BD-A7C1-5DD962F6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242-D6BA-409D-ABE1-89AC4C71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47C-DDB4-4861-9403-1D347D49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1F6-1F3B-404E-B077-E02FDE2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A9E-A1B9-4810-9E93-13B317C8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8727-3887-4E24-8B96-B30DEA8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3654-D428-4701-9903-F19F8E7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81CB-B0FF-41C6-91D6-E0540D36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9262-69D9-4F1E-89B9-1DEDDA7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CE0-7973-490F-BB3F-7C6117E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575A-9BC9-4399-AD9C-AD3A7F4A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460-7EB0-4336-84D8-C2B010B6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0782-0160-4EBB-A754-7A111FA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EDDD-1D6E-4AD2-AC7C-59AF458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F2B9-B721-42E6-963F-E9F274EA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B52E-DE06-44C4-906F-982F2149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E30D-065D-4A5E-A39A-F32AEE7A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645-E414-49F7-8D12-D3A4279B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09C-0374-4A8E-B878-8525961F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98A-18DC-4D50-AB76-40514858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7F0-2BB6-4FBA-B2DC-7A30B51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58C-3CEE-4827-B760-BF12BB4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6B2-4FCD-49B3-8790-B7AA50E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F04-2E00-4BA9-8DE3-4AF3BE0F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910C-74BA-4C14-8952-BC29B2975A5C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796C-9498-4927-906B-C6FE038290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4360" y="2421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BFC-8F93-4EE9-BAD9-DDACF0088FF2}" type="datetime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6B4F-0ED4-45DF-84EE-452C1D2C4D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ORNADA DE TRABAJO Y DESCAN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 Martínez Riv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rge.martinez@derecho.uchile.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63D5-6D4C-42BC-A85B-EF54F1877E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Concepto [Art. 2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Jornada Pasiva: el cambio de ropa: Jurisprudencia C.S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Ayala con CODELCO”: sólo el tiempo que se utiliza en la casa de cambio al llega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8 de CODELCO con CODELCO el Tte.”: el cambio de ropa nunca es jornada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Sindicato N° 7 de CODELCO con CODELCO el Tte.”: el cambio de ropa en casa de cambio tanto inicio como al término constituye jornada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Duración y distribución de la jornad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Trabajadores excluidos de jornada (22 CT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que pp. ss. a distintos empleador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gerentes, adm., apoderados con facultades de adm. y todos aquellos que trabajen sin supervisión directa inmediat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agentes comisionistas y de seguros, vendedores viajantes, cobradores y demás  similares que no ejerzan su función en el lugar del establecimient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trabajadores que se desempeñan a bordo de naves pesquer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500" spc="-1" strike="noStrike">
                <a:solidFill>
                  <a:srgbClr val="000000"/>
                </a:solidFill>
                <a:latin typeface="Verdana"/>
              </a:rPr>
              <a:t>* Los trabajadores que prestan sus servicios fuera del lugar o sitio de la empresa mediante medios informáticos  o de telecomunicacion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DCD-769A-43B8-9812-9BCD29BD9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dores excluidos de jornada (cont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ortistas profesionales y trabajadores que desempeñan labores conex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oficiales y tripulantes de la marina mercante (108 CT excepción al 106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de casa particular (149 CT) 1X12x1/1x12x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B77-D5D2-426F-9B66-0E088C9688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 Imagen" descr="Imagen3.png"/>
          <p:cNvPicPr/>
          <p:nvPr/>
        </p:nvPicPr>
        <p:blipFill>
          <a:blip r:embed="rId2"/>
          <a:stretch/>
        </p:blipFill>
        <p:spPr>
          <a:xfrm>
            <a:off x="281160" y="204840"/>
            <a:ext cx="858168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EB6-0E7E-47EF-AFB4-61861B487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Jornada Mayor o Prolongada (art. 27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Dependientes que prestan servicio en hoteles, restaurantes o clubes, exceptuado el personal administrativo y de lavandería, lencería o cocina  (garzones y camareros) cuando el movimiento diario sea escaso y los trabajadores deban mantenerse constantemente a disposición del públ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* Trabajadores embarcados o gente de mar (art. 106 CT). Nave en el mar/puer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54D-E873-4E6D-AA07-2BEBC8FA8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Jornadas espe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l transporte público de pasajeros y de carg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casa particul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agríco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Trabajadores de artes y espectácu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7EA-90D2-4C19-85CE-837CA4D192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ornada Excedida (Ius variandi, se pagan como extraordinaria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Casos genéricos (art. 29 CT) = evitar perjuicios en el establecimiento o faena; CF; impedir accidentes o realizar arreglos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Dependientes del comercio (art. 2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Extensión de la jornada por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sta 2 horas diari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Por 9 días dentro de los últimos 15 antes de nav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más allá de las 23 hrs x 9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ías, y de las 20 hrs el día antes de navidad y año nue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3C0-BBCB-4F19-AFB7-0F9E4A7A9A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traordinaria (art. 30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: PE; faenas que pueda pactarse, límite máxi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muneración de las horas extraordinarias. Ejemp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trol de la jornada y horas extraordinarias (Art. 33 C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escrip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B39-DFCA-4FC2-8BD1-1FE14E507A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JORNAD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Parcial (art. 40 bis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Jornada Excepcional autorizada por el Director del Trabajo (Art. 38 Inc 6° y final C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quisitos (revisar formulario 35 DT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1. Caso calificado por 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2. Resolución fundada (t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3. Acuerdo con los trabaj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4. Fiscalización de higiene y segur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12A-BBBE-4BE7-8224-6C99C9295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- 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LASIFIC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* El descanso diari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oncepto (art. 34 C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aracterísticas (no se imputa, 30 min., d° irrenunciab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cep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BFC-20EA-47DF-8AF3-B78B361026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canso seman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oncepto  (art. 35 CT)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uración: Inicio y término (art. 36 CT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Características: *Irrenunciable, caso art. 35 bis. (hábil entre dos feriados, o sábado o domingo) las recuperativas no son extraordinarias, no se puede recuperar en domingo... *Remuner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rabajadores exceptuados de descanso dominic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8 N° 1-8, (caso 1, 3, 4, 5, 6, 8) (caso 2 y 7) 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¿Cómo se paga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38 inc. 6° y final. Jornada excep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* art. 39 pp.ss. en lugares apartados de centros urbanos. Bisemanales, descanso + 1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FF3-55F5-4FB7-B175-CE9AF32EFA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AUTA CLASE (2 y 4 de enero)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.- CAPACIDAD LABORAL, NACIONA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.- JORNADA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II.- DESCAN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.- CONCEP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.- CLASIFICACIÓ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. DESCANSO DIAR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. DESCANSO SEMA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. DESCANSO ANUAL, FERIADO, VAC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65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95280" y="155736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99B-8B0D-4ABE-B550-D702C28D2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Descanso anual, feriado o va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e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Fundamen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Concept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Oportunidad (67 inc. 2°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* Duración/clasificación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Base: 15 días hábi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Mayor: 25 días I, II, III, XI y X (14/08/1981). Ley 20056= 20 días hábiles XII, XI y Palen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gresivo (art. 68): 10 años continuos o no, para uno o más empleadores, devenga 1 día + por cada 3 años por sobre 10. Es negociable. (Mostrar ejemplos de situaciones posible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Proporcional: no cumple req. para el base, indemnización. (Hacer ejercicio de cálcul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lectivo (art. 76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5F9-6649-411F-B4FF-8233976871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OS DESCANS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aracterísticas Feriad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Remunerado (arts. 67 y 71 C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muneración integra”, distingu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(Ejercicio de cálculo con remuneración variabl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Cómputo en días hábi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rrenunciab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No es compensable en dinero “es para que lo goce”, excepcio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Acumulable. Prescrip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Incremento de remuneración durante el feri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* Se puede fracciona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AB9-4D50-434B-A6F4-AAF5928C69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.-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Gener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acidad en el Código del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dad para contra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das de prote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del contrato con men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ectos (sanciones) por incumpl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ED1-31CF-483B-8141-7F52B4C13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- Reglas de capac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8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ores de 15 y menores de 18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e o mad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elo o abu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dadores o institución que lo tomó a su car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ector del trabajo c/conocimiento del Juez de Famil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nores de 15 añ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n trabajar si son autorizados por su Representante Legal o Juez de Famil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s de cine teatro o televi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plimiento de normas de prote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jer casada (150 C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4D4-ECEE-4D0F-A534-72A74C7D3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.- Reglas de prote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ligación escolar y jornad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Acreditar haber culminado EM, o, en su caso, estar cursando ésta o la EB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M o EB el trabajo no debe dificultar la asistencia a cla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i cursa EB o EM no puede trabajar más de 30 horas seman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todo caso, no podrán trabajar más de 8 horas diaria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establecimientos industriales o comerciales entre las 22 y 07 hr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Tipo de trabajo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se trate de trabajos ligeros que no perjudiquen la salud y desarrollo del menor (art. 13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trabajar en faenas que requieran fuerzas excesivas o actividades que puedan resultar peligrosas para su salud, seguridad, moralidad (art. 14 inc. 1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Los menores de 21 años no podrán ser contratados para trabajos mineros subterráneos, sin realizarse previamente un examen de salud (14 inc. 2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 pueden empujar, arrastrar, cargar manualmente, y sin ayuda mecánica, más de 20 kg (art. 211 C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Que el trabajo no sea de aquellos que el reglamento determine como peligrosos para su salud y desarrollo (13 inc. 8º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A39-EB7D-4670-9354-F504821C5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2.- Reglas de protección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ugar de trabaj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podrán trabajar en cabarets y establecimientos análogos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ue presenten espectáculos vivos (art. 15 inc. 1º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mpoco en lugares que se expendan bebidas alcohólicas que se consuman en el establecimiento (supermercado, botillerías, pub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umplen normas de prote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orización del RL y del J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scripción del contr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 empresa (empleador) debe registrar dicho contrato en la inspección comunal del trabajo (art. 13 inc. 9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073-6FAA-4382-9CD3-D8E76C652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- Efectos del contrato de men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las del Derecho Comú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eculio profesional (250 y 251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rigen las reglas de la patria potestad (Dº legal de goce y adm. del pad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quiere autorización del juez para enajenar bienes raíces (254 C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ujer casada menor de 18 años, que ejerza… separada de bienes (patrimonio reservado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ut. judicial para enajenar inmuebles (art. 150 C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8E3-D22D-4B64-B27B-530C8B79C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4.- Efectos (sanciones) por incumpimient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. 17 CT :”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i se contratare a un  menor sin sujeción a lo dispuesto en los artículos anteriores…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empleador estará sujeto a todas las obligaciones inherentes al contrato mientras se apli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inspector de oficio o a petición de parte, ordenará la cesación de la relación labo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 aplicará una multa (506 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l art. 211-j C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o de los menores en trabajos minero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“non bis in idem” (ya tiene sanción 3-8 UTM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9B8-D6A0-47BC-A92D-DF6C3B965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acionalidad en el 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rt. 19 CT: “El 85%, a lo menos, de los trabajadores que sirvan a un mismo empleador será de nacionalidad chilena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xcepción si ocupa menos de 25 trabaj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ómput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el total de los trabajadores dentro del territorio y no por sucur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o se considera personal técnico irreemplazable por chile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rá chileno al extranjero cuyo cónyuge o hijo sean chilenos, o viudo o viuda de cónyuge chile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sidera chileno a los extranjeros residentes por más de 5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5CE-9D84-45BC-996F-63730F675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2:41:25Z</dcterms:created>
  <dc:creator>*/</dc:creator>
  <dc:description/>
  <dc:language>en-US</dc:language>
  <cp:lastModifiedBy>Trieste</cp:lastModifiedBy>
  <dcterms:modified xsi:type="dcterms:W3CDTF">2012-01-28T21:50:58Z</dcterms:modified>
  <cp:revision>27</cp:revision>
  <dc:subject/>
  <dc:title>Modelo</dc:title>
</cp:coreProperties>
</file>