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B0E-8C06-4B3C-BF85-3DDDE187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C28-732D-4187-84F3-4E0EAD19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862-8996-4B2A-8EE5-F2B0D90D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0B0-7889-40DD-AA31-2313ABA1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06F4-08C2-417A-82E6-AE382693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9ACE-F511-453D-AA6D-CFE7655A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935C-53C4-4F9F-8F03-00B59CD4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7620-B83A-448B-9DB4-8340F087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3477-45C9-4627-9A31-2EBC5605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EEDC-C38E-4EEE-A2A3-77A27934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B664-8050-4F5D-BC26-4691869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925-8A5C-4532-8523-236EB8D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00E1-79E2-42A7-A867-62034EA8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3DC0-2E23-48F7-931F-051F7730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CAAB-9139-4D2C-B8D5-D67501A5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FAD8-E0EF-4690-ABC6-5D7E8F20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F9F7-5D58-4EB6-98CA-A6D983C9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079-2479-4518-9313-2ACE07FB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3B6-340D-4CF2-8A3E-DE66BB8F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C04-DFEF-4F7B-8F3F-B1AB65BB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B27-D569-4B8D-BBBB-F7625D63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38C-BDEC-40B1-AB22-601A6BD8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4BA-41B1-4DE3-99D2-2CFE4D3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825-646E-4482-926D-A44D1A7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EA8B-D1F5-434E-BA7A-D0E505AD0363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E313-C49C-4EFD-A92B-54998D5D6C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4360" y="2421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46D6-1156-49A1-A26B-6585F9964F55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A567-10D0-4328-9DBF-384A26AB81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ORNADA DE TRABAJO Y DESCANS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rge Martínez Riv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rge.martinez@derecho.uchile.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62B7-D463-497F-A8E0-DC7B768A32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Concepto [Art. 21]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Jornada Pasiva: el cambio de ropa: Jurisprudencia C.S.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Ayala con CODELCO”: sólo el tiempo que se utiliza en la casa de cambio al llega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Sindicato N° 8 de CODELCO con CODELCO el Tte.”: el cambio de ropa nunca es jornad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Sindicato N° 7 de CODELCO con CODELCO el Tte.”: el cambio de ropa en casa de cambio tanto inicio como al término constituye jornada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Duración y distribución de la jornad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Trabajadores excluidos de jornada (22 CT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los que pp. ss. a distintos empleador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gerentes, adm., apoderados con facultades de adm. y todos aquellos que trabajen sin supervisión directa inmediat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agentes comisionistas y de seguros, vendedores viajantes, cobradores y demás  similares que no ejerzan su función en el lugar del establecimien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trabajadores que se desempeñan a bordo de naves pesquera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Los trabajadores que prestan sus servicios fuera del lugar o sitio de la empresa mediante medios informáticos  o de telecomunicacion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F40-588F-491C-9809-99F812D73A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dores excluidos de jornada (cont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deportistas profesionales y trabajadores que desempeñan labores conex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oficiales y tripulantes de la marina mercante (108 CT excepción al 106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trabajadores de casa particular (149 CT) 1X12x1/1x12x9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238-583C-48A6-9803-517D8A80E3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3 Imagen" descr="Imagen3.png"/>
          <p:cNvPicPr/>
          <p:nvPr/>
        </p:nvPicPr>
        <p:blipFill>
          <a:blip r:embed="rId2"/>
          <a:stretch/>
        </p:blipFill>
        <p:spPr>
          <a:xfrm>
            <a:off x="281160" y="204840"/>
            <a:ext cx="858168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804-957F-45C2-A062-394EA1BF97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Jornada Mayor o Prolongada (art. 27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Dependientes que prestan servicio en hoteles, restaurantes o clubes, exceptuado el personal administrativo y de lavandería, lencería o cocina  (garzones y camareros) cuando el movimiento diario sea escaso y los trabajadores deban mantenerse constantemente a disposición del públ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Trabajadores embarcados o gente de mar (art. 106 CT). Nave en el mar/puer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06B-8C3B-4256-9338-3EE3C06A10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Jornadas especi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l transporte público de pasajeros y de carg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 casa particul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agríco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 artes y espectácu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836-29EA-4538-8B92-80DC1409E3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Jornada Excedida (Ius variandi, se pagan como extraordinaria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Casos genéricos (art. 29 CT) = evitar perjuicios en el establecimiento o faena; CF; impedir accidentes o realizar arreglos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Dependientes del comercio (art. 2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Extensión de la jornada por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sta 2 horas diari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Por 9 días dentro de los últimos 15 antes de nav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No más allá de las 23 hrs x 9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ías, y de las 20 hrs el día antes de navidad y año nue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024-3822-443E-9DB6-ABFEE6F66D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Extraordinaria (art. 30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quisitos: PE; faenas que pueda pactarse, límite máxim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muneración de las horas extraordinarias. Ejemp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trol de la jornada y horas extraordinarias (Art. 33 C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escrip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283-1DF1-4786-8A0E-DDD48DB516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Parcial (art. 40 bis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Excepcional autorizada por el Director del Trabajo (Art. 38 Inc 6° y final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quisitos (revisar formulario 35 DT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1. Caso calificado por 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2. Resolución fundada (t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3. Acuerdo con los trabaj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4. Fiscalización de higiene y segur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5CD-72B2-4250-80EA-8A2E6CBC39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- 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LASIFIC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El descanso diari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cepto (art. 34 CT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aracterísticas (no se imputa, 30 min., d° irrenunciab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cep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5C8-63AE-4320-91A5-E563B00685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canso seman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Concepto  (art. 35 CT)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uración: Inicio y término (art. 36 CT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Características: *Irrenunciable, caso art. 35 bis. (hábil entre dos feriados, o sábado o domingo) las recuperativas no son extraordinarias, no se puede recuperar en domingo... *Remuner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rabajadores exceptuados de descanso dominic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art. 38 N° 1-8, (caso 1, 3, 4, 5, 6, 8) (caso 2 y 7) 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¿Cómo se pagan?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38 inc. 6° y final. Jornada excep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art. 39 pp.ss. en lugares apartados de centros urbanos. Bisemanales, descanso + 1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C12-206B-41AE-B651-84F878F8AD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AUTA CLASE (2 y 4 de enero)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.- CAPACIDAD LABORAL, NACIONA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I.- JORNADA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.- CONCEP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.- CLASIFIC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II.- DESCAN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.- CONCEP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.- CLASIFICACIÓ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. DESCANSO DIAR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b. DESCANSO SEMA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. DESCANSO ANUAL, FERIADO, VAC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AutoShape 26"/>
          <p:cNvSpPr/>
          <p:nvPr/>
        </p:nvSpPr>
        <p:spPr>
          <a:xfrm>
            <a:off x="395280" y="155736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1B5-C580-417F-8BA3-AF4DAC6392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Descanso anual, feriado o va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Fuent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Fundam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Concep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Oportunidad (67 inc. 2°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Duración/clasificación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Base: 15 días hábi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Mayor: 25 días I, II, III, XI y X (14/08/1981). Ley 20056= 20 días hábiles XII, XI y Palen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Progresivo (art. 68): 10 años continuos o no, para uno o más empleadores, devenga 1 día + por cada 3 años por sobre 10. Es negociable. (Mostrar ejemplos de situaciones posible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Proporcional: no cumple req. para el base, indemnización. (Hacer ejercicio de cálcul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Colectivo (art. 76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A1B-40E3-417A-ADE2-69053CB4D0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aracterísticas Feriad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Remunerado (arts. 67 y 71 C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remuneración integra”, distingui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(Ejercicio de cálculo con remuneración variabl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Cómputo en días hábi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Irrenunciab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No es compensable en dinero “es para que lo goce”, excepcio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Acumulable. Prescrip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Incremento de remuneración durante el feri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Se puede fracciona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4E2-8DE9-4B4B-81A8-A4E3641174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.- CAPAC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dad en Gener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dad en el Código del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acidad para contra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didas de protec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ctos del contrato con men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ctos (sanciones) por incumpl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476-9FF1-41D8-A7F7-76B788B0F1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- Reglas de capac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ores de 18 añ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ores de 15 y menores de 18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dre o mad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uelo o abu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dadores o institución que lo tomó a su car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pector del trabajo c/conocimiento del Juez de Famil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nores de 15 añ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eden trabajar si son autorizados por su Representante Legal o Juez de Famil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s de cine teatro o televi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plimiento de normas de protec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jer casada (150 C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5E9-A863-4065-8F65-B4FD41CA1C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- Reglas de prote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Obligación escolar y jornad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Acreditar haber culminado EM, o, en su caso, estar cursando ésta o la EB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i cursa EM o EB el trabajo no debe dificultar la asistencia a cla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i cursa EB o EM no puede trabajar más de 30 horas seman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todo caso, no podrán trabajar más de 8 horas diaria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trabajar en establecimientos industriales o comerciales entre las 22 y 07 hr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Tipo de trabaj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Que se trate de trabajos ligeros que no perjudiquen la salud y desarrollo del menor (art. 13 inc. 2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trabajar en faenas que requieran fuerzas excesivas o actividades que puedan resultar peligrosas para su salud, seguridad, moralidad (art. 14 inc. 1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Los menores de 21 años no podrán ser contratados para trabajos mineros subterráneos, sin realizarse previamente un examen de salud (14 inc. 2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empujar, arrastrar, cargar manualmente, y sin ayuda mecánica, más de 20 kg (art. 211 C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Que el trabajo no sea de aquellos que el reglamento determine como peligrosos para su salud y desarrollo (13 inc. 8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3BA-E5A8-471C-8801-C0B6B66BC8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2.- Reglas de protección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ugar de trabaj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podrán trabajar en cabarets y establecimientos análogos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ue presenten espectáculos vivos (art. 15 inc. 1º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mpoco en lugares que se expendan bebidas alcohólicas que se consuman en el establecimiento (supermercado, botillerías, pub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cumplen normas de prote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utorización del RL y del J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nscripción del contr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a empresa (empleador) debe registrar dicho contrato en la inspección comunal del trabajo (art. 13 inc. 9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054-3DEC-459E-8213-972CF1BB5F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- Efectos del contrato de men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las del Derecho Comú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eculio profesional (250 y 251 C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rigen las reglas de la patria potestad (Dº legal de goce y adm. del padr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quiere autorización del juez para enajenar bienes raíces (254 C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ujer casada menor de 18 años, que ejerza… separada de bienes (patrimonio reservado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ut. judicial para enajenar inmuebles (art. 150 CC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BDB-B383-476A-BC77-9943C946A4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4.- Efectos (sanciones) por incumpimiento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t. 17 CT :”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i se contratare a un  menor sin sujeción a lo dispuesto en los artículos anteriores…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empleador estará sujeto a todas las obligaciones inherentes al contrato mientras se aplic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inspector de oficio o a petición de parte, ordenará la cesación de la relación labor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 aplicará una multa (506 C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o del art. 211-j C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o de los menores en trabajos minero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“non bis in idem” (ya tiene sanción 3-8 UTM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363-128E-4154-88CC-C69A66BF58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acionalidad en el 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rt. 19 CT: “El 85%, a lo menos, de los trabajadores que sirvan a un mismo empleador será de nacionalidad chilena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xcepción si ocupa menos de 25 trabaj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ómputo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 el total de los trabajadores dentro del territorio y no por sucurs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o se considera personal técnico irreemplazable por chile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rá chileno al extranjero cuyo cónyuge o hijo sean chilenos, o viudo o viuda de cónyuge chile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 chileno a los extranjeros residentes por más de 5 añ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CA2-B1CF-4F3F-B160-7E9CEDF1E8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2:41:25Z</dcterms:created>
  <dc:creator>*/</dc:creator>
  <dc:description/>
  <dc:language>en-US</dc:language>
  <cp:lastModifiedBy>Trieste</cp:lastModifiedBy>
  <dcterms:modified xsi:type="dcterms:W3CDTF">2012-01-28T21:50:58Z</dcterms:modified>
  <cp:revision>27</cp:revision>
  <dc:subject/>
  <dc:title>Modelo</dc:title>
</cp:coreProperties>
</file>