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F08-9275-4C44-BF61-14EEE5CA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32F-A220-4240-933A-214AC1D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B83-3790-40E0-B235-4DD2BDA1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643-2415-4C93-B971-9A6F742B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9345-372D-418C-8EC2-C5620A30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62A6-0F36-451D-81FC-63A20484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1210-76CA-4B64-AE19-AE567F40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7231-E268-4E6A-82CE-237CCB38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BED5-E61C-427F-9ED0-1B5F333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E8F8-7F2D-4A65-86C3-6E0AB7EC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3277-2531-4B08-BB29-022E0988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525-0184-4C64-8EA3-27C976F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5A96-B59A-4025-A36C-022169F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B14-9E4A-4FA2-8854-03A6F9C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805E-96AA-4F7A-94BF-6DFE4725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BF04-618A-4BD2-9242-20CB8BD5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F20B-670B-4200-A599-BCD9A7AE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C96-9C44-4E28-A5E7-471679F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008-29D4-4D90-9D65-D5AB329D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691-A193-4C23-9029-7FEAD83C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884-4EFB-49AE-A1FA-4FB00A1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736-503C-441C-B45B-A69C8E3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30D-B28D-454F-B1C2-5807496E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5E7-A9F6-49B3-8B48-79E819A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316F-F50D-4635-9514-830C3427A205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0E9-5EA6-42D7-9606-B1DAEA5485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4360" y="2421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825D-98F2-4D03-90FC-866FABB9CB9A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8643-447F-4CBD-B817-89AEBB492B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ORNADA DE TRABAJO Y DESCAN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 Martínez Riv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B296-F5E1-470D-A5FF-BBE357BB9F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Concepto [Art. 21]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Jornada Pasiva: el cambio de ropa: Jurisprudencia C.S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Ayala con CODELCO”: sólo el tiempo que se utiliza en la casa de cambio al llega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8 de CODELCO con CODELCO el Tte.”: el cambio de ropa nunca es jornad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7 de CODELCO con CODELCO el Tte.”: el cambio de ropa en casa de cambio tanto inicio como al término constituye jornada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Duración y distribución de la jornad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Trabajadores excluidos de jornada (22 CT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que pp. ss. a distintos empleador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gerentes, adm., apoderados con facultades de adm. y todos aquellos que trabajen sin supervisión directa inmediat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agentes comisionistas y de seguros, vendedores viajantes, cobradores y demás  similares que no ejerzan su función en el lugar del establecimien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trabajadores que se desempeñan a bordo de naves pesquer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trabajadores que prestan sus servicios fuera del lugar o sitio de la empresa mediante medios informáticos  o de telecomunicacion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C42-AE22-4F36-8233-8AE85C1633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dores excluidos de jornada (cont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ortistas profesionales y trabajadores que desempeñan labores conex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oficiales y tripulantes de la marina mercante (108 CT excepción al 106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de casa particular (149 CT) 1X12x1/1x12x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AAC-786E-45F0-B156-5659ADDCF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 Imagen" descr="Imagen3.png"/>
          <p:cNvPicPr/>
          <p:nvPr/>
        </p:nvPicPr>
        <p:blipFill>
          <a:blip r:embed="rId2"/>
          <a:stretch/>
        </p:blipFill>
        <p:spPr>
          <a:xfrm>
            <a:off x="281160" y="204840"/>
            <a:ext cx="858168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508-B6AA-404E-B7AD-E4E38002A6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Jornada Mayor o Prolongada (art. 27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endientes que prestan servicio en hoteles, restaurantes o clubes, exceptuado el personal administrativo y de lavandería, lencería o cocina  (garzones y camareros) cuando el movimiento diario sea escaso y los trabajadores deban mantenerse constantemente a disposición del públ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embarcados o gente de mar (art. 106 CT). Nave en el mar/puer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871-4C10-4FAD-9158-AF6A812EA8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Jornadas especi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l transporte público de pasajeros y de carg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casa particul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agríco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artes y espectácu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963-7EEE-454D-9E7E-DF555DE2BC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Jornada Excedida (Ius variandi, se pagan como extraordinaria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Casos genéricos (art. 29 CT) = evitar perjuicios en el establecimiento o faena; CF; impedir accidentes o realizar arreglos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Dependientes del comercio (art. 2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Extensión de la jornada por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sta 2 horas diari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Por 9 días dentro de los últimos 15 antes de nav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más allá de las 23 hrs x 9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ías, y de las 20 hrs el día antes de navidad y año nue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CB7-C447-4E7A-B22A-55B6799F44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traordinaria (art. 30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: PE; faenas que pueda pactarse, límite máxim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muneración de las horas extraordinarias. Ejemp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trol de la jornada y horas extraordinarias (Art. 33 C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escrip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F28-327B-4CE9-B9C8-1A06EE448C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Parcial (art. 40 bis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cepcional autorizada por el Director del Trabajo (Art. 38 Inc 6° y final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 (revisar formulario 35 DT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1. Caso calificado por 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2. Resolución fundada (t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3. Acuerdo con los trabaj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4. Fiscalización de higiene y segur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8A1-E34E-4AB3-A4C6-7CC9E12FD7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- 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LASIFIC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El descanso diari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 (art. 34 C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(no se imputa, 30 min., d° irrenunciab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cep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90E-49DE-4E38-9D96-1E1E6C3308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canso seman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oncepto  (art. 35 CT)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uración: Inicio y término (art. 36 CT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aracterísticas: *Irrenunciable, caso art. 35 bis. (hábil entre dos feriados, o sábado o domingo) las recuperativas no son extraordinarias, no se puede recuperar en domingo... *Remuner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rabajadores exceptuados de descanso dominic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8 N° 1-8, (caso 1, 3, 4, 5, 6, 8) (caso 2 y 7) 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¿Cómo se paga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38 inc. 6° y final. Jornada excep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9 pp.ss. en lugares apartados de centros urbanos. Bisemanales, descanso + 1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F57-1756-4106-BE0C-21D989D20D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AUTA CLASE (2 y 4 de enero)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.- CAPACIDAD LABORAL, NACIONA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.- JORNADA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I.- DESCAN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. DESCANSO DIAR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. DESCANSO SEMA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. DESCANSO ANUAL, FERIADO, VAC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95280" y="155736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529-D473-4677-B49F-A0D1831D28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Descanso anual, feriado o va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e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ndam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Concep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Oportunidad (67 inc. 2°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Duración/clasificación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Base: 15 días hábi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Mayor: 25 días I, II, III, XI y X (14/08/1981). Ley 20056= 20 días hábiles XII, XI y Palen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gresivo (art. 68): 10 años continuos o no, para uno o más empleadores, devenga 1 día + por cada 3 años por sobre 10. Es negociable. (Mostrar ejemplos de situaciones posible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porcional: no cumple req. para el base, indemnización. (Hacer ejercicio de cálcul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olectivo (art. 76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392-5633-4278-8D6F-BA2293B407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aracterísticas Feriad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Remunerado (arts. 67 y 71 C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muneración integra”, distingui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(Ejercicio de cálculo con remuneración variabl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Cómputo en días hábi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rrenunci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es compensable en dinero “es para que lo goce”, excepcio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Acumulable. Prescrip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ncremento de remuneración durante el feri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Se puede fracciona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0E3-4909-4857-9C6B-023AC79D11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.-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Gene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el Código del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dad para contra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das de prote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del contrato con men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(sanciones) por incumpl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99F-D444-4503-AA4C-619A693F2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- Reglas de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8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5 y menores de 18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e o mad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uelo o abu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dadores o institución que lo tomó a su ca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ector del trabajo c/conocimiento del Juez de Famil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nores de 15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n trabajar si son autorizados por su Representante Legal o Juez de Famil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s de cine teatro o televi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plimiento de normas de protec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jer casada (150 C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3D8-0059-4D6E-B9AC-D73E2C622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- Reglas de prote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ligación escolar y jornad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Acreditar haber culminado EM, o, en su caso, estar cursando ésta o la EB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M o EB el trabajo no debe dificultar la asistencia a cla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B o EM no puede trabajar más de 30 horas seman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todo caso, no podrán trabajar más de 8 horas diaria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establecimientos industriales o comerciales entre las 22 y 07 h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Tipo de trabaj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se trate de trabajos ligeros que no perjudiquen la salud y desarrollo del menor (art. 13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faenas que requieran fuerzas excesivas o actividades que puedan resultar peligrosas para su salud, seguridad, moralidad (art. 14 inc. 1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Los menores de 21 años no podrán ser contratados para trabajos mineros subterráneos, sin realizarse previamente un examen de salud (14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empujar, arrastrar, cargar manualmente, y sin ayuda mecánica, más de 20 kg (art. 211 C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el trabajo no sea de aquellos que el reglamento determine como peligrosos para su salud y desarrollo (13 inc. 8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AC7-103D-4CEB-9CC6-9616EDB95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2.- Reglas de protección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ugar de trabaj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podrán trabajar en cabarets y establecimientos análogos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ue presenten espectáculos vivos (art. 15 inc. 1º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mpoco en lugares que se expendan bebidas alcohólicas que se consuman en el establecimiento (supermercado, botillerías, pub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umplen normas de prote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orización del RL y del J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scripción del contr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 empresa (empleador) debe registrar dicho contrato en la inspección comunal del trabajo (art. 13 inc. 9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D56-E65E-48C2-AFF1-38C536C71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- Efectos del contrato de men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las del Derecho Comú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eculio profesional (250 y 251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rigen las reglas de la patria potestad (Dº legal de goce y adm. del padr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quiere autorización del juez para enajenar bienes raíces (254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ujer casada menor de 18 años, que ejerza… separada de bienes (patrimonio reservado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. judicial para enajenar inmuebles (art. 150 CC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E9D-0269-4E0A-B01F-00F1D5D8B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4.- Efectos (sanciones) por incumpimient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. 17 CT :”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i se contratare a un  menor sin sujeción a lo dispuesto en los artículos anteriores…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empleador estará sujeto a todas las obligaciones inherentes al contrato mientras se apli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inspector de oficio o a petición de parte, ordenará la cesación de la relación labo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 aplicará una multa (506 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l art. 211-j C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 los menores en trabajos minero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“non bis in idem” (ya tiene sanción 3-8 UT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994-30C9-4FCF-B41D-5903212CC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acionalidad en el 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rt. 19 CT: “El 85%, a lo menos, de los trabajadores que sirvan a un mismo empleador será de nacionalidad chilena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cepción si ocupa menos de 25 trabaj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ómput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el total de los trabajadores dentro del territorio y no por sucurs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o se considera personal técnico irreemplazable por chile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rá chileno al extranjero cuyo cónyuge o hijo sean chilenos, o viudo o viuda de cónyuge chile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chileno a los extranjeros residentes por más de 5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629-13DB-4C2D-AF1F-E7F04A5A7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2-01-28T21:50:58Z</dcterms:modified>
  <cp:revision>27</cp:revision>
  <dc:subject/>
  <dc:title>Modelo</dc:title>
</cp:coreProperties>
</file>