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837-76A8-4132-8447-2B745D06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733-6433-4DFA-B922-732D95F5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82F8-04F0-4CCC-998B-1C88B4C7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CD1A-4B66-4D45-BFC9-A29C6BB9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7C7-75BE-4F1C-80AB-E29D13CC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88A8-3CF2-45FD-9CA3-45F7CD32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DC47-70A4-4914-B69B-995E200D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DCBD-A3D9-412E-8F04-E9C060FF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2C5-53C4-437D-8A0C-2C8E7093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419D-C9EA-4F0F-A9A4-B6E79EF2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C5F-A612-45A3-A49F-40C23E65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CC21-FDC5-4E3A-8274-22371FE5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ga clic para modificar el estilo de texto del patrón</a:t>
            </a: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gundo nivel</a:t>
            </a:r>
            <a:endParaRPr b="0" lang="es-CL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rcer nivel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uarto nivel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CL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B8FDCD-CBFF-4331-9509-013B33744C1E}" type="slidenum">
              <a:rPr b="0" lang="es-CL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19320" y="2865600"/>
            <a:ext cx="685764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A SOCIEDAD ANONIMA</a:t>
            </a:r>
            <a:endParaRPr b="0" lang="es-CL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s-CL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5181480" y="5539680"/>
            <a:ext cx="2971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rof. Sebastián Ob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30556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RODUCCION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387000" indent="-3870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aso general Sociedades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387000" indent="-3870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ociedad anónima, fuentes legales: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y 18046 de 1981 sobre Sociedades Anónimas (LSA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mento DS 587 M. Hacienda 1982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y 18045 sobre Mercado de Valores (LMV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L 3538 de 1980 Ley Orgánica Superintendencia de Valores y Seguros (SVS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ítulo XXVIII Libro IV Código Civil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338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 startAt="3"/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acterística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la sociedad anónima como tipo societario. 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 una persona jurídica que nace a la vida del derecho en el acto constitutivo de los socios fundadores. Caso de las sociedades anónimas especiale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 de capitales y no de person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rigen de la denominación anónima. Situación en Chile. Acciones nominativas y Registro de 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ponsabilidad limitada de los socios/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es de derecho privado pero sujetas a ciertas normas de orden pública o imperativas de la LSA y de la LMV, en especial en el caso de las S.A. abiertas, por ej. la libre cesión de las acciones, la distribución de utilidades, la responsabilidad del directorio, etc. Art. 137 L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68644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 startAt="4"/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acterística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pecífica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sociedad anónima. 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 es siempre mercantil, se aplican por ello las normas de los comerciantes, ley de quiebras, etc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constituye por la reunión de un fondo común o capital social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ibre entrada y salida de los socios. Capital dividido en acciones las cuales son transferibles sin restriccione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 integrada por dos órganos diferentes, el directorio y la junta de 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oluntad de la sociedad se manifiesta por el directorio pero respecto de ciertos actos dicha voluntad requiere la decisión previa de los 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45784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SOCIEDAD ANONIMA, INTERMEDIACION, GOBIERNOS CORPORATIVOS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ciedad Anónima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54216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542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finición de la sociedad anónima: «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una persona jurídica formada por la reunión de un fondo común, suministrado por accionistas responsables sólo por sus respectivos aportes y administrada por un directorio integrado por miembros esencialmente renovabl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». Art. 1 L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12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49176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turaleza jurídica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clásica o contractualist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897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ríticas a la teoría clásica en el caso de la 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ibre entrada de socios/accionistas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rato social deviene en estatutos sociale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formas al estatuto social por mayorías y no por unanimidad de los socio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so de la SPA en que se admite la sociedad con un solo accionist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unilateralist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de la institución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del contrato plurilateral o de organización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tuación en Chile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 del contrato de sociedad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058400" indent="-234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rato asociativo y no de cambio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058400" indent="-234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rato bilateral, conmutativo, oneroso, principal, solemne y nominado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491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491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320" y="304920"/>
            <a:ext cx="899136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61776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pos de sociedades anónimas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1141560" indent="-523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1077840"/>
                <a:tab algn="l" pos="1430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biertas. Art. 2 LSA y Art. 5 LMV. Registro de Valores. Valores.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rt. 3 LMV. Oferta pública. Art. 4 LMV. Sit. Especiales : Planes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tock Options (NCG 99/2000) y Venta pública o remate de más del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% de las acciones de una S.A. cerrada. (NCG 21/1988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peciales. Título XIII LSA.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erradas. Art. 2 LS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es matrices, filiales y coligadas. Título VIII LSA.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finiciones. Soc. matriz y filial. Art. 86 LSA. Concepto de control. Arts.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97, 98 y 99 LMV. Soc. coligada. Art. 87 LSA.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s: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hibición participación recíproca en capitales. Art. 88 LS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lización operaciones en condiciones de equidad. Art. 89 LS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S.A. cerradas) y Art. 146 N° 1 LSA y Art. 147 LSA (S.A. abiertas)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rmas relativas a memorias, balances y dividendos.  Arts. 90 y sig.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ticipación de directores de sociedad matriz en directorio de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iliales. Art. 92 LS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12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scalización de la administración. 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VS en el caso de las S.A. abiertas Art. 2 inc. 5 y Art. 1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MV y en el caso de las S.A. especiales Arts. 2 inc. 4 y 7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SA y Art. 7 LMV.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uditores externos e inspectores de cuentas. Arts. 51 y 52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SA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308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7:39:00Z</dcterms:created>
  <dc:creator>C_Demarly</dc:creator>
  <dc:description/>
  <dc:language>en-US</dc:language>
  <cp:lastModifiedBy>C_Demarly</cp:lastModifiedBy>
  <dcterms:modified xsi:type="dcterms:W3CDTF">2011-12-14T17:40:15Z</dcterms:modified>
  <cp:revision>1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ción en pantalla (4:3)</vt:lpwstr>
  </property>
  <property fmtid="{D5CDD505-2E9C-101B-9397-08002B2CF9AE}" pid="3" name="Slides">
    <vt:r8>8</vt:r8>
  </property>
</Properties>
</file>