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7A1-A2C5-43B9-A6FA-50B810D5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6B8-29B9-41DF-A629-B0C7B102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2DA-005C-4C38-8FEE-C853D213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C44-A4EB-483A-8349-64FBAE1D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FB0-49C1-4DBD-8F20-CFA21FD8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F90-C270-4195-BFE1-4D43AFA3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08D-E0D1-4083-8D34-8B126BA5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5B1-743D-43D6-B094-9E62E941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5FB-ADC3-4E13-829A-03C9ECC4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6C9-CF25-4760-8B91-158C632D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C4A-CBCF-41EF-AB01-57A13C9E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6EA-87A3-4FE5-9309-410FED4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CL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B94483-13FA-4A43-B290-A7A660D5354F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19320" y="2865600"/>
            <a:ext cx="685764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SOCIEDAD ANONIMA</a:t>
            </a: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181480" y="5539680"/>
            <a:ext cx="29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of. Sebastián Ob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5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CIO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aso general Sociedade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ociedad anónima, fuentes legales: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6 de 1981 sobre Sociedades Anónimas (LSA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mento DS 587 M. Hacienda 1982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5 sobre Mercado de Valores (LMV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L 3538 de 1980 Ley Orgánica Superintendencia de Valores y Seguros (SVS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ítulo XXVIII Libro IV Código Civi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3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 sociedad anónima como tipo societario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que nace a la vida del derecho en el acto constitutivo de los socios fundadores. Caso de las sociedades anónimas espe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de capitales y no de person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igen de la denominación anónima. Situación en Chile. Acciones nominativas y Registro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ponsabilidad limitada de los socios/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de derecho privado pero sujetas a ciertas normas de orden pública o imperativas de la LSA y de la LMV, en especial en el caso de las S.A. abiertas, por ej. la libre cesión de las acciones, la distribución de utilidades, la responsabilidad del directorio, etc. Art. 137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pecífica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sociedad anónima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es siempre mercantil, se aplican por ello las normas de los comerciantes, ley de quiebras, etc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constituye por la reunión de un fondo común o capital social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y salida de los socios. Capital dividido en acciones las cuales son transferibles sin restriccion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integrada por dos órganos diferentes, el directorio y la junta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untad de la sociedad se manifiesta por el directorio pero respecto de ciertos actos dicha voluntad requiere la decisión previa de los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45784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SOCIEDAD ANONIMA, INTERMEDIACION, GOBIERNOS CORPORATIVO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ón de la sociedad anónima: «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formada por la reunión de un fondo común, suministrado por accionistas responsables sólo por sus respectivos aportes y administrada por un directorio integrado por miembros esencialmente renovabl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». Art. 1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turaleza jurídic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clásica o contractu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897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íticas a la teoría clásica en el caso de la 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de socios/accionista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social deviene en estatutos so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formas al estatuto social por mayorías y no por unanimidad de los socio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so de la SPA en que se admite la sociedad con un solo accionist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unilater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 la institu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l contrato plurilateral o de organiza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uación en Chile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contrato de sociedad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asociativo y no de cambio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bilateral, conmutativo, oneroso, principal, solemne y nominado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320" y="304920"/>
            <a:ext cx="89913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617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sociedades anónima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1141560" indent="-523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077840"/>
                <a:tab algn="l" pos="1430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biertas. Art. 2 LSA y Art. 5 LMV. Registro de Valores. Valore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t. 3 LMV. Oferta pública. Art. 4 LMV. Sit. Especiales : Plan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tock Options (NCG 99/2000) y Venta pública o remate de más de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% de las acciones de una S.A. cerrada. (NCG 21/1988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ales. Título X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radas. Art. 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matrices, filiales y coligadas. Título V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ones. Soc. matriz y filial. Art. 86 LSA. Concepto de control. Art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7, 98 y 99 LMV. Soc. coligada. Art. 87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: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hibición participación recíproca en capitales. Art. 88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ción operaciones en condiciones de equidad. Art. 89 LS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S.A. cerradas) y Art. 146 N° 1 LSA y Art. 147 LSA (S.A. abiertas)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rmas relativas a memorias, balances y dividendos.  Arts. 90 y sig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ticipación de directores de sociedad matriz en directorio 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iliales. Art. 9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scalización de la administración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S en el caso de las S.A. abiertas Art. 2 inc. 5 y Art. 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V y en el caso de las S.A. especiales Arts. 2 inc. 4 y 7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 y Art. 7 LMV.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ditores externos e inspectores de cuentas. Arts. 51 y 52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308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39:00Z</dcterms:created>
  <dc:creator>C_Demarly</dc:creator>
  <dc:description/>
  <dc:language>en-US</dc:language>
  <cp:lastModifiedBy>C_Demarly</cp:lastModifiedBy>
  <dcterms:modified xsi:type="dcterms:W3CDTF">2011-12-14T17:40:15Z</dcterms:modified>
  <cp:revision>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8</vt:r8>
  </property>
</Properties>
</file>