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D70-FF14-4276-BDD8-5C4013EB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F9C5-8A1C-4BA4-80B1-D0DF051D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0B6-1053-45A9-AB6F-3AD07975B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8683-0714-4E35-B819-A171119B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C13-E86F-4A3E-AE01-EFCB126B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7141-A6F7-4E45-B81E-C6989534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EF7-394D-4898-8C14-A9726877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B484-41F1-45A2-965D-28A1340A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968C-E594-454D-B65E-F7DABEB3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7F7-5553-4629-B646-21D628F6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70A4-BEFE-421B-8C8E-167A656D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CL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9F2D-AF02-4FD4-B2F8-D74FBD78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ga clic para modificar el estilo de título del patrón</a:t>
            </a:r>
            <a:endParaRPr b="0" lang="es-C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ga clic para modificar el estilo de texto del patrón</a:t>
            </a:r>
            <a:endParaRPr b="0" lang="es-CL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gundo nivel</a:t>
            </a:r>
            <a:endParaRPr b="0" lang="es-CL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Tercer nivel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uarto nivel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Quinto nivel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CL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s-CL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1A56F0-9DFA-4689-BB84-0F18698E9CD4}" type="slidenum">
              <a:rPr b="0" lang="es-CL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19320" y="2865600"/>
            <a:ext cx="6857640" cy="94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LA SOCIEDAD ANONIMA</a:t>
            </a:r>
            <a:endParaRPr b="0" lang="es-CL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s-CL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5181480" y="5539680"/>
            <a:ext cx="297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rof. Sebastián Ob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30556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RODUCCION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387000" indent="-3870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paso general Sociedades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387000" indent="-3870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sociedad anónima, fuentes legales: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y 18046 de 1981 sobre Sociedades Anónimas (LSA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mento DS 587 M. Hacienda 1982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ey 18045 sobre Mercado de Valores (LMV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L 3538 de 1980 Ley Orgánica Superintendencia de Valores y Seguros (SVS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725760" indent="-387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ítulo XXVIII Libro IV Código Civil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338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38152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 startAt="3"/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acterística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a sociedad anónima como tipo societario. 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 una persona jurídica que nace a la vida del derecho en el acto constitutivo de los socios fundadores. Caso de las sociedades anónimas especiale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 de capitales y no de person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rigen de la denominación anónima. Situación en Chile. Acciones nominativas y Registro de 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ponsabilidad limitada de los socios/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es de derecho privado pero sujetas a ciertas normas de orden pública o imperativas de la LSA y de la LMV, en especial en el caso de las S.A. abiertas, por ej. la libre cesión de las acciones, la distribución de utilidades, la responsabilidad del directorio, etc. Art. 137 L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68644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 startAt="4"/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acterística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specífica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la sociedad anónima. 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 es siempre mercantil, se aplican por ello las normas de los comerciantes, ley de quiebras, etc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constituye por la reunión de un fondo común o capital social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ibre entrada y salida de los socios. Capital dividido en acciones las cuales son transferibles sin restriccione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 integrada por dos órganos diferentes, el directorio y la junta de 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oluntad de la sociedad se manifiesta por el directorio pero respecto de ciertos actos dicha voluntad requiere la decisión previa de los accionista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45784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LA SOCIEDAD ANONIMA, INTERMEDIACION, GOBIERNOS CORPORATIVOS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542160" indent="-54216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ciedad Anónima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54216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542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finición de la sociedad anónima: «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una persona jurídica formada por la reunión de un fondo común, suministrado por accionistas responsables sólo por sus respectivos aportes y administrada por un directorio integrado por miembros esencialmente renovabl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». Art. 1 L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5421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12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49176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Naturaleza jurídica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clásica o contractualist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897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ríticas a la teoría clásica en el caso de la 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ibre entrada de socios/accionistas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ato social deviene en estatutos sociale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formas al estatuto social por mayorías y no por unanimidad de los socios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143720" indent="-2462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so de la SPA en que se admite la sociedad con un solo accionist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unilateralist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de la institución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eoría del contrato plurilateral o de organización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tuación en Chile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909000" indent="-4168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84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 del contrato de sociedad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058400" indent="-234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ato asociativo y no de cambio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1058400" indent="-23400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trato bilateral, conmutativo, oneroso, principal, solemne y nominado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491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491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320" y="304920"/>
            <a:ext cx="899136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61776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pos de sociedades anónimas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marL="1141560" indent="-52344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arenR"/>
              <a:tabLst>
                <a:tab algn="l" pos="1077840"/>
                <a:tab algn="l" pos="1430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biertas. Art. 2 LSA y Art. 5 LMV. Registro de Valores. Valores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rt. 3 LMV. Oferta pública. Art. 4 LMV. Sit. Especiales : Planes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tock Options (NCG 99/2000) y Venta pública o remate de más de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% de las acciones de una S.A. cerrada. (NCG 21/1988)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peciales. Título XIII LSA.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erradas. Art. 2 LS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ciedades matrices, filiales y coligadas. Título VIII LSA.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finiciones. Soc. matriz y filial. Art. 86 LSA. Concepto de control. Arts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97, 98 y 99 LMV. Soc. coligada. Art. 87 LSA.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s: 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hibición participación recíproca en capitales. Art. 88 LS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alización operaciones en condiciones de equidad. Art. 89 LS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S.A. cerradas) y Art. 146 N° 1 LSA y Art. 147 LSA (S.A. abiertas)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rmas relativas a memorias, balances y dividendos.  Arts. 90 y sig.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SA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  <a:p>
            <a:pPr marL="617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ticipación de directores de sociedad matriz en directorio de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iliales. Art. 92 LSA.</a:t>
            </a:r>
            <a:endParaRPr b="0" lang="es-CL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10120" cy="32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scalización de la administración. 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VS en el caso de las S.A. abiertas Art. 2 inc. 5 y Art. 1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MV y en el caso de las S.A. especiales Arts. 2 inc. 4 y 7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SA y Art. 7 LMV.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uditores externos e inspectores de cuentas. Arts. 51 y 52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SA</a:t>
            </a:r>
            <a:endParaRPr b="0" lang="es-C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a de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  <Words>308</Words>
  <Paragraphs>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7:39:00Z</dcterms:created>
  <dc:creator>C_Demarly</dc:creator>
  <dc:description/>
  <dc:language>en-US</dc:language>
  <cp:lastModifiedBy>C_Demarly</cp:lastModifiedBy>
  <dcterms:modified xsi:type="dcterms:W3CDTF">2011-12-14T17:40:15Z</dcterms:modified>
  <cp:revision>1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ción en pantalla (4:3)</vt:lpwstr>
  </property>
  <property fmtid="{D5CDD505-2E9C-101B-9397-08002B2CF9AE}" pid="3" name="Slides">
    <vt:r8>8</vt:r8>
  </property>
</Properties>
</file>