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75B6-6167-4832-99AE-16BB31A84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9791-CD29-4A1A-B85E-990EB082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D150-93AF-423F-B2E4-251043B14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F211-501E-4F8F-A108-7F331819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B3CB-089C-404D-80DE-158FD966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4121-38A9-441F-BCB3-ED0988DC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FE60-6111-4773-87B1-B3F32C8C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1E73-FF39-46F0-B7A1-046DB774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14BE-8B43-44CC-B659-9984A935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D0CB-8509-4B3C-9F3A-689DBF91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F501-C032-4452-B391-1E2A5D38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A99E-921D-4DAB-97AD-C4F4DA00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Haga clic para modificar el estilo de título del patrón</a:t>
            </a: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ga clic para modificar el estilo de texto del patrón</a:t>
            </a: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gundo nivel</a:t>
            </a:r>
            <a:endParaRPr b="0" lang="es-CL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ercer nivel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uarto nivel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Quinto nivel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s-CL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CL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CL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0D7816-B357-4CC1-BB62-E1F00E6CBFB5}" type="slidenum">
              <a:rPr b="0" lang="es-CL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19320" y="2865600"/>
            <a:ext cx="6857640" cy="94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LA SOCIEDAD ANONIMA</a:t>
            </a:r>
            <a:endParaRPr b="0" lang="es-CL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s-CL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5181480" y="5539680"/>
            <a:ext cx="2971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Prof. Sebastián Ob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305560" cy="32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RODUCCION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marL="387000" indent="-3870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paso general Sociedades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marL="387000" indent="-3870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sociedad anónima, fuentes legales: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lvl="1" marL="725760" indent="-3870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ey 18046 de 1981 sobre Sociedades Anónimas (LSA)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725760" indent="-3870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lamento DS 587 M. Hacienda 1982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725760" indent="-3870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ey 18045 sobre Mercado de Valores (LMV)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725760" indent="-3870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L 3538 de 1980 Ley Orgánica Superintendencia de Valores y Seguros (SVS)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725760" indent="-3870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ítulo XXVIII Libro IV Código Civil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marL="338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533520"/>
            <a:ext cx="838152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 startAt="3"/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racterísticas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eral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 la sociedad anónima como tipo societario. 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 una persona jurídica que nace a la vida del derecho en el acto constitutivo de los socios fundadores. Caso de las sociedades anónimas especiale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ciedad de capitales y no de persona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rigen de la denominación anónima. Situación en Chile. Acciones nominativas y Registro de Accionista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sponsabilidad limitada de los socios/accionista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ciedades de derecho privado pero sujetas a ciertas normas de orden pública o imperativas de la LSA y de la LMV, en especial en el caso de las S.A. abiertas, por ej. la libre cesión de las acciones, la distribución de utilidades, la responsabilidad del directorio, etc. Art. 137 LSA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600" y="533520"/>
            <a:ext cx="868644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 startAt="4"/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racterísticas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específica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la sociedad anónima. 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ciedad es siempre mercantil, se aplican por ello las normas de los comerciantes, ley de quiebras, etc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constituye por la reunión de un fondo común o capital social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ibre entrada y salida de los socios. Capital dividido en acciones las cuales son transferibles sin restriccione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ciedad integrada por dos órganos diferentes, el directorio y la junta de accionista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oluntad de la sociedad se manifiesta por el directorio pero respecto de ciertos actos dicha voluntad requiere la decisión previa de los accionista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457840" cy="32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SOCIEDAD ANONIMA, INTERMEDIACION, GOBIERNOS CORPORATIVOS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ciedad Anónima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marL="54216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ción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marL="5421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finición de la sociedad anónima: «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 una persona jurídica formada por la reunión de un fondo común, suministrado por accionistas responsables sólo por sus respectivos aportes y administrada por un directorio integrado por miembros esencialmente renovable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». Art. 1 LSA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5421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120" cy="32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indent="0" algn="just">
              <a:lnSpc>
                <a:spcPct val="100000"/>
              </a:lnSpc>
              <a:spcBef>
                <a:spcPts val="479"/>
              </a:spcBef>
              <a:buNone/>
            </a:pP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marL="49176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turaleza jurídica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eoría clásica o contractualista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897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ríticas a la teoría clásica en el caso de la SA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1143720" indent="-2462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ibre entrada de socios/accionistas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1143720" indent="-2462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trato social deviene en estatutos sociale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1143720" indent="-2462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formas al estatuto social por mayorías y no por unanimidad de los socio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1143720" indent="-2462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so de la SPA en que se admite la sociedad con un solo accionista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909000" indent="-416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eoría unilateralista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909000" indent="-416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eoría de la institución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909000" indent="-416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eoría del contrato plurilateral o de organización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909000" indent="-416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tuación en Chile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909000" indent="-416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acterísticas del contrato de sociedad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1058400" indent="-2340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606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trato asociativo y no de cambio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1058400" indent="-2340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606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trato bilateral, conmutativo, oneroso, principal, solemne y nominado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491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491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320" y="304920"/>
            <a:ext cx="8991360" cy="32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61776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Tipos de sociedades anónimas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marL="1141560" indent="-5234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1077840"/>
                <a:tab algn="l" pos="14302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biertas. Art. 2 LSA y Art. 5 LMV. Registro de Valores. Valores.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rt. 3 LMV. Oferta pública. Art. 4 LMV. Sit. Especiales : Planes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tock Options (NCG 99/2000) y Venta pública o remate de más del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0% de las acciones de una S.A. cerrada. (NCG 21/1988)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●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peciales. Título XIII LSA. 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●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erradas. Art. 2 LSA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ciedades matrices, filiales y coligadas. Título VIII LSA. 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finiciones. Soc. matriz y filial. Art. 86 LSA. Concepto de control. Arts.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97, 98 y 99 LMV. Soc. coligada. Art. 87 LSA. 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fectos: 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●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hibición participación recíproca en capitales. Art. 88 LSA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●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alización operaciones en condiciones de equidad. Art. 89 LSA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S.A. cerradas) y Art. 146 N° 1 LSA y Art. 147 LSA (S.A. abiertas)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ormas relativas a memorias, balances y dividendos.  Arts. 90 y sig.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SA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articipación de directores de sociedad matriz en directorio de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iliales. Art. 92 LSA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10120" cy="32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scalización de la administración. 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VS en el caso de las S.A. abiertas Art. 2 inc. 5 y Art. 1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LMV y en el caso de las S.A. especiales Arts. 2 inc. 4 y 7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LSA y Art. 7 LMV.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uditores externos e inspectores de cuentas. Arts. 51 y 52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LSA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ema de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  <Words>308</Words>
  <Paragraphs>6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17:39:00Z</dcterms:created>
  <dc:creator>C_Demarly</dc:creator>
  <dc:description/>
  <dc:language>en-US</dc:language>
  <cp:lastModifiedBy>C_Demarly</cp:lastModifiedBy>
  <dcterms:modified xsi:type="dcterms:W3CDTF">2011-12-14T17:40:15Z</dcterms:modified>
  <cp:revision>1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Presentación en pantalla (4:3)</vt:lpwstr>
  </property>
  <property fmtid="{D5CDD505-2E9C-101B-9397-08002B2CF9AE}" pid="3" name="Slides">
    <vt:r8>8</vt:r8>
  </property>
</Properties>
</file>