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420-C124-4C47-902A-A36DD30A634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811-1C9A-4568-9B51-083E6D4C5A0C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20C-D6AD-42A9-9B07-D9F1F457FEF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FF94-B23D-4849-B8F6-BF2A657986D0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FF17-F082-42A3-A71E-4F4F82D0C1CD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D6D-08B7-4D42-9883-A4078A0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F6-EBA7-4671-BF67-FA65459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8EB-D737-457D-BE26-93D3966D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12A-771F-4013-8D3E-E0F9614E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E5C-A135-4544-9767-DB962F41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320-1509-4ECD-9C96-5BA1616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E045-86D3-459B-8AD3-549DD9C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150B-1641-47B6-BEA4-C8B36A2F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14C-728A-4DF1-9CBB-77ED6E46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028-4BC1-426D-A111-D3B0BE20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BA30-4123-40DC-ABF2-90BCEC8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C53-C8A5-4791-A9D4-0F4CDFB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FC1E-C138-4320-AAF5-1B8B069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201-A940-4B1B-B469-A579905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3F06-15A6-4E56-9EA8-61A3646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0AE-A96D-4544-B2F5-5BE1595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7D28-2708-46DE-AA17-4FAB24A8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8BE-1912-4AC3-94C4-4D942E3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2B9-22A4-4878-B2A4-887A66E1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6A9-1727-411A-96E1-3AB5DB8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7D8-E3F9-44ED-B2EA-1D199C4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CFF-AA03-418A-90EA-327718C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AEA-A5C4-4EFF-AE04-BD5ECBD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1D9-6BB1-4D44-8D7A-A4F8621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17A-E006-424E-AC33-F2139682E2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219-A1D0-40F7-AA46-53455C64A1AC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500120"/>
            <a:ext cx="64771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66"/>
                </a:solidFill>
                <a:latin typeface="Tahoma"/>
              </a:rPr>
              <a:t>Nueva Institucionalidad Ambienta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2857320"/>
            <a:ext cx="64767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785880"/>
            <a:ext cx="701064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71400" y="1928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spasa a Ministerio competencias regulatorias de CONAMA. (Normas de calidad, emisión, planes de prevención y descontamin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es técnicas disponibles como criterio para fijar las normas de emisión (clausula de 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planes de Descontaminación procedimiento para pasar a zona latente y plazo para dictar planes de prevención manteniendo vigentes las regulaciones del 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Interpretar dichas normas (no están sujeto a reclamo ante el Tribunal Ambient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políticas y formul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rmas, planes y programas en materia de residuos y suelos contaminados, así como la evaluación del riesgo de productos químicos, organismos genéticamente modificados y otras sustancias que puedan afectar el medio ambient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otros organismos públicos en materia sanitaria. (letra g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agra doble regulación con sector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facultades específicas para fiscalizarlas a la SMA, pero pueden entenderse comprendidas en una competencia general (art. 3 letra 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competencias para interpretarlas al Ministe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contempla reclamo ante el Tribunal Ambiental a diferencias de las señaladas en primer térm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1714320"/>
            <a:ext cx="7010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r un Registro de Emisiones y Transferencias de Contaminantes en el cual se registrará y sistematizará, por fuente o agrupación de fuentes de un mismo establecimiento, la naturaleza, caudal y concentración de emisiones de contaminantes que sean objeto de una norma de emisión, y la naturaleza, volumen y destino de los residuos sólidos generados que señale el reglamento (letra p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ió de facultades de la SMA, que fiscaliza cumplimiento del PP, PD, Normas de Emisión y quedó en el Ministerio, parecía más operativo en la 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encias tienen por objeto cumplir límites definidos en planes, no se entiende porque el registro lo lleva el 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ce un retroces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innominado cuando no están reglados (en la líneas de normativa comparada, sólo que no revela fuen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sobre monitoreo de calidad del 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500040"/>
            <a:ext cx="70106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6666"/>
                </a:solidFill>
                <a:latin typeface="Arial"/>
              </a:rPr>
              <a:t>Políticas y Regulacione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con los Ministerios sectoriales en la formulación de los criterios ambientales que deben ser incorporados en la elaboración de sus planes y políticas. (letra e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en la formulación de políticas ambientales para el manejo, uso y aprovechamiento sustentable de los recursos naturales renovables e hídricos. (letra f art. 70, Ley 19.300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el procedimiento de evaluación ambiental estratégica (letra s art. 70, Ley 19.3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: fomentar participación ciudadana en los instrumentos a su cargo; realizar y fomentar capacitació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(art. 71, Ley 19.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dido por el Ministro del Medio Ambiente e integrado por los Ministros de Agricultura; Hacienda; de Salud; de Economía, Fomento y Reconstrucción; de Energía; de Obras Públicas; de Vivienda y Urbanismo; de Transportes y Telecomunicaciones; de Minería, y de Planificació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guarda la lógica de la transversabil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ece más operativo que el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. de Hacienda es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rol de Ministro de Medio Ambiente?. Se asociará con los ministerio que protegen o los desarrollistas o será el fiel de la bala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 creación de las Áreas Protegidas del Estado, que incluye parques y reservas marinas, así como los santuarios de la naturaleza y de las áreas marinas costeras protegidas de múltiples usos. (letra c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s políticas sectoriales que deben ser sometidas a evaluación ambiental estratégica. (letra d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criterios y mecanismos en virtud de los cuales se deberá efectuar la participación ciudadana en las Declaraciones de Impacto Ambiental, a que se refiere el artículo 26 de la ley Nº 19.300, sobre Bases Generales del Medio Ambiente. (letra e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proyectos de ley y actos administrativos que se propongan al Presidente de la República, que contenga normas de carácter ambiental señalados en el artículo 70. (letra f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428760"/>
            <a:ext cx="701064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Ministro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El Subsecre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Las Secretarías Regionales Ministeriales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El Consejo Consultivo Nacional y los Consejos Consultivos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7010640" cy="13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siones ministeriales: Regulación Ambiental; Información y Economía Ambiental; Educación, Participación y Gestión Local; Recursos Naturales y Biodiversidad; Cambio Climático y Cumplimiento de Convenios Internacionales, y Planificación y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egión del país habrá una Secretaría Regional Ministerial. ¿parientes pobres de la nueva institucionalidad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FL fijará fecha de inicio de nuevas instituciones y cese de CO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3000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égimen Transito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M; SEA y SMA quedan sujeto a que se envíen los DFL que los crean y ponen término a la CONAMA. Se enviaron en sept. 2010. Plena vigencia (problemas surgid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MA queda sujeto además a la aprobación del proyecto de ley sobre Tribunales Ambient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86280" y="2143080"/>
            <a:ext cx="3048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Ministerio Secretarí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General de la Presidenci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928800" y="1714680"/>
            <a:ext cx="7127280" cy="4949640"/>
            <a:chOff x="928800" y="1714680"/>
            <a:chExt cx="7127280" cy="4949640"/>
          </a:xfrm>
        </p:grpSpPr>
        <p:sp>
          <p:nvSpPr>
            <p:cNvPr id="104" name="Rectangle 5"/>
            <p:cNvSpPr/>
            <p:nvPr/>
          </p:nvSpPr>
          <p:spPr>
            <a:xfrm>
              <a:off x="6072120" y="5572080"/>
              <a:ext cx="1701360" cy="656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945400" y="4520880"/>
              <a:ext cx="1764360" cy="85716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3357720" y="4714560"/>
              <a:ext cx="17697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000840" y="3429360"/>
              <a:ext cx="2055240" cy="690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3282480" y="3585240"/>
              <a:ext cx="1643040" cy="467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928800" y="4714560"/>
              <a:ext cx="17643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000080" y="3585240"/>
              <a:ext cx="1714320" cy="48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063440" y="2184840"/>
              <a:ext cx="145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Presidente de la Repúblic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928240" y="2786400"/>
              <a:ext cx="2534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Ministra Presidente del Consejo Directiv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956240" y="2145960"/>
              <a:ext cx="4476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COMISIÓN NACIONAL 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DEL MEDIO AMBIENTE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118880" y="3652200"/>
              <a:ext cx="159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ción Ejecutiv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195560" y="4788000"/>
              <a:ext cx="1457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409200" y="3587040"/>
              <a:ext cx="153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Direc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3714840" y="4854960"/>
              <a:ext cx="96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REMA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215040" y="3500280"/>
              <a:ext cx="1586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143400" y="4520880"/>
              <a:ext cx="16174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6357600" y="5572080"/>
              <a:ext cx="1240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RE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1066680" y="6257160"/>
              <a:ext cx="133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ordinac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600720" y="6325200"/>
              <a:ext cx="11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Decis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6714000" y="6358680"/>
              <a:ext cx="950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nsult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1506960" y="4188240"/>
              <a:ext cx="0" cy="399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>
              <a:off x="2711880" y="378576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4164840" y="4188240"/>
              <a:ext cx="11520" cy="3992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2903400" y="498852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506960" y="5391000"/>
              <a:ext cx="0" cy="66672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508400" y="6057720"/>
              <a:ext cx="43732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5058000" y="5391000"/>
              <a:ext cx="0" cy="3326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5059080" y="5723640"/>
              <a:ext cx="75960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5184720" y="378576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>
              <a:off x="5375880" y="492192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4174200" y="32846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556000" y="2400840"/>
              <a:ext cx="44352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1760760" y="1714680"/>
              <a:ext cx="488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5551920" y="2336760"/>
              <a:ext cx="418680" cy="0"/>
            </a:xfrm>
            <a:prstGeom prst="line">
              <a:avLst/>
            </a:prstGeom>
            <a:ln w="9360">
              <a:solidFill>
                <a:srgbClr val="336666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4174200" y="26528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9" name="AutoShape 40"/>
          <p:cNvSpPr/>
          <p:nvPr/>
        </p:nvSpPr>
        <p:spPr>
          <a:xfrm>
            <a:off x="571680" y="19288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39 Rectángulo redondeado"/>
          <p:cNvSpPr/>
          <p:nvPr/>
        </p:nvSpPr>
        <p:spPr>
          <a:xfrm>
            <a:off x="142920" y="500040"/>
            <a:ext cx="8715240" cy="8571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Institucionalidad ambiental anterior a la Ley 20.41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356760"/>
            <a:ext cx="701064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odelo Institucional Aprob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07800" y="46080"/>
            <a:ext cx="107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6 Rectángulo redondeado"/>
          <p:cNvSpPr/>
          <p:nvPr/>
        </p:nvSpPr>
        <p:spPr>
          <a:xfrm>
            <a:off x="1857240" y="1357200"/>
            <a:ext cx="435780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inisterio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9 Rectángulo redondeado"/>
          <p:cNvSpPr/>
          <p:nvPr/>
        </p:nvSpPr>
        <p:spPr>
          <a:xfrm>
            <a:off x="1857240" y="2500200"/>
            <a:ext cx="4357800" cy="6429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jo de Ministros para la Sustenta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10 Rectángulo redondeado"/>
          <p:cNvSpPr/>
          <p:nvPr/>
        </p:nvSpPr>
        <p:spPr>
          <a:xfrm>
            <a:off x="1857240" y="3500280"/>
            <a:ext cx="442944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rvicio de Evaluación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11 Rectángulo redondeado"/>
          <p:cNvSpPr/>
          <p:nvPr/>
        </p:nvSpPr>
        <p:spPr>
          <a:xfrm>
            <a:off x="1785960" y="442908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perintendencia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12 Rectángulo redondeado"/>
          <p:cNvSpPr/>
          <p:nvPr/>
        </p:nvSpPr>
        <p:spPr>
          <a:xfrm>
            <a:off x="1785960" y="542916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bunal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643200" y="1143000"/>
            <a:ext cx="135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Presidente de la Repúblic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214800" y="2071800"/>
            <a:ext cx="237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inisterio de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34"/>
          <p:cNvSpPr/>
          <p:nvPr/>
        </p:nvSpPr>
        <p:spPr>
          <a:xfrm>
            <a:off x="4500720" y="2643120"/>
            <a:ext cx="0" cy="3970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714760" y="2071800"/>
            <a:ext cx="488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454040" y="4340160"/>
            <a:ext cx="938160" cy="459000"/>
            <a:chOff x="1454040" y="4340160"/>
            <a:chExt cx="938160" cy="459000"/>
          </a:xfrm>
        </p:grpSpPr>
        <p:sp>
          <p:nvSpPr>
            <p:cNvPr id="155" name="Rectangle 10"/>
            <p:cNvSpPr/>
            <p:nvPr/>
          </p:nvSpPr>
          <p:spPr>
            <a:xfrm>
              <a:off x="1454040" y="4340160"/>
              <a:ext cx="938160" cy="459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1654560" y="4411800"/>
              <a:ext cx="474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A 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7" name="Group 51"/>
          <p:cNvGrpSpPr/>
          <p:nvPr/>
        </p:nvGrpSpPr>
        <p:grpSpPr>
          <a:xfrm>
            <a:off x="1319040" y="5118120"/>
            <a:ext cx="1339560" cy="460440"/>
            <a:chOff x="1319040" y="5118120"/>
            <a:chExt cx="1339560" cy="460440"/>
          </a:xfrm>
        </p:grpSpPr>
        <p:sp>
          <p:nvSpPr>
            <p:cNvPr id="158" name="Rectangle 9"/>
            <p:cNvSpPr/>
            <p:nvPr/>
          </p:nvSpPr>
          <p:spPr>
            <a:xfrm>
              <a:off x="1319040" y="5118120"/>
              <a:ext cx="1275480" cy="4604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393200" y="5189760"/>
              <a:ext cx="1265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4143240" y="3214800"/>
            <a:ext cx="1208160" cy="458640"/>
            <a:chOff x="4143240" y="3214800"/>
            <a:chExt cx="1208160" cy="458640"/>
          </a:xfrm>
        </p:grpSpPr>
        <p:sp>
          <p:nvSpPr>
            <p:cNvPr id="161" name="Rectangle 8"/>
            <p:cNvSpPr/>
            <p:nvPr/>
          </p:nvSpPr>
          <p:spPr>
            <a:xfrm>
              <a:off x="4143240" y="3214800"/>
              <a:ext cx="1140120" cy="458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143240" y="3283200"/>
              <a:ext cx="12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336666"/>
                  </a:solidFill>
                  <a:latin typeface="Arial"/>
                </a:rPr>
                <a:t>MINISTR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4143240" y="5000760"/>
            <a:ext cx="1005120" cy="458640"/>
            <a:chOff x="4143240" y="5000760"/>
            <a:chExt cx="1005120" cy="458640"/>
          </a:xfrm>
        </p:grpSpPr>
        <p:sp>
          <p:nvSpPr>
            <p:cNvPr id="164" name="Rectangle 6"/>
            <p:cNvSpPr/>
            <p:nvPr/>
          </p:nvSpPr>
          <p:spPr>
            <a:xfrm>
              <a:off x="4143240" y="5000760"/>
              <a:ext cx="1005120" cy="458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278960" y="5070600"/>
              <a:ext cx="72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REMI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6" name="Group 44"/>
          <p:cNvGrpSpPr/>
          <p:nvPr/>
        </p:nvGrpSpPr>
        <p:grpSpPr>
          <a:xfrm>
            <a:off x="5478480" y="4059360"/>
            <a:ext cx="1649520" cy="523800"/>
            <a:chOff x="5478480" y="4059360"/>
            <a:chExt cx="1649520" cy="523800"/>
          </a:xfrm>
        </p:grpSpPr>
        <p:sp>
          <p:nvSpPr>
            <p:cNvPr id="167" name="Rectangle 7"/>
            <p:cNvSpPr/>
            <p:nvPr/>
          </p:nvSpPr>
          <p:spPr>
            <a:xfrm>
              <a:off x="5478480" y="4059360"/>
              <a:ext cx="1649520" cy="523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5596560" y="4124520"/>
              <a:ext cx="1477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Nac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407200" y="4965840"/>
            <a:ext cx="1644480" cy="841320"/>
            <a:chOff x="5407200" y="4965840"/>
            <a:chExt cx="1644480" cy="841320"/>
          </a:xfrm>
        </p:grpSpPr>
        <p:sp>
          <p:nvSpPr>
            <p:cNvPr id="170" name="Rectangle 5"/>
            <p:cNvSpPr/>
            <p:nvPr/>
          </p:nvSpPr>
          <p:spPr>
            <a:xfrm>
              <a:off x="5407200" y="4965840"/>
              <a:ext cx="1644480" cy="841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5591520" y="4965840"/>
              <a:ext cx="13888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2" name="Group 46"/>
          <p:cNvGrpSpPr/>
          <p:nvPr/>
        </p:nvGrpSpPr>
        <p:grpSpPr>
          <a:xfrm>
            <a:off x="1252440" y="6365880"/>
            <a:ext cx="1677960" cy="470520"/>
            <a:chOff x="1252440" y="6365880"/>
            <a:chExt cx="1677960" cy="470520"/>
          </a:xfrm>
        </p:grpSpPr>
        <p:sp>
          <p:nvSpPr>
            <p:cNvPr id="173" name="Rectangle 4"/>
            <p:cNvSpPr/>
            <p:nvPr/>
          </p:nvSpPr>
          <p:spPr>
            <a:xfrm>
              <a:off x="1252440" y="6365880"/>
              <a:ext cx="1677960" cy="427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Rectangle 20"/>
            <p:cNvSpPr/>
            <p:nvPr/>
          </p:nvSpPr>
          <p:spPr>
            <a:xfrm>
              <a:off x="1503000" y="6409080"/>
              <a:ext cx="122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e E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Line 24"/>
          <p:cNvSpPr/>
          <p:nvPr/>
        </p:nvSpPr>
        <p:spPr>
          <a:xfrm>
            <a:off x="1922400" y="4835520"/>
            <a:ext cx="0" cy="250920"/>
          </a:xfrm>
          <a:prstGeom prst="line">
            <a:avLst/>
          </a:prstGeom>
          <a:ln w="12600">
            <a:solidFill>
              <a:srgbClr val="3366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4673520" y="455292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611440" y="5665680"/>
            <a:ext cx="1341360" cy="460440"/>
          </a:xfrm>
          <a:prstGeom prst="rect">
            <a:avLst/>
          </a:prstGeom>
          <a:solidFill>
            <a:srgbClr val="c8fec8"/>
          </a:solidFill>
          <a:ln w="381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Comisión EA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4076640" y="3984480"/>
            <a:ext cx="1274400" cy="457200"/>
            <a:chOff x="4076640" y="3984480"/>
            <a:chExt cx="1274400" cy="457200"/>
          </a:xfrm>
        </p:grpSpPr>
        <p:sp>
          <p:nvSpPr>
            <p:cNvPr id="179" name="Rectangle 48"/>
            <p:cNvSpPr/>
            <p:nvPr/>
          </p:nvSpPr>
          <p:spPr>
            <a:xfrm>
              <a:off x="4076640" y="3984480"/>
              <a:ext cx="114012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4143240" y="405432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Subsecretarí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81" name="AutoShape 64"/>
          <p:cNvCxnSpPr>
            <a:stCxn id="164" idx="2"/>
            <a:endCxn id="177" idx="3"/>
          </p:cNvCxnSpPr>
          <p:nvPr/>
        </p:nvCxnSpPr>
        <p:spPr>
          <a:xfrm rot="5400000">
            <a:off x="4079880" y="5331240"/>
            <a:ext cx="437400" cy="69300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2" name="AutoShape 66"/>
          <p:cNvCxnSpPr>
            <a:stCxn id="158" idx="2"/>
            <a:endCxn id="177" idx="1"/>
          </p:cNvCxnSpPr>
          <p:nvPr/>
        </p:nvCxnSpPr>
        <p:spPr>
          <a:xfrm flipH="1" rot="16200000">
            <a:off x="2124000" y="5410800"/>
            <a:ext cx="319680" cy="6548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3" name="AutoShape 68"/>
          <p:cNvCxnSpPr>
            <a:stCxn id="173" idx="3"/>
            <a:endCxn id="177" idx="2"/>
          </p:cNvCxnSpPr>
          <p:nvPr/>
        </p:nvCxnSpPr>
        <p:spPr>
          <a:xfrm flipV="1">
            <a:off x="2930040" y="6125400"/>
            <a:ext cx="351360" cy="4532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grpSp>
        <p:nvGrpSpPr>
          <p:cNvPr id="184" name="Group 72"/>
          <p:cNvGrpSpPr/>
          <p:nvPr/>
        </p:nvGrpSpPr>
        <p:grpSpPr>
          <a:xfrm>
            <a:off x="7758000" y="4214880"/>
            <a:ext cx="1386000" cy="457200"/>
            <a:chOff x="7758000" y="4214880"/>
            <a:chExt cx="1386000" cy="457200"/>
          </a:xfrm>
        </p:grpSpPr>
        <p:sp>
          <p:nvSpPr>
            <p:cNvPr id="185" name="Rectangle 73"/>
            <p:cNvSpPr/>
            <p:nvPr/>
          </p:nvSpPr>
          <p:spPr>
            <a:xfrm>
              <a:off x="7785720" y="4214880"/>
              <a:ext cx="1211400" cy="45720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7758000" y="4270320"/>
              <a:ext cx="1386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uperintendenci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7" name="Group 75"/>
          <p:cNvGrpSpPr/>
          <p:nvPr/>
        </p:nvGrpSpPr>
        <p:grpSpPr>
          <a:xfrm>
            <a:off x="7758000" y="5189400"/>
            <a:ext cx="1006560" cy="460440"/>
            <a:chOff x="7758000" y="5189400"/>
            <a:chExt cx="1006560" cy="460440"/>
          </a:xfrm>
        </p:grpSpPr>
        <p:sp>
          <p:nvSpPr>
            <p:cNvPr id="188" name="Rectangle 76"/>
            <p:cNvSpPr/>
            <p:nvPr/>
          </p:nvSpPr>
          <p:spPr>
            <a:xfrm>
              <a:off x="7758000" y="5189400"/>
              <a:ext cx="1006560" cy="460440"/>
            </a:xfrm>
            <a:prstGeom prst="rect">
              <a:avLst/>
            </a:prstGeom>
            <a:solidFill>
              <a:srgbClr val="c8fec8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Rectangle 77"/>
            <p:cNvSpPr/>
            <p:nvPr/>
          </p:nvSpPr>
          <p:spPr>
            <a:xfrm>
              <a:off x="7891200" y="5259600"/>
              <a:ext cx="738360" cy="25992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. Reg.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0" name="Group 78"/>
          <p:cNvGrpSpPr/>
          <p:nvPr/>
        </p:nvGrpSpPr>
        <p:grpSpPr>
          <a:xfrm>
            <a:off x="2593800" y="3846600"/>
            <a:ext cx="1274400" cy="527400"/>
            <a:chOff x="2593800" y="3846600"/>
            <a:chExt cx="1274400" cy="527400"/>
          </a:xfrm>
        </p:grpSpPr>
        <p:sp>
          <p:nvSpPr>
            <p:cNvPr id="191" name="Rectangle 79"/>
            <p:cNvSpPr/>
            <p:nvPr/>
          </p:nvSpPr>
          <p:spPr>
            <a:xfrm>
              <a:off x="2593800" y="3846600"/>
              <a:ext cx="1140120" cy="457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Rectangle 80"/>
            <p:cNvSpPr/>
            <p:nvPr/>
          </p:nvSpPr>
          <p:spPr>
            <a:xfrm>
              <a:off x="2660400" y="3916440"/>
              <a:ext cx="120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Comité de Ministro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93" name="AutoShape 82"/>
          <p:cNvCxnSpPr/>
          <p:nvPr/>
        </p:nvCxnSpPr>
        <p:spPr>
          <a:xfrm flipV="1" rot="10800000">
            <a:off x="1921680" y="3423960"/>
            <a:ext cx="2079000" cy="90072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4" name="AutoShape 83"/>
          <p:cNvCxnSpPr>
            <a:stCxn id="155" idx="3"/>
            <a:endCxn id="192" idx="2"/>
          </p:cNvCxnSpPr>
          <p:nvPr/>
        </p:nvCxnSpPr>
        <p:spPr>
          <a:xfrm flipV="1">
            <a:off x="2391840" y="4377960"/>
            <a:ext cx="872280" cy="19296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5" name="AutoShape 84"/>
          <p:cNvCxnSpPr>
            <a:stCxn id="161" idx="1"/>
            <a:endCxn id="191" idx="0"/>
          </p:cNvCxnSpPr>
          <p:nvPr/>
        </p:nvCxnSpPr>
        <p:spPr>
          <a:xfrm flipV="1" rot="10800000">
            <a:off x="3163320" y="3443040"/>
            <a:ext cx="979920" cy="4039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6" name="AutoShape 85"/>
          <p:cNvCxnSpPr/>
          <p:nvPr/>
        </p:nvCxnSpPr>
        <p:spPr>
          <a:xfrm>
            <a:off x="5276520" y="3423960"/>
            <a:ext cx="1027800" cy="64188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7" name="AutoShape 86"/>
          <p:cNvCxnSpPr/>
          <p:nvPr/>
        </p:nvCxnSpPr>
        <p:spPr>
          <a:xfrm>
            <a:off x="5276520" y="3424320"/>
            <a:ext cx="2986920" cy="78336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sp>
        <p:nvSpPr>
          <p:cNvPr id="198" name="Line 87"/>
          <p:cNvSpPr/>
          <p:nvPr/>
        </p:nvSpPr>
        <p:spPr>
          <a:xfrm>
            <a:off x="8296200" y="4764240"/>
            <a:ext cx="0" cy="3902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99" name="56 Conector recto de flecha"/>
          <p:cNvCxnSpPr>
            <a:stCxn id="177" idx="0"/>
            <a:endCxn id="192" idx="2"/>
          </p:cNvCxnSpPr>
          <p:nvPr/>
        </p:nvCxnSpPr>
        <p:spPr>
          <a:xfrm flipH="1" flipV="1">
            <a:off x="3263040" y="4377960"/>
            <a:ext cx="19800" cy="1288080"/>
          </a:xfrm>
          <a:prstGeom prst="straightConnector1">
            <a:avLst/>
          </a:prstGeom>
          <a:ln w="9360">
            <a:solidFill>
              <a:srgbClr val="336666"/>
            </a:solidFill>
            <a:miter/>
            <a:tailEnd len="med" type="arrow" w="med"/>
          </a:ln>
        </p:spPr>
      </p:cxnSp>
      <p:sp>
        <p:nvSpPr>
          <p:cNvPr id="200" name="61 Rectángulo"/>
          <p:cNvSpPr/>
          <p:nvPr/>
        </p:nvSpPr>
        <p:spPr>
          <a:xfrm>
            <a:off x="1214280" y="3143160"/>
            <a:ext cx="279576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62 Rectángulo"/>
          <p:cNvSpPr/>
          <p:nvPr/>
        </p:nvSpPr>
        <p:spPr>
          <a:xfrm>
            <a:off x="7470720" y="3213000"/>
            <a:ext cx="1530360" cy="3645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63 Rectángulo"/>
          <p:cNvSpPr/>
          <p:nvPr/>
        </p:nvSpPr>
        <p:spPr>
          <a:xfrm>
            <a:off x="4010040" y="3143160"/>
            <a:ext cx="133020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58 Rectángulo"/>
          <p:cNvSpPr/>
          <p:nvPr/>
        </p:nvSpPr>
        <p:spPr>
          <a:xfrm>
            <a:off x="5643720" y="2571840"/>
            <a:ext cx="1785960" cy="571320"/>
          </a:xfrm>
          <a:prstGeom prst="rect">
            <a:avLst/>
          </a:prstGeom>
          <a:noFill/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59 CuadroTexto"/>
          <p:cNvSpPr/>
          <p:nvPr/>
        </p:nvSpPr>
        <p:spPr>
          <a:xfrm>
            <a:off x="5646240" y="2643120"/>
            <a:ext cx="175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Consejo de Ministr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Para la Sustentabilida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05" name="70 Forma"/>
          <p:cNvCxnSpPr>
            <a:stCxn id="203" idx="2"/>
            <a:endCxn id="161" idx="3"/>
          </p:cNvCxnSpPr>
          <p:nvPr/>
        </p:nvCxnSpPr>
        <p:spPr>
          <a:xfrm rot="5400000">
            <a:off x="5759640" y="2666160"/>
            <a:ext cx="300600" cy="1254600"/>
          </a:xfrm>
          <a:prstGeom prst="bentConnector2">
            <a:avLst/>
          </a:prstGeom>
          <a:ln w="38160">
            <a:solidFill>
              <a:srgbClr val="c00000"/>
            </a:solidFill>
            <a:prstDash val="lgDash"/>
            <a:miter/>
            <a:tailEnd len="med" type="arrow" w="med"/>
          </a:ln>
        </p:spPr>
      </p:cxnSp>
      <p:sp>
        <p:nvSpPr>
          <p:cNvPr id="206" name="59 Rectángulo redondeado"/>
          <p:cNvSpPr/>
          <p:nvPr/>
        </p:nvSpPr>
        <p:spPr>
          <a:xfrm>
            <a:off x="214200" y="214200"/>
            <a:ext cx="8715600" cy="85752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Nueva Institucionalidad Ambient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715160" y="1571760"/>
            <a:ext cx="1143000" cy="642960"/>
          </a:xfrm>
          <a:prstGeom prst="rect">
            <a:avLst/>
          </a:prstGeom>
          <a:solidFill>
            <a:srgbClr val="fcfeb9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TRIBUNAL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105 Conector recto"/>
          <p:cNvSpPr/>
          <p:nvPr/>
        </p:nvSpPr>
        <p:spPr>
          <a:xfrm flipH="1">
            <a:off x="8572680" y="2214720"/>
            <a:ext cx="1440" cy="2001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110 Conector recto"/>
          <p:cNvSpPr/>
          <p:nvPr/>
        </p:nvSpPr>
        <p:spPr>
          <a:xfrm flipH="1">
            <a:off x="642600" y="1999440"/>
            <a:ext cx="7072200" cy="3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4357800" y="171468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114 Conector recto"/>
          <p:cNvSpPr/>
          <p:nvPr/>
        </p:nvSpPr>
        <p:spPr>
          <a:xfrm flipH="1">
            <a:off x="642960" y="2000160"/>
            <a:ext cx="1440" cy="2571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119 Conector recto"/>
          <p:cNvSpPr/>
          <p:nvPr/>
        </p:nvSpPr>
        <p:spPr>
          <a:xfrm flipV="1">
            <a:off x="642960" y="4570560"/>
            <a:ext cx="8110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13" name="65 Conector recto de flecha"/>
          <p:cNvCxnSpPr>
            <a:stCxn id="161" idx="2"/>
          </p:cNvCxnSpPr>
          <p:nvPr/>
        </p:nvCxnSpPr>
        <p:spPr>
          <a:xfrm>
            <a:off x="4712040" y="3673440"/>
            <a:ext cx="2520" cy="255960"/>
          </a:xfrm>
          <a:prstGeom prst="straightConnector1">
            <a:avLst/>
          </a:prstGeom>
          <a:ln w="9360">
            <a:solidFill>
              <a:srgbClr val="94c9c9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285480"/>
            <a:ext cx="70106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3880" y="1785600"/>
            <a:ext cx="70106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perjuicio de la creación del Ministerio existe una revalorización de una entidad intersectorial para la discusión de políticas y normativas ambientales: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sejo de Ministros para la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reación del Ministerio con sus competencias propias producirá una relectura de los instrumentos y facultades que tendrá un desarrollo cuyos límites no cono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EIA. Discusión respecto de lo técnico en contraposición a l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toma un rol relevante el Intendente marginado en la propuesta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inción entre normado y no normado, dando preeminencia a Servicios, va ha generar largas discusiones respecto a dichos concep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l Tribunal Ambiental como contrapeso de las atribuciones de la SMA y de la administración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ambios en general no le hacen perder su coherencias interna (hay excep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tramitación el proyecto mejoró en considerar la transectorialidad en la toma de decisiones, pero no en ordenar algunas facultades regulatorias y fiscalizadoras, especialmente con las de orden sanitario y también en RR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356760"/>
            <a:ext cx="7010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inisterio del Medio Ambiente (MM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71760"/>
            <a:ext cx="70106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ambientales generales, que incluye aquellas vinculadas a biodiversidad, áreas protegidas y cuenta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en materia de riesgo y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para la sustentabilidad. Lo anterior implica que debe llegarse a los necesarios acuerdos con los sectores a cargo del fomento productivo, así como la promoción de convenios de colaboración con Gobiernos Regionales y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r Sistema Nacional de Información Ambient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recho a acceder a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istema Nacional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oner políticas, planes, programas, normas y supervigilar el Sistema Nacional de Áreas Protegidas del Estado, y supervisar el manejo de las áreas protegidas de propiedad privada. (letra b art. 70, Ley 19.3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uarios de la Naturaleza (su declaración y regulación pasa a M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Marinas (DS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e MM para reglamentar medidas de protección en concesiones acuíco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ervas Nacionales y Parques Nacionales (proyecto asume creación de Servicio de Biodiversidad y Áreas Protegidas y discusión con Agricultura en competencias). Medio Ambiente informa para creación al igual que Agricu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privadas. Sujetas a supervisión del Servicio, se definen por resolución que se inscribe en CB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23880" y="1643040"/>
            <a:ext cx="7010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do de clasificación de especies en virtud de criterio del Reglamento.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Aprobar planes de recuperación, conservación y gestión de especies clasificadas según su estado de conservación (art. 37, Ley 19.300).(ámbito no está claro, no se refiere a bosques pero si plantas, algas, hongos y animales silves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M velará para que los servicios mantengan  inventario de e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Planes de Manejo (art.42): Los solicita con el servicio competente. Establece criterios. Sin perjuicio de lo que se señale en otros cuerpos legales y no aplica a actividades sometidas al SEIA (lo crea y vacía la nor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conjunto con el MOP en la redacción del Reglamento que define los criterios para fijar caudales ecoló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lazo de un año se enviará al Congreso proyecto de ley que crea el Ser. De Biodiversidad y CONAF de Derech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19:07Z</dcterms:created>
  <dc:creator>NN</dc:creator>
  <dc:description/>
  <dc:language>en-US</dc:language>
  <cp:lastModifiedBy>Javier Vergara Fisher</cp:lastModifiedBy>
  <dcterms:modified xsi:type="dcterms:W3CDTF">2011-03-21T16:36:31Z</dcterms:modified>
  <cp:revision>284</cp:revision>
  <dc:subject/>
  <dc:title>Legislación Ambiental  e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