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5299-2DAF-4D29-8233-23DFCCC2736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880D-B396-48AA-ADB6-6F99CE29B21A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A657-6448-4749-9DDA-FAC519DB9483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BAE6-7365-469C-B928-3983DD7E1624}" type="slidenum">
              <a:rPr b="0" lang="es-CL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EA4A-AEAF-410F-BA2D-65776400C570}" type="slidenum">
              <a:rPr b="0" lang="es-CL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2C4-1963-4C80-B76B-96AE32EA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733-C851-4A54-8820-05975D43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AD1-2DDA-4A92-AC76-7136E684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3BD-8BA9-4971-A4A6-3436953D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67C4-13A6-450B-B324-28082006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BD70-F52E-45B6-BD54-2FDC571A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2447-CD6D-453D-941F-9688CC4F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BBC4-D396-4E8E-AB3B-F38B789F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0A0B-1E33-4D63-8E75-5FFF1051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9441-D62C-4201-8E47-522BF5F1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1CA0-3C5E-4411-9D59-4A90E573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DA8-561D-4A58-80A7-4806E536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96BE-A3E2-4D68-ADBA-10AD7B1D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7889-B391-48E8-A2D2-FCCF75A6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B5BC-383E-4247-9348-2F21F65B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829D-829A-49E5-8D06-4D3E6AD7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4968-E067-46C4-8C32-BCC78E36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E9A-1A56-4514-98B5-144389A0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93D-057D-4270-B0D3-52A0592D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2D2-8356-4AC7-974A-1B7873D8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602-7FAA-4878-A45B-FFB5EE5D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D89-D697-49F3-953C-F6422A85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CDE-3611-45D4-9390-5ECE7DC8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279-FEB1-4869-93C5-A4BBFBF6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79E5-DB09-4B1C-B1FE-99B87698644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4526-FA85-4503-B0FB-59425AAEBA08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1500120"/>
            <a:ext cx="647712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66"/>
                </a:solidFill>
                <a:latin typeface="Tahoma"/>
              </a:rPr>
              <a:t>Nueva Institucionalidad Ambiental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4033800" y="3000240"/>
            <a:ext cx="1076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AutoShape 20"/>
          <p:cNvSpPr/>
          <p:nvPr/>
        </p:nvSpPr>
        <p:spPr>
          <a:xfrm>
            <a:off x="4033800" y="3000240"/>
            <a:ext cx="1076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AutoShape 22"/>
          <p:cNvSpPr/>
          <p:nvPr/>
        </p:nvSpPr>
        <p:spPr>
          <a:xfrm>
            <a:off x="4033800" y="3000240"/>
            <a:ext cx="1076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133360" y="2857320"/>
            <a:ext cx="647676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785880"/>
            <a:ext cx="701064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Políticas y regulaciones en materia de riesgo y medio ambiente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571400" y="1928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spasa a Ministerio competencias regulatorias de CONAMA. (Normas de calidad, emisión, planes de prevención y descontaminaci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jores técnicas disponibles como criterio para fijar las normas de emisión (clausula de progres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planes de Descontaminación procedimiento para pasar a zona latente y plazo para dictar planes de prevención manteniendo vigentes las regulaciones del P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6666"/>
                </a:solidFill>
                <a:latin typeface="Arial"/>
              </a:rPr>
              <a:t>Interpretar dichas normas (no están sujeto a reclamo ante el Tribunal Ambiental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Políticas y regulaciones en materia de riesgo y medio ambi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oner políticas y formul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rmas, planes y programas en materia de residuos y suelos contaminados, así como la evaluación del riesgo de productos químicos, organismos genéticamente modificados y otras sustancias que puedan afectar el medio ambiente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 perjuicio de otros organismos públicos en materia sanitaria. (letra g art. 70,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sagra doble regulación con sector sanit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entrega facultades específicas para fiscalizarlas a la SMA, pero pueden entenderse comprendidas en una competencia general (art. 3 letra 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entrega competencias para interpretarlas al Ministe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contempla reclamo ante el Tribunal Ambiental a diferencias de las señaladas en primer térm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Políticas y regulaciones en materia de riesgo y medio ambi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3880" y="1714320"/>
            <a:ext cx="701064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ministrar un Registro de Emisiones y Transferencias de Contaminantes en el cual se registrará y sistematizará, por fuente o agrupación de fuentes de un mismo establecimiento, la naturaleza, caudal y concentración de emisiones de contaminantes que sean objeto de una norma de emisión, y la naturaleza, volumen y destino de los residuos sólidos generados que señale el reglamento (letra p art. 70,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alió de facultades de la SMA, que fiscaliza cumplimiento del PP, PD, Normas de Emisión y quedó en el Ministerio, parecía más operativo en la S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nsferencias tienen por objeto cumplir límites definidos en planes, no se entiende porque el registro lo lleva el M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ece un retroceso del proyec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innominado cuando no están reglados (en la líneas de normativa comparada, sólo que no revela fuent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sobre monitoreo de calidad del ai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500040"/>
            <a:ext cx="701064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6666"/>
                </a:solidFill>
                <a:latin typeface="Arial"/>
              </a:rPr>
              <a:t>Políticas y Regulaciones para la Sust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aborar con los Ministerios sectoriales en la formulación de los criterios ambientales que deben ser incorporados en la elaboración de sus planes y políticas. (letra e art. 70,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aborar en la formulación de políticas ambientales para el manejo, uso y aprovechamiento sustentable de los recursos naturales renovables e hídricos. (letra f art. 70, Ley 19.300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cipar en el procedimiento de evaluación ambiental estratégica (letra s art. 70, Ley 19.30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tras: fomentar participación ciudadana en los instrumentos a su cargo; realizar y fomentar capacitació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Consejo de Ministros para la Sustentabilidad(art. 71, Ley 19.3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idido por el Ministro del Medio Ambiente e integrado por los Ministros de Agricultura; Hacienda; de Salud; de Economía, Fomento y Reconstrucción; de Energía; de Obras Públicas; de Vivienda y Urbanismo; de Transportes y Telecomunicaciones; de Minería, y de Planificació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guarda la lógica de la transversabilidad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arece más operativo que el act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. de Hacienda es pa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rol de Ministro de Medio Ambiente?. Se asociará con los ministerio que protegen o los desarrollistas o será el fiel de la balanz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Consejo de Ministros para la Sust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oner al Presidente de la República la creación de las Áreas Protegidas del Estado, que incluye parques y reservas marinas, así como los santuarios de la naturaleza y de las áreas marinas costeras protegidas de múltiples usos. (letra c art. 71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oner al Presidente de la República las políticas sectoriales que deben ser sometidas a evaluación ambiental estratégica. (letra d art. 71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nunciarse sobre los criterios y mecanismos en virtud de los cuales se deberá efectuar la participación ciudadana en las Declaraciones de Impacto Ambiental, a que se refiere el artículo 26 de la ley Nº 19.300, sobre Bases Generales del Medio Ambiente. (letra e art. 71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nunciarse sobre los proyectos de ley y actos administrativos que se propongan al Presidente de la República, que contenga normas de carácter ambiental señalados en el artículo 70. (letra f art. 71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3880" y="428760"/>
            <a:ext cx="7010640" cy="12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66"/>
                </a:solidFill>
                <a:latin typeface="Tahoma"/>
              </a:rPr>
              <a:t>Organización del M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 El Ministro del Medio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) El Subsecre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) Las Secretarías Regionales Ministeriales del Medio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) El Consejo Consultivo Nacional y los Consejos Consultivos Reg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00120" y="428760"/>
            <a:ext cx="7010640" cy="13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66"/>
                </a:solidFill>
                <a:latin typeface="Tahoma"/>
              </a:rPr>
              <a:t>Organización del M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visiones ministeriales: Regulación Ambiental; Información y Economía Ambiental; Educación, Participación y Gestión Local; Recursos Naturales y Biodiversidad; Cambio Climático y Cumplimiento de Convenios Internacionales, y Planificación y Gest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ada región del país habrá una Secretaría Regional Ministerial. ¿parientes pobres de la nueva institucionalidad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FL fijará fecha de inicio de nuevas instituciones y cese de CON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Imagen 2" descr=""/>
          <p:cNvPicPr/>
          <p:nvPr/>
        </p:nvPicPr>
        <p:blipFill>
          <a:blip r:embed="rId1"/>
          <a:stretch/>
        </p:blipFill>
        <p:spPr>
          <a:xfrm>
            <a:off x="0" y="0"/>
            <a:ext cx="30002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égimen Transitor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M; SEA y SMA quedan sujeto a que se envíen los DFL que los crean y ponen término a la CONAMA. Se enviaron en sept. 2010. Plena vigencia (problemas surgid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MA queda sujeto además a la aprobación del proyecto de ley sobre Tribunales Ambient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5786280" y="2143080"/>
            <a:ext cx="3048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6666"/>
                </a:solidFill>
                <a:latin typeface="Arial"/>
              </a:rPr>
              <a:t>Ministerio Secretaría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6666"/>
                </a:solidFill>
                <a:latin typeface="Arial"/>
              </a:rPr>
              <a:t>General de la Presidencia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928800" y="1714680"/>
            <a:ext cx="7127280" cy="4949640"/>
            <a:chOff x="928800" y="1714680"/>
            <a:chExt cx="7127280" cy="4949640"/>
          </a:xfrm>
        </p:grpSpPr>
        <p:sp>
          <p:nvSpPr>
            <p:cNvPr id="104" name="Rectangle 5"/>
            <p:cNvSpPr/>
            <p:nvPr/>
          </p:nvSpPr>
          <p:spPr>
            <a:xfrm>
              <a:off x="6072120" y="5572080"/>
              <a:ext cx="1701360" cy="6566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5945400" y="4520880"/>
              <a:ext cx="1764360" cy="85716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3357720" y="4714560"/>
              <a:ext cx="1769760" cy="46728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6000840" y="3429360"/>
              <a:ext cx="2055240" cy="6904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3282480" y="3585240"/>
              <a:ext cx="1643040" cy="4676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928800" y="4714560"/>
              <a:ext cx="1764360" cy="46728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000080" y="3585240"/>
              <a:ext cx="1714320" cy="487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1063440" y="2184840"/>
              <a:ext cx="1458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Presidente de la República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928240" y="2786400"/>
              <a:ext cx="2534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Ministra Presidente del Consejo Directivo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1956240" y="2145960"/>
              <a:ext cx="4476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37c03"/>
                  </a:solidFill>
                  <a:latin typeface="Arial"/>
                </a:rPr>
                <a:t>COMISIÓN NACIONAL 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37c03"/>
                  </a:solidFill>
                  <a:latin typeface="Arial"/>
                </a:rPr>
                <a:t>DEL MEDIO AMBIENTE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1118880" y="3652200"/>
              <a:ext cx="1596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Dirección Ejecutiv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1195560" y="4788000"/>
              <a:ext cx="1457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Director Regional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3409200" y="3587040"/>
              <a:ext cx="1534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nsejo Directiv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NAM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Rectangle 18"/>
            <p:cNvSpPr/>
            <p:nvPr/>
          </p:nvSpPr>
          <p:spPr>
            <a:xfrm>
              <a:off x="3714840" y="4854960"/>
              <a:ext cx="963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REMAS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Rectangle 19"/>
            <p:cNvSpPr/>
            <p:nvPr/>
          </p:nvSpPr>
          <p:spPr>
            <a:xfrm>
              <a:off x="6215040" y="3500280"/>
              <a:ext cx="15861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nsejo Consultiv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de CONAM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" name="Rectangle 20"/>
            <p:cNvSpPr/>
            <p:nvPr/>
          </p:nvSpPr>
          <p:spPr>
            <a:xfrm>
              <a:off x="6143400" y="4520880"/>
              <a:ext cx="16174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nsejo Consultiv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Regional del Medi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Ambient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0" name="Rectangle 21"/>
            <p:cNvSpPr/>
            <p:nvPr/>
          </p:nvSpPr>
          <p:spPr>
            <a:xfrm>
              <a:off x="6357600" y="5572080"/>
              <a:ext cx="12402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mité Técnic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de COREM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" name="Rectangle 22"/>
            <p:cNvSpPr/>
            <p:nvPr/>
          </p:nvSpPr>
          <p:spPr>
            <a:xfrm>
              <a:off x="1066680" y="6257160"/>
              <a:ext cx="1330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Coordinación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2" name="Rectangle 23"/>
            <p:cNvSpPr/>
            <p:nvPr/>
          </p:nvSpPr>
          <p:spPr>
            <a:xfrm>
              <a:off x="3600720" y="6325200"/>
              <a:ext cx="11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Decisión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3" name="Rectangle 24"/>
            <p:cNvSpPr/>
            <p:nvPr/>
          </p:nvSpPr>
          <p:spPr>
            <a:xfrm>
              <a:off x="6714000" y="6358680"/>
              <a:ext cx="950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Consulta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Line 25"/>
            <p:cNvSpPr/>
            <p:nvPr/>
          </p:nvSpPr>
          <p:spPr>
            <a:xfrm>
              <a:off x="1506960" y="4188240"/>
              <a:ext cx="0" cy="399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Line 26"/>
            <p:cNvSpPr/>
            <p:nvPr/>
          </p:nvSpPr>
          <p:spPr>
            <a:xfrm>
              <a:off x="2711880" y="3785760"/>
              <a:ext cx="379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6" name="Line 27"/>
            <p:cNvSpPr/>
            <p:nvPr/>
          </p:nvSpPr>
          <p:spPr>
            <a:xfrm>
              <a:off x="4164840" y="4188240"/>
              <a:ext cx="11520" cy="39924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Line 28"/>
            <p:cNvSpPr/>
            <p:nvPr/>
          </p:nvSpPr>
          <p:spPr>
            <a:xfrm>
              <a:off x="2903400" y="4988520"/>
              <a:ext cx="379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8" name="Line 29"/>
            <p:cNvSpPr/>
            <p:nvPr/>
          </p:nvSpPr>
          <p:spPr>
            <a:xfrm>
              <a:off x="1506960" y="5391000"/>
              <a:ext cx="0" cy="66672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>
              <a:off x="1508400" y="6057720"/>
              <a:ext cx="43732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0" name="Line 31"/>
            <p:cNvSpPr/>
            <p:nvPr/>
          </p:nvSpPr>
          <p:spPr>
            <a:xfrm>
              <a:off x="5058000" y="5391000"/>
              <a:ext cx="0" cy="3326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1" name="Line 32"/>
            <p:cNvSpPr/>
            <p:nvPr/>
          </p:nvSpPr>
          <p:spPr>
            <a:xfrm>
              <a:off x="5059080" y="5723640"/>
              <a:ext cx="759600" cy="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2" name="Line 33"/>
            <p:cNvSpPr/>
            <p:nvPr/>
          </p:nvSpPr>
          <p:spPr>
            <a:xfrm>
              <a:off x="5184720" y="3785760"/>
              <a:ext cx="505800" cy="0"/>
            </a:xfrm>
            <a:prstGeom prst="line">
              <a:avLst/>
            </a:prstGeom>
            <a:ln w="12600">
              <a:solidFill>
                <a:srgbClr val="336666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3" name="Line 34"/>
            <p:cNvSpPr/>
            <p:nvPr/>
          </p:nvSpPr>
          <p:spPr>
            <a:xfrm>
              <a:off x="5375880" y="4921920"/>
              <a:ext cx="505800" cy="0"/>
            </a:xfrm>
            <a:prstGeom prst="line">
              <a:avLst/>
            </a:prstGeom>
            <a:ln w="12600">
              <a:solidFill>
                <a:srgbClr val="336666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4174200" y="3284640"/>
              <a:ext cx="0" cy="25164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556000" y="2400840"/>
              <a:ext cx="443520" cy="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6" name="Text Box 37"/>
            <p:cNvSpPr/>
            <p:nvPr/>
          </p:nvSpPr>
          <p:spPr>
            <a:xfrm>
              <a:off x="1760760" y="1714680"/>
              <a:ext cx="4881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7" name="Line 38"/>
            <p:cNvSpPr/>
            <p:nvPr/>
          </p:nvSpPr>
          <p:spPr>
            <a:xfrm>
              <a:off x="5551920" y="2336760"/>
              <a:ext cx="418680" cy="0"/>
            </a:xfrm>
            <a:prstGeom prst="line">
              <a:avLst/>
            </a:prstGeom>
            <a:ln w="9360">
              <a:solidFill>
                <a:srgbClr val="336666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8" name="Line 39"/>
            <p:cNvSpPr/>
            <p:nvPr/>
          </p:nvSpPr>
          <p:spPr>
            <a:xfrm>
              <a:off x="4174200" y="2652840"/>
              <a:ext cx="0" cy="25164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39" name="AutoShape 40"/>
          <p:cNvSpPr/>
          <p:nvPr/>
        </p:nvSpPr>
        <p:spPr>
          <a:xfrm>
            <a:off x="571680" y="192888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39 Rectángulo redondeado"/>
          <p:cNvSpPr/>
          <p:nvPr/>
        </p:nvSpPr>
        <p:spPr>
          <a:xfrm>
            <a:off x="142920" y="500040"/>
            <a:ext cx="8715240" cy="85716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Institucionalidad ambiental anterior a la Ley 20.417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47640" y="356760"/>
            <a:ext cx="701064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Tahoma"/>
              </a:rPr>
              <a:t>Modelo Institucional Aprob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71400" y="20001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4033800" y="3000240"/>
            <a:ext cx="1076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307800" y="46080"/>
            <a:ext cx="1076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6 Rectángulo redondeado"/>
          <p:cNvSpPr/>
          <p:nvPr/>
        </p:nvSpPr>
        <p:spPr>
          <a:xfrm>
            <a:off x="1857240" y="1357200"/>
            <a:ext cx="4357800" cy="78588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inisterio de Medio Ambient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9 Rectángulo redondeado"/>
          <p:cNvSpPr/>
          <p:nvPr/>
        </p:nvSpPr>
        <p:spPr>
          <a:xfrm>
            <a:off x="1857240" y="2500200"/>
            <a:ext cx="4357800" cy="64296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jo de Ministros para la Sustentabilida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10 Rectángulo redondeado"/>
          <p:cNvSpPr/>
          <p:nvPr/>
        </p:nvSpPr>
        <p:spPr>
          <a:xfrm>
            <a:off x="1857240" y="3500280"/>
            <a:ext cx="4429440" cy="78588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ervicio de Evaluación Ambienta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11 Rectángulo redondeado"/>
          <p:cNvSpPr/>
          <p:nvPr/>
        </p:nvSpPr>
        <p:spPr>
          <a:xfrm>
            <a:off x="1785960" y="4429080"/>
            <a:ext cx="4429080" cy="78588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uperintendencia de Medio Ambient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12 Rectángulo redondeado"/>
          <p:cNvSpPr/>
          <p:nvPr/>
        </p:nvSpPr>
        <p:spPr>
          <a:xfrm>
            <a:off x="1785960" y="5429160"/>
            <a:ext cx="4429080" cy="78588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ibunal Ambienta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1"/>
          <p:cNvSpPr/>
          <p:nvPr/>
        </p:nvSpPr>
        <p:spPr>
          <a:xfrm>
            <a:off x="3643200" y="1143000"/>
            <a:ext cx="1357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Arial"/>
              </a:rPr>
              <a:t>Presidente de la República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3214800" y="2071800"/>
            <a:ext cx="2374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Arial"/>
              </a:rPr>
              <a:t>Ministerio de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Arial"/>
              </a:rPr>
              <a:t>Medio Ambient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Line 34"/>
          <p:cNvSpPr/>
          <p:nvPr/>
        </p:nvSpPr>
        <p:spPr>
          <a:xfrm>
            <a:off x="4500720" y="2643120"/>
            <a:ext cx="0" cy="39708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2714760" y="2071800"/>
            <a:ext cx="488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54" name="Group 50"/>
          <p:cNvGrpSpPr/>
          <p:nvPr/>
        </p:nvGrpSpPr>
        <p:grpSpPr>
          <a:xfrm>
            <a:off x="1454040" y="4340160"/>
            <a:ext cx="938160" cy="459000"/>
            <a:chOff x="1454040" y="4340160"/>
            <a:chExt cx="938160" cy="459000"/>
          </a:xfrm>
        </p:grpSpPr>
        <p:sp>
          <p:nvSpPr>
            <p:cNvPr id="155" name="Rectangle 10"/>
            <p:cNvSpPr/>
            <p:nvPr/>
          </p:nvSpPr>
          <p:spPr>
            <a:xfrm>
              <a:off x="1454040" y="4340160"/>
              <a:ext cx="938160" cy="4590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6" name="Rectangle 14"/>
            <p:cNvSpPr/>
            <p:nvPr/>
          </p:nvSpPr>
          <p:spPr>
            <a:xfrm>
              <a:off x="1654560" y="4411800"/>
              <a:ext cx="474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SEA 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57" name="Group 51"/>
          <p:cNvGrpSpPr/>
          <p:nvPr/>
        </p:nvGrpSpPr>
        <p:grpSpPr>
          <a:xfrm>
            <a:off x="1319040" y="5118120"/>
            <a:ext cx="1339560" cy="460440"/>
            <a:chOff x="1319040" y="5118120"/>
            <a:chExt cx="1339560" cy="460440"/>
          </a:xfrm>
        </p:grpSpPr>
        <p:sp>
          <p:nvSpPr>
            <p:cNvPr id="158" name="Rectangle 9"/>
            <p:cNvSpPr/>
            <p:nvPr/>
          </p:nvSpPr>
          <p:spPr>
            <a:xfrm>
              <a:off x="1319040" y="5118120"/>
              <a:ext cx="1275480" cy="4604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1393200" y="5189760"/>
              <a:ext cx="1265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Director Regional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0" name="Group 42"/>
          <p:cNvGrpSpPr/>
          <p:nvPr/>
        </p:nvGrpSpPr>
        <p:grpSpPr>
          <a:xfrm>
            <a:off x="4143240" y="3214800"/>
            <a:ext cx="1208160" cy="458640"/>
            <a:chOff x="4143240" y="3214800"/>
            <a:chExt cx="1208160" cy="458640"/>
          </a:xfrm>
        </p:grpSpPr>
        <p:sp>
          <p:nvSpPr>
            <p:cNvPr id="161" name="Rectangle 8"/>
            <p:cNvSpPr/>
            <p:nvPr/>
          </p:nvSpPr>
          <p:spPr>
            <a:xfrm>
              <a:off x="4143240" y="3214800"/>
              <a:ext cx="1140120" cy="4586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4143240" y="3283200"/>
              <a:ext cx="1208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336666"/>
                  </a:solidFill>
                  <a:latin typeface="Arial"/>
                </a:rPr>
                <a:t>MINISTRO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3" name="Group 43"/>
          <p:cNvGrpSpPr/>
          <p:nvPr/>
        </p:nvGrpSpPr>
        <p:grpSpPr>
          <a:xfrm>
            <a:off x="4143240" y="5000760"/>
            <a:ext cx="1005120" cy="458640"/>
            <a:chOff x="4143240" y="5000760"/>
            <a:chExt cx="1005120" cy="458640"/>
          </a:xfrm>
        </p:grpSpPr>
        <p:sp>
          <p:nvSpPr>
            <p:cNvPr id="164" name="Rectangle 6"/>
            <p:cNvSpPr/>
            <p:nvPr/>
          </p:nvSpPr>
          <p:spPr>
            <a:xfrm>
              <a:off x="4143240" y="5000760"/>
              <a:ext cx="1005120" cy="4586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5" name="Rectangle 17"/>
            <p:cNvSpPr/>
            <p:nvPr/>
          </p:nvSpPr>
          <p:spPr>
            <a:xfrm>
              <a:off x="4278960" y="5070600"/>
              <a:ext cx="721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SEREMI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6" name="Group 44"/>
          <p:cNvGrpSpPr/>
          <p:nvPr/>
        </p:nvGrpSpPr>
        <p:grpSpPr>
          <a:xfrm>
            <a:off x="5478480" y="4059360"/>
            <a:ext cx="1649520" cy="523800"/>
            <a:chOff x="5478480" y="4059360"/>
            <a:chExt cx="1649520" cy="523800"/>
          </a:xfrm>
        </p:grpSpPr>
        <p:sp>
          <p:nvSpPr>
            <p:cNvPr id="167" name="Rectangle 7"/>
            <p:cNvSpPr/>
            <p:nvPr/>
          </p:nvSpPr>
          <p:spPr>
            <a:xfrm>
              <a:off x="5478480" y="4059360"/>
              <a:ext cx="1649520" cy="5238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Rectangle 18"/>
            <p:cNvSpPr/>
            <p:nvPr/>
          </p:nvSpPr>
          <p:spPr>
            <a:xfrm>
              <a:off x="5596560" y="4124520"/>
              <a:ext cx="1477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Consejo Consultivo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Nacional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9" name="Group 45"/>
          <p:cNvGrpSpPr/>
          <p:nvPr/>
        </p:nvGrpSpPr>
        <p:grpSpPr>
          <a:xfrm>
            <a:off x="5407200" y="4965840"/>
            <a:ext cx="1644480" cy="841320"/>
            <a:chOff x="5407200" y="4965840"/>
            <a:chExt cx="1644480" cy="841320"/>
          </a:xfrm>
        </p:grpSpPr>
        <p:sp>
          <p:nvSpPr>
            <p:cNvPr id="170" name="Rectangle 5"/>
            <p:cNvSpPr/>
            <p:nvPr/>
          </p:nvSpPr>
          <p:spPr>
            <a:xfrm>
              <a:off x="5407200" y="4965840"/>
              <a:ext cx="1644480" cy="84132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Rectangle 19"/>
            <p:cNvSpPr/>
            <p:nvPr/>
          </p:nvSpPr>
          <p:spPr>
            <a:xfrm>
              <a:off x="5591520" y="4965840"/>
              <a:ext cx="13888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Consejo Consultivo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Regional del Medio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Ambiente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72" name="Group 46"/>
          <p:cNvGrpSpPr/>
          <p:nvPr/>
        </p:nvGrpSpPr>
        <p:grpSpPr>
          <a:xfrm>
            <a:off x="1252440" y="6365880"/>
            <a:ext cx="1677960" cy="470520"/>
            <a:chOff x="1252440" y="6365880"/>
            <a:chExt cx="1677960" cy="470520"/>
          </a:xfrm>
        </p:grpSpPr>
        <p:sp>
          <p:nvSpPr>
            <p:cNvPr id="173" name="Rectangle 4"/>
            <p:cNvSpPr/>
            <p:nvPr/>
          </p:nvSpPr>
          <p:spPr>
            <a:xfrm>
              <a:off x="1252440" y="6365880"/>
              <a:ext cx="1677960" cy="42732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Rectangle 20"/>
            <p:cNvSpPr/>
            <p:nvPr/>
          </p:nvSpPr>
          <p:spPr>
            <a:xfrm>
              <a:off x="1503000" y="6409080"/>
              <a:ext cx="122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Comité Técnico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 </a:t>
              </a: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de EA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75" name="Line 24"/>
          <p:cNvSpPr/>
          <p:nvPr/>
        </p:nvSpPr>
        <p:spPr>
          <a:xfrm>
            <a:off x="1922400" y="4835520"/>
            <a:ext cx="0" cy="250920"/>
          </a:xfrm>
          <a:prstGeom prst="line">
            <a:avLst/>
          </a:prstGeom>
          <a:ln w="12600">
            <a:solidFill>
              <a:srgbClr val="3366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Line 26"/>
          <p:cNvSpPr/>
          <p:nvPr/>
        </p:nvSpPr>
        <p:spPr>
          <a:xfrm>
            <a:off x="4673520" y="4552920"/>
            <a:ext cx="11160" cy="39204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2611440" y="5665680"/>
            <a:ext cx="1341360" cy="460440"/>
          </a:xfrm>
          <a:prstGeom prst="rect">
            <a:avLst/>
          </a:prstGeom>
          <a:solidFill>
            <a:srgbClr val="c8fec8"/>
          </a:solidFill>
          <a:ln w="381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100" spc="-1" strike="noStrike">
                <a:solidFill>
                  <a:srgbClr val="336666"/>
                </a:solidFill>
                <a:latin typeface="Arial"/>
              </a:rPr>
              <a:t>    </a:t>
            </a:r>
            <a:r>
              <a:rPr b="0" lang="es-MX" sz="1100" spc="-1" strike="noStrike">
                <a:solidFill>
                  <a:srgbClr val="336666"/>
                </a:solidFill>
                <a:latin typeface="Arial"/>
              </a:rPr>
              <a:t>Comisión EA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78" name="Group 47"/>
          <p:cNvGrpSpPr/>
          <p:nvPr/>
        </p:nvGrpSpPr>
        <p:grpSpPr>
          <a:xfrm>
            <a:off x="4076640" y="3984480"/>
            <a:ext cx="1274400" cy="457200"/>
            <a:chOff x="4076640" y="3984480"/>
            <a:chExt cx="1274400" cy="457200"/>
          </a:xfrm>
        </p:grpSpPr>
        <p:sp>
          <p:nvSpPr>
            <p:cNvPr id="179" name="Rectangle 48"/>
            <p:cNvSpPr/>
            <p:nvPr/>
          </p:nvSpPr>
          <p:spPr>
            <a:xfrm>
              <a:off x="4076640" y="3984480"/>
              <a:ext cx="1140120" cy="4572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Rectangle 49"/>
            <p:cNvSpPr/>
            <p:nvPr/>
          </p:nvSpPr>
          <p:spPr>
            <a:xfrm>
              <a:off x="4143240" y="4054320"/>
              <a:ext cx="1207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336666"/>
                  </a:solidFill>
                  <a:latin typeface="Arial"/>
                </a:rPr>
                <a:t>Subsecretarí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cxnSp>
        <p:nvCxnSpPr>
          <p:cNvPr id="181" name="AutoShape 64"/>
          <p:cNvCxnSpPr>
            <a:stCxn id="164" idx="2"/>
            <a:endCxn id="177" idx="3"/>
          </p:cNvCxnSpPr>
          <p:nvPr/>
        </p:nvCxnSpPr>
        <p:spPr>
          <a:xfrm rot="5400000">
            <a:off x="4079880" y="5331240"/>
            <a:ext cx="437400" cy="69300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82" name="AutoShape 66"/>
          <p:cNvCxnSpPr>
            <a:stCxn id="158" idx="2"/>
            <a:endCxn id="177" idx="1"/>
          </p:cNvCxnSpPr>
          <p:nvPr/>
        </p:nvCxnSpPr>
        <p:spPr>
          <a:xfrm flipH="1" rot="16200000">
            <a:off x="2124000" y="5410800"/>
            <a:ext cx="319680" cy="65484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83" name="AutoShape 68"/>
          <p:cNvCxnSpPr>
            <a:stCxn id="173" idx="3"/>
            <a:endCxn id="177" idx="2"/>
          </p:cNvCxnSpPr>
          <p:nvPr/>
        </p:nvCxnSpPr>
        <p:spPr>
          <a:xfrm flipV="1">
            <a:off x="2930040" y="6125400"/>
            <a:ext cx="351360" cy="45324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grpSp>
        <p:nvGrpSpPr>
          <p:cNvPr id="184" name="Group 72"/>
          <p:cNvGrpSpPr/>
          <p:nvPr/>
        </p:nvGrpSpPr>
        <p:grpSpPr>
          <a:xfrm>
            <a:off x="7758000" y="4214880"/>
            <a:ext cx="1386000" cy="457200"/>
            <a:chOff x="7758000" y="4214880"/>
            <a:chExt cx="1386000" cy="457200"/>
          </a:xfrm>
        </p:grpSpPr>
        <p:sp>
          <p:nvSpPr>
            <p:cNvPr id="185" name="Rectangle 73"/>
            <p:cNvSpPr/>
            <p:nvPr/>
          </p:nvSpPr>
          <p:spPr>
            <a:xfrm>
              <a:off x="7785720" y="4214880"/>
              <a:ext cx="1211400" cy="457200"/>
            </a:xfrm>
            <a:prstGeom prst="rect">
              <a:avLst/>
            </a:prstGeom>
            <a:solidFill>
              <a:srgbClr val="fcfeb9"/>
            </a:solidFill>
            <a:ln w="38160">
              <a:solidFill>
                <a:srgbClr val="3366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7758000" y="4270320"/>
              <a:ext cx="13860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Superintendencia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87" name="Group 75"/>
          <p:cNvGrpSpPr/>
          <p:nvPr/>
        </p:nvGrpSpPr>
        <p:grpSpPr>
          <a:xfrm>
            <a:off x="7758000" y="5189400"/>
            <a:ext cx="1006560" cy="460440"/>
            <a:chOff x="7758000" y="5189400"/>
            <a:chExt cx="1006560" cy="460440"/>
          </a:xfrm>
        </p:grpSpPr>
        <p:sp>
          <p:nvSpPr>
            <p:cNvPr id="188" name="Rectangle 76"/>
            <p:cNvSpPr/>
            <p:nvPr/>
          </p:nvSpPr>
          <p:spPr>
            <a:xfrm>
              <a:off x="7758000" y="5189400"/>
              <a:ext cx="1006560" cy="460440"/>
            </a:xfrm>
            <a:prstGeom prst="rect">
              <a:avLst/>
            </a:prstGeom>
            <a:solidFill>
              <a:srgbClr val="c8fec8"/>
            </a:solidFill>
            <a:ln w="38160">
              <a:solidFill>
                <a:srgbClr val="3366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9" name="Rectangle 77"/>
            <p:cNvSpPr/>
            <p:nvPr/>
          </p:nvSpPr>
          <p:spPr>
            <a:xfrm>
              <a:off x="7891200" y="5259600"/>
              <a:ext cx="738360" cy="259920"/>
            </a:xfrm>
            <a:prstGeom prst="rect">
              <a:avLst/>
            </a:prstGeom>
            <a:noFill/>
            <a:ln w="9360">
              <a:solidFill>
                <a:srgbClr val="3366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Dir. Reg.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90" name="Group 78"/>
          <p:cNvGrpSpPr/>
          <p:nvPr/>
        </p:nvGrpSpPr>
        <p:grpSpPr>
          <a:xfrm>
            <a:off x="2593800" y="3846600"/>
            <a:ext cx="1274400" cy="527400"/>
            <a:chOff x="2593800" y="3846600"/>
            <a:chExt cx="1274400" cy="527400"/>
          </a:xfrm>
        </p:grpSpPr>
        <p:sp>
          <p:nvSpPr>
            <p:cNvPr id="191" name="Rectangle 79"/>
            <p:cNvSpPr/>
            <p:nvPr/>
          </p:nvSpPr>
          <p:spPr>
            <a:xfrm>
              <a:off x="2593800" y="3846600"/>
              <a:ext cx="1140120" cy="457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Rectangle 80"/>
            <p:cNvSpPr/>
            <p:nvPr/>
          </p:nvSpPr>
          <p:spPr>
            <a:xfrm>
              <a:off x="2660400" y="3916440"/>
              <a:ext cx="1207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336666"/>
                  </a:solidFill>
                  <a:latin typeface="Arial"/>
                </a:rPr>
                <a:t>Comité de Ministros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cxnSp>
        <p:nvCxnSpPr>
          <p:cNvPr id="193" name="AutoShape 82"/>
          <p:cNvCxnSpPr/>
          <p:nvPr/>
        </p:nvCxnSpPr>
        <p:spPr>
          <a:xfrm flipV="1" rot="10800000">
            <a:off x="1921680" y="3423960"/>
            <a:ext cx="2079000" cy="900720"/>
          </a:xfrm>
          <a:prstGeom prst="bentConnector2">
            <a:avLst/>
          </a:prstGeom>
          <a:ln w="9360">
            <a:solidFill>
              <a:srgbClr val="336666"/>
            </a:solidFill>
            <a:prstDash val="lgDash"/>
            <a:miter/>
            <a:tailEnd len="med" type="triangle" w="med"/>
          </a:ln>
        </p:spPr>
      </p:cxnSp>
      <p:cxnSp>
        <p:nvCxnSpPr>
          <p:cNvPr id="194" name="AutoShape 83"/>
          <p:cNvCxnSpPr>
            <a:stCxn id="155" idx="3"/>
            <a:endCxn id="192" idx="2"/>
          </p:cNvCxnSpPr>
          <p:nvPr/>
        </p:nvCxnSpPr>
        <p:spPr>
          <a:xfrm flipV="1">
            <a:off x="2391840" y="4377960"/>
            <a:ext cx="872280" cy="19296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95" name="AutoShape 84"/>
          <p:cNvCxnSpPr>
            <a:stCxn id="161" idx="1"/>
            <a:endCxn id="191" idx="0"/>
          </p:cNvCxnSpPr>
          <p:nvPr/>
        </p:nvCxnSpPr>
        <p:spPr>
          <a:xfrm flipV="1" rot="10800000">
            <a:off x="3163320" y="3443040"/>
            <a:ext cx="979920" cy="40392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96" name="AutoShape 85"/>
          <p:cNvCxnSpPr/>
          <p:nvPr/>
        </p:nvCxnSpPr>
        <p:spPr>
          <a:xfrm>
            <a:off x="5276520" y="3423960"/>
            <a:ext cx="1027800" cy="641880"/>
          </a:xfrm>
          <a:prstGeom prst="bentConnector2">
            <a:avLst/>
          </a:prstGeom>
          <a:ln w="9360">
            <a:solidFill>
              <a:srgbClr val="336666"/>
            </a:solidFill>
            <a:prstDash val="lgDash"/>
            <a:miter/>
            <a:tailEnd len="med" type="triangle" w="med"/>
          </a:ln>
        </p:spPr>
      </p:cxnSp>
      <p:cxnSp>
        <p:nvCxnSpPr>
          <p:cNvPr id="197" name="AutoShape 86"/>
          <p:cNvCxnSpPr/>
          <p:nvPr/>
        </p:nvCxnSpPr>
        <p:spPr>
          <a:xfrm>
            <a:off x="5276520" y="3424320"/>
            <a:ext cx="2986920" cy="783360"/>
          </a:xfrm>
          <a:prstGeom prst="bentConnector2">
            <a:avLst/>
          </a:prstGeom>
          <a:ln w="9360">
            <a:solidFill>
              <a:srgbClr val="336666"/>
            </a:solidFill>
            <a:prstDash val="lgDash"/>
            <a:miter/>
            <a:tailEnd len="med" type="triangle" w="med"/>
          </a:ln>
        </p:spPr>
      </p:cxnSp>
      <p:sp>
        <p:nvSpPr>
          <p:cNvPr id="198" name="Line 87"/>
          <p:cNvSpPr/>
          <p:nvPr/>
        </p:nvSpPr>
        <p:spPr>
          <a:xfrm>
            <a:off x="8296200" y="4764240"/>
            <a:ext cx="0" cy="39024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99" name="56 Conector recto de flecha"/>
          <p:cNvCxnSpPr>
            <a:stCxn id="177" idx="0"/>
            <a:endCxn id="192" idx="2"/>
          </p:cNvCxnSpPr>
          <p:nvPr/>
        </p:nvCxnSpPr>
        <p:spPr>
          <a:xfrm flipH="1" flipV="1">
            <a:off x="3263040" y="4377960"/>
            <a:ext cx="19800" cy="1288080"/>
          </a:xfrm>
          <a:prstGeom prst="straightConnector1">
            <a:avLst/>
          </a:prstGeom>
          <a:ln w="9360">
            <a:solidFill>
              <a:srgbClr val="336666"/>
            </a:solidFill>
            <a:miter/>
            <a:tailEnd len="med" type="arrow" w="med"/>
          </a:ln>
        </p:spPr>
      </p:cxnSp>
      <p:sp>
        <p:nvSpPr>
          <p:cNvPr id="200" name="61 Rectángulo"/>
          <p:cNvSpPr/>
          <p:nvPr/>
        </p:nvSpPr>
        <p:spPr>
          <a:xfrm>
            <a:off x="1214280" y="3143160"/>
            <a:ext cx="2795760" cy="3714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62 Rectángulo"/>
          <p:cNvSpPr/>
          <p:nvPr/>
        </p:nvSpPr>
        <p:spPr>
          <a:xfrm>
            <a:off x="7470720" y="3213000"/>
            <a:ext cx="1530360" cy="36450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63 Rectángulo"/>
          <p:cNvSpPr/>
          <p:nvPr/>
        </p:nvSpPr>
        <p:spPr>
          <a:xfrm>
            <a:off x="4010040" y="3143160"/>
            <a:ext cx="1330200" cy="3714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58 Rectángulo"/>
          <p:cNvSpPr/>
          <p:nvPr/>
        </p:nvSpPr>
        <p:spPr>
          <a:xfrm>
            <a:off x="5643720" y="2571840"/>
            <a:ext cx="1785960" cy="571320"/>
          </a:xfrm>
          <a:prstGeom prst="rect">
            <a:avLst/>
          </a:prstGeom>
          <a:noFill/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59 CuadroTexto"/>
          <p:cNvSpPr/>
          <p:nvPr/>
        </p:nvSpPr>
        <p:spPr>
          <a:xfrm>
            <a:off x="5646240" y="2643120"/>
            <a:ext cx="175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6666"/>
                </a:solidFill>
                <a:latin typeface="Arial"/>
              </a:rPr>
              <a:t>Consejo de Ministro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6666"/>
                </a:solidFill>
                <a:latin typeface="Arial"/>
              </a:rPr>
              <a:t>Para la Sustentabilidad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205" name="70 Forma"/>
          <p:cNvCxnSpPr>
            <a:stCxn id="203" idx="2"/>
            <a:endCxn id="161" idx="3"/>
          </p:cNvCxnSpPr>
          <p:nvPr/>
        </p:nvCxnSpPr>
        <p:spPr>
          <a:xfrm rot="5400000">
            <a:off x="5759640" y="2666160"/>
            <a:ext cx="300600" cy="1254600"/>
          </a:xfrm>
          <a:prstGeom prst="bentConnector2">
            <a:avLst/>
          </a:prstGeom>
          <a:ln w="38160">
            <a:solidFill>
              <a:srgbClr val="c00000"/>
            </a:solidFill>
            <a:prstDash val="lgDash"/>
            <a:miter/>
            <a:tailEnd len="med" type="arrow" w="med"/>
          </a:ln>
        </p:spPr>
      </p:cxnSp>
      <p:sp>
        <p:nvSpPr>
          <p:cNvPr id="206" name="59 Rectángulo redondeado"/>
          <p:cNvSpPr/>
          <p:nvPr/>
        </p:nvSpPr>
        <p:spPr>
          <a:xfrm>
            <a:off x="214200" y="214200"/>
            <a:ext cx="8715600" cy="85752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Nueva Institucionalidad Ambient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715160" y="1571760"/>
            <a:ext cx="1143000" cy="642960"/>
          </a:xfrm>
          <a:prstGeom prst="rect">
            <a:avLst/>
          </a:prstGeom>
          <a:solidFill>
            <a:srgbClr val="fcfeb9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6666"/>
                </a:solidFill>
                <a:latin typeface="Arial"/>
              </a:rPr>
              <a:t>TRIBUNAL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6666"/>
                </a:solidFill>
                <a:latin typeface="Arial"/>
              </a:rPr>
              <a:t>AMBIENT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105 Conector recto"/>
          <p:cNvSpPr/>
          <p:nvPr/>
        </p:nvSpPr>
        <p:spPr>
          <a:xfrm flipH="1">
            <a:off x="8572680" y="2214720"/>
            <a:ext cx="1440" cy="20016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110 Conector recto"/>
          <p:cNvSpPr/>
          <p:nvPr/>
        </p:nvSpPr>
        <p:spPr>
          <a:xfrm flipH="1">
            <a:off x="642600" y="1999440"/>
            <a:ext cx="7072200" cy="34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Line 26"/>
          <p:cNvSpPr/>
          <p:nvPr/>
        </p:nvSpPr>
        <p:spPr>
          <a:xfrm>
            <a:off x="4357800" y="1714680"/>
            <a:ext cx="11160" cy="39204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114 Conector recto"/>
          <p:cNvSpPr/>
          <p:nvPr/>
        </p:nvSpPr>
        <p:spPr>
          <a:xfrm flipH="1">
            <a:off x="642960" y="2000160"/>
            <a:ext cx="1440" cy="2571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119 Conector recto"/>
          <p:cNvSpPr/>
          <p:nvPr/>
        </p:nvSpPr>
        <p:spPr>
          <a:xfrm flipV="1">
            <a:off x="642960" y="4570560"/>
            <a:ext cx="81108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213" name="65 Conector recto de flecha"/>
          <p:cNvCxnSpPr>
            <a:stCxn id="161" idx="2"/>
          </p:cNvCxnSpPr>
          <p:nvPr/>
        </p:nvCxnSpPr>
        <p:spPr>
          <a:xfrm>
            <a:off x="4712040" y="3673440"/>
            <a:ext cx="2520" cy="255960"/>
          </a:xfrm>
          <a:prstGeom prst="straightConnector1">
            <a:avLst/>
          </a:prstGeom>
          <a:ln w="9360">
            <a:solidFill>
              <a:srgbClr val="94c9c9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285480"/>
            <a:ext cx="701064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Tahoma"/>
              </a:rPr>
              <a:t>Algunos puntos a destacar de la redacción fin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523880" y="1785600"/>
            <a:ext cx="70106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n perjuicio de la creación del Ministerio existe una revalorización de una entidad intersectorial para la discusión de políticas y normativas ambientales: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nsejo de Ministros para la Sustent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reación del Ministerio con sus competencias propias producirá una relectura de los instrumentos y facultades que tendrá un desarrollo cuyos límites no conocem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SEIA. Discusión respecto de lo técnico en contraposición a lo polí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toma un rol relevante el Intendente marginado en la propuesta orig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inción entre normado y no normado, dando preeminencia a Servicios, va ha generar largas discusiones respecto a dichos concep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Tahoma"/>
              </a:rPr>
              <a:t>Algunos puntos a destacar de la redacción fin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ación del Tribunal Ambiental como contrapeso de las atribuciones de la SMA y de la administración en ge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cambios en general no le hacen perder su coherencias interna (hay excepcio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la tramitación el proyecto mejoró en considerar la transectorialidad en la toma de decisiones, pero no en ordenar algunas facultades regulatorias y fiscalizadoras, especialmente con las de orden sanitario y también en RR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356760"/>
            <a:ext cx="701064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Tahoma"/>
              </a:rPr>
              <a:t>Ministerio del Medio Ambiente (MM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523880" y="1571760"/>
            <a:ext cx="70106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íticas y regulaciones ambientales generales, que incluye aquellas vinculadas a biodiversidad, áreas protegidas y cuentas ambi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íticas y regulaciones en materia de riesgo y medio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íticas y regulaciones para la sustentabilidad. Lo anterior implica que debe llegarse a los necesarios acuerdos con los sectores a cargo del fomento productivo, así como la promoción de convenios de colaboración con Gobiernos Regionales y Municipa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ministrar Sistema Nacional de Información Ambient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Derecho a acceder a información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Sistema Nacional de Información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Tahoma"/>
              </a:rPr>
              <a:t>MM: Políticas y Regulaciones en el ámbito de Biodivers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oner políticas, planes, programas, normas y supervigilar el Sistema Nacional de Áreas Protegidas del Estado, y supervisar el manejo de las áreas protegidas de propiedad privada. (letra b art. 70, Ley 19.30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tuarios de la Naturaleza (su declaración y regulación pasa a M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Áreas Protegidas Marinas (DS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orme MM para reglamentar medidas de protección en concesiones acuíco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ervas Nacionales y Parques Nacionales (proyecto asume creación de Servicio de Biodiversidad y Áreas Protegidas y discusión con Agricultura en competencias). Medio Ambiente informa para creación al igual que Agricu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Áreas protegidas privadas. Sujetas a supervisión del Servicio, se definen por resolución que se inscribe en CB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Tahoma"/>
              </a:rPr>
              <a:t>MM: Políticas y Regulaciones en el ámbito de Biodiversi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23880" y="1643040"/>
            <a:ext cx="70106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stado de clasificación de especies en virtud de criterio del Reglamento. </a:t>
            </a: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Aprobar planes de recuperación, conservación y gestión de especies clasificadas según su estado de conservación (art. 37, Ley 19.300).(ámbito no está claro, no se refiere a bosques pero si plantas, algas, hongos y animales silvest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M velará para que los servicios mantengan  inventario de espe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Planes de Manejo (art.42): Los solicita con el servicio competente. Establece criterios. Sin perjuicio de lo que se señale en otros cuerpos legales y no aplica a actividades sometidas al SEIA (lo crea y vacía la norm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cipar en conjunto con el MOP en la redacción del Reglamento que define los criterios para fijar caudales ecológ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plazo de un año se enviará al Congreso proyecto de ley que crea el Ser. De Biodiversidad y CONAF de Derecho Púb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19:07Z</dcterms:created>
  <dc:creator>NN</dc:creator>
  <dc:description/>
  <dc:language>en-US</dc:language>
  <cp:lastModifiedBy>Javier Vergara Fisher</cp:lastModifiedBy>
  <dcterms:modified xsi:type="dcterms:W3CDTF">2011-03-21T16:36:31Z</dcterms:modified>
  <cp:revision>284</cp:revision>
  <dc:subject/>
  <dc:title>Legislación Ambiental  en Ch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