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DC5E5-954F-49C5-B3D3-54F75939B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AF6CC-D86A-41E8-BAD7-3E6F2F27C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A47AB-D228-4268-B16D-1BE2BF504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82103-5E56-406A-B8A7-B923E3E52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DB2B3-6CCC-4D19-B2F4-19622A001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520BE-F752-44DE-9192-586478420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578E-2084-4CC8-847D-8DFFE8FFF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B8590-E66A-46A5-8456-2B4EE7718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E9DFE-7954-4960-BE2C-EC3CF7BE6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2B32-79E8-4AC8-BABA-9705C1C6D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839B-BF8A-480A-BA1C-90E34EDBD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F52E-F85B-4DF6-9DBB-C94D1C36D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AE03-FF85-4490-A59E-574E06319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8080"/>
                </a:solidFill>
                <a:latin typeface="Tahoma"/>
              </a:rPr>
              <a:t>Derecho Ambiental en Chile: Breve Historia y Principios Rectores</a:t>
            </a:r>
            <a:r>
              <a:rPr b="0" lang="es-CL" sz="4400" spc="-1" strike="noStrike">
                <a:solidFill>
                  <a:srgbClr val="800000"/>
                </a:solidFill>
                <a:latin typeface="Tahoma"/>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Javier Vergara Fish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ricio Leyton Florez</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mestre Primavera 2011</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1752480"/>
            <a:ext cx="8305920" cy="41148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Principios inspiradores no cambian.</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ran acuerdo político destraba reform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Énfasis reforma: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Institucional (Ministerio; Consejo para la Sustentabilidad, SEIA, SMA).</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SEIA : discusión respecto de lo político y técnico; participación ciudadana.</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Ley fue publicada en enero de 2010:</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iversas normas: aplicación inmediata; otras que quedan sujetas a nueva institucionalidad y otras a Reglamento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Tribunal Ambiental (nueva ley y suspende SM).</a:t>
            </a:r>
            <a:endParaRPr b="0" lang="en-US" sz="2400" spc="-1" strike="noStrike">
              <a:solidFill>
                <a:srgbClr val="000000"/>
              </a:solidFill>
              <a:latin typeface="Times New Roman"/>
            </a:endParaRPr>
          </a:p>
          <a:p>
            <a:pPr marL="30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68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NUEVA INSTITUCIONA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
          <p:cNvSpPr/>
          <p:nvPr/>
        </p:nvSpPr>
        <p:spPr>
          <a:xfrm>
            <a:off x="3027240" y="3274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5"/>
          <p:cNvSpPr/>
          <p:nvPr/>
        </p:nvSpPr>
        <p:spPr>
          <a:xfrm>
            <a:off x="1314720" y="2819520"/>
            <a:ext cx="681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PRINCIPIOS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t>
            </a:r>
            <a:r>
              <a:rPr b="0" i="1" lang="es-CL" sz="2400" spc="-1" strike="noStrike">
                <a:solidFill>
                  <a:srgbClr val="000000"/>
                </a:solidFill>
                <a:latin typeface="Tahoma"/>
              </a:rPr>
              <a:t>El particular que actualmente contamina o que lo haga en el futuro debe incorporar en sus costos de producción todas las inversiones necesarias para evitar la contaminación</a:t>
            </a:r>
            <a:r>
              <a:rPr b="0" lang="es-CL" sz="2400" spc="-1" strike="noStrike">
                <a:solidFill>
                  <a:srgbClr val="000000"/>
                </a:solidFill>
                <a:latin typeface="Tahoma"/>
              </a:rPr>
              <a:t>” (Mensaje Ley de Ba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deben desarrollar instrumentos de políticas ambientales tendientes a internalizar estos cost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240" y="1676520"/>
            <a:ext cx="845820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pto general del principio es que no pueden existir subsidios o incentivos fiscales para cumplir con la normativa ambient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xcepciones al principio aceptadas por la teorí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calidad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emis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rmas de proces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hibicione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REGULACION DIRECT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mpuest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rif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rmisos de emisión transabl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pósitos retornables</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ducación Ambient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vestig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INSTRUMENTOS DE ACEPTABILIDAD SO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1828800"/>
            <a:ext cx="8382240" cy="4114800"/>
          </a:xfrm>
          <a:prstGeom prst="rect">
            <a:avLst/>
          </a:prstGeom>
          <a:noFill/>
          <a:ln w="0">
            <a:noFill/>
          </a:ln>
        </p:spPr>
        <p:txBody>
          <a:bodyPr anchor="t">
            <a:normAutofit/>
          </a:bodyPr>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uditorias (vinculados a mercad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uerdos voluntarios, compromisos voluntarios, autoregulación.</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ONTAMINA PAG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INSTRUMENTOS VOLUNTAR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Quien genera daños ambientales debe repararl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iseños especiales de sistemas de responsabilidad  en materia ambiental (en términos generales o para determinadas activid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Manifestación del principio del que Contamina Pag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RESPONSA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4560" y="1752480"/>
            <a:ext cx="838188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personas tienen derecho a participar en el desarrollo de los procesos ambienta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 Deber de Informar</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ARTICIP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04560" y="1752480"/>
            <a:ext cx="8458200" cy="41148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ís de alrededor de 16.000.000 millones de habitante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rga y angosta faja de tierra (fronteras naturales, el desierto de atacama; la Cordillera de los Andes; el Oc</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ano </a:t>
            </a:r>
            <a:r>
              <a:rPr b="0" lang="es-CL" sz="2400" spc="-1" strike="noStrike">
                <a:solidFill>
                  <a:srgbClr val="000000"/>
                </a:solidFill>
                <a:latin typeface="Tahoma"/>
              </a:rPr>
              <a:t>Pacífico).</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limas variados: desértico en el norte, mediterráneo en zona central, humedo frío en el sur (bosques siempreverd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ran cantidad de terreno difícil de habitar. Genera presión sobre las mejores áreas.</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centración urbana en la zona central.</a:t>
            </a:r>
            <a:endParaRPr b="0" lang="en-US" sz="2400" spc="-1" strike="noStrike">
              <a:solidFill>
                <a:srgbClr val="000000"/>
              </a:solidFill>
              <a:latin typeface="Times New Roman"/>
            </a:endParaRPr>
          </a:p>
        </p:txBody>
      </p:sp>
      <p:sp>
        <p:nvSpPr>
          <p:cNvPr id="4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l Derecho – Deber</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para los ciudadan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a autoridad en ciertos ca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r para los entes regulados en determinados casos: (manejo de sustancias o desechos peligros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RECHO A LA INFORM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920" y="1676520"/>
            <a:ext cx="8534160" cy="4114800"/>
          </a:xfrm>
          <a:prstGeom prst="rect">
            <a:avLst/>
          </a:prstGeom>
          <a:noFill/>
          <a:ln w="0">
            <a:noFill/>
          </a:ln>
        </p:spPr>
        <p:txBody>
          <a:bodyPr anchor="t">
            <a:normAutofit/>
          </a:bodyPr>
          <a:p>
            <a:pPr marL="3430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vitar las producción de efectos ambientales antes que su reparación:</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mas de calidad y emi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luación de Impacto Ambient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responsabilida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 LA PREVEN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1752480"/>
            <a:ext cx="8382240" cy="4114800"/>
          </a:xfrm>
          <a:prstGeom prst="rect">
            <a:avLst/>
          </a:prstGeom>
          <a:noFill/>
          <a:ln w="0">
            <a:noFill/>
          </a:ln>
        </p:spPr>
        <p:txBody>
          <a:bodyPr anchor="t">
            <a:normAutofit/>
          </a:bodyPr>
          <a:p>
            <a:pPr marL="3430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ualidad en el establecimientos de nuevos estánda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lazos adecuados para tomar medidas de control de contaminación o para la aplicación de nuevos estándare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DEL GRADUALIS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28600" y="1676520"/>
            <a:ext cx="8610480" cy="4114800"/>
          </a:xfrm>
          <a:prstGeom prst="rect">
            <a:avLst/>
          </a:prstGeom>
          <a:noFill/>
          <a:ln w="0">
            <a:noFill/>
          </a:ln>
        </p:spPr>
        <p:txBody>
          <a:bodyPr anchor="t">
            <a:normAutofit/>
          </a:bodyPr>
          <a:p>
            <a:pPr marL="343080" indent="0">
              <a:lnSpc>
                <a:spcPct val="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 consagra expresamente en mensaje, pero es parte de la le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nidad de Gestió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diversos aspectos ambientales de los proyectos de inversión deben analizarse en una sola discusión ambiental.</a:t>
            </a:r>
            <a:endParaRPr b="0" lang="en-US" sz="24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VENTANILLA U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920" y="1752480"/>
            <a:ext cx="8534160" cy="4114800"/>
          </a:xfrm>
          <a:prstGeom prst="rect">
            <a:avLst/>
          </a:prstGeom>
          <a:noFill/>
          <a:ln w="0">
            <a:noFill/>
          </a:ln>
        </p:spPr>
        <p:txBody>
          <a:bodyPr anchor="t">
            <a:normAutofit/>
          </a:bodyPr>
          <a:p>
            <a:pPr marL="34308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ncipio 15 Declaracion de Rí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2400" spc="-1" strike="noStrike">
                <a:solidFill>
                  <a:srgbClr val="000000"/>
                </a:solidFill>
                <a:latin typeface="Tahoma"/>
              </a:rPr>
              <a:t>“</a:t>
            </a:r>
            <a:r>
              <a:rPr b="0" i="1" lang="es-CL" sz="24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r>
              <a:rPr b="0" lang="es-CL" sz="2400" spc="-1" strike="noStrike">
                <a:solidFill>
                  <a:srgbClr val="000000"/>
                </a:solidFill>
                <a:latin typeface="Tahoma"/>
              </a:rPr>
              <a: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AUSENTE LEY 19.3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240" y="1828800"/>
            <a:ext cx="8534520" cy="4114800"/>
          </a:xfrm>
          <a:prstGeom prst="rect">
            <a:avLst/>
          </a:prstGeom>
          <a:noFill/>
          <a:ln w="0">
            <a:noFill/>
          </a:ln>
        </p:spPr>
        <p:txBody>
          <a:bodyPr anchor="t">
            <a:normAutofit/>
          </a:bodyPr>
          <a:p>
            <a:pPr marL="343080" indent="0">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certeza científ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iosegur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ndas de radiodifusión</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INCIPIO PRECAUTORI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1676520"/>
            <a:ext cx="8458200" cy="4114800"/>
          </a:xfrm>
          <a:prstGeom prst="rect">
            <a:avLst/>
          </a:prstGeom>
          <a:noFill/>
          <a:ln w="0">
            <a:noFill/>
          </a:ln>
        </p:spPr>
        <p:txBody>
          <a:bodyPr anchor="t">
            <a:normAutofit fontScale="94000"/>
          </a:bodyPr>
          <a:p>
            <a:pPr marL="322200" indent="0">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 en materia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ponsabilidad del generador de residuos se extiende hasta entregarlos a una entidad autorizada para su adecuada disposició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otros países, ha generado normas muy estrictas en materia de responsabilidad por inadecuada disposición (solidaridad, retroactividad y responsabilidad estric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ratados internacionales en materia de transporte transfronterizo de residuos peligroso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lamento Residuos Peligrosos (Salud), establece obligaciones más detalladas que antes para generador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6984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1676520"/>
            <a:ext cx="8534520" cy="4114800"/>
          </a:xfrm>
          <a:prstGeom prst="rect">
            <a:avLst/>
          </a:prstGeom>
          <a:noFill/>
          <a:ln w="0">
            <a:noFill/>
          </a:ln>
        </p:spPr>
        <p:txBody>
          <a:bodyPr anchor="t">
            <a:normAutofit/>
          </a:bodyPr>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 todos modos, existen obligaciones en materia de residuos no peligrosos (autorización para disponer fuera y dentro de instal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manejo, almacenamiento y disposición de residuos (requieren autorización san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gares de tratamiento y disposición se someten al SEIA.</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DE LA CUNA A LA TUMB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rganizarse en grup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 la luz de los principios e instrumentos discutidos en clases, cada grupo analizará uno de los problemas propuestos, y luego cada grupo presentará al resto del grupo su opinión respecto al tema</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A: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La nueva ley de Bosque nativo contiene un subsidio al pueden postular aquellos que presenten un plan para preservar y mejorar su bosque nativo, el cual será asignado a quienes presenten planes de manejo para tales fines hasta completarse los recursos destinados. </a:t>
            </a:r>
            <a:endParaRPr b="0" lang="en-US" sz="28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240" y="1676520"/>
            <a:ext cx="8534520" cy="4114800"/>
          </a:xfrm>
          <a:prstGeom prst="rect">
            <a:avLst/>
          </a:prstGeom>
          <a:noFill/>
          <a:ln w="0">
            <a:noFill/>
          </a:ln>
        </p:spPr>
        <p:txBody>
          <a:bodyPr anchor="t">
            <a:normAutofit fontScale="96000"/>
          </a:bodyPr>
          <a:p>
            <a:pPr marL="329040" indent="-3290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Economía sustentada esencialmente en el uso y explotación de recursos naturales: </a:t>
            </a:r>
            <a:endParaRPr b="0" lang="en-US" sz="26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sur y parte del sur: Agricultura  (hasta la década de los 80s, para uso consumo interno, a partir de los 80s, esencialmente mercado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sur y sur: Forestal (esencialmente mercado externo) y Ganadería (mercado interno y últimamente externo).</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 B: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800" spc="-1" strike="noStrike">
                <a:solidFill>
                  <a:srgbClr val="000000"/>
                </a:solidFill>
                <a:latin typeface="Tahoma"/>
              </a:rPr>
              <a:t>Grupos C: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2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0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G</a:t>
            </a:r>
            <a:r>
              <a:rPr b="0" lang="es-ES" sz="2800" spc="-1" strike="noStrike">
                <a:solidFill>
                  <a:srgbClr val="000000"/>
                </a:solidFill>
                <a:latin typeface="Tahoma"/>
              </a:rPr>
              <a:t>rupo D:</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Se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10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82880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rupo E: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7430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10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Arial"/>
              </a:rPr>
              <a:t>PROBLEMA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560" y="1676520"/>
            <a:ext cx="838188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Fines de los 80 y a partir de los 9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sarrollar una economía vinculada a servicios (financieros, turístic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al Derecho a emprender (Constitución 198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a (Constitución 1980).</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76520"/>
            <a:ext cx="845820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Chile desde el siglo XIX y luego en el siglo XX existen ciertas normas que tienen incidencia ambiental:</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a tribunales (Riles 1916), Protección Salud, Agricultura, Parques, etc.</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ahoma"/>
              </a:rPr>
              <a:t>Reconocimiento Constitucional (1980):</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recho a vivir en un medio ambiente libre de contamin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curso o acción de protec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Derecho de Propie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imitación al Derecho a desarrollar actividades económ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imeros casos relevantes ( Lago Chungará, Bahía de Chañaral, etc.).</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880" y="1676520"/>
            <a:ext cx="8382240" cy="411480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DERECHO AMBIENTAL EN CHI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BREVE HISTO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1752480"/>
            <a:ext cx="8305920" cy="41148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dictada en 199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rresponde a un acuerdo entre el Gobierno de la </a:t>
            </a:r>
            <a:r>
              <a:rPr b="0" lang="es-CL" sz="2400" spc="-1" strike="noStrike">
                <a:solidFill>
                  <a:srgbClr val="000000"/>
                </a:solidFill>
                <a:latin typeface="Arial"/>
                <a:ea typeface="ＭＳ Ｐゴシック"/>
              </a:rPr>
              <a:t>é</a:t>
            </a:r>
            <a:r>
              <a:rPr b="0" lang="es-CL" sz="2400" spc="-1" strike="noStrike">
                <a:solidFill>
                  <a:srgbClr val="000000"/>
                </a:solidFill>
                <a:latin typeface="Tahoma"/>
                <a:ea typeface="ＭＳ Ｐゴシック"/>
              </a:rPr>
              <a:t>poca</a:t>
            </a:r>
            <a:r>
              <a:rPr b="0" lang="es-CL" sz="2400" spc="-1" strike="noStrike">
                <a:solidFill>
                  <a:srgbClr val="000000"/>
                </a:solidFill>
                <a:latin typeface="Tahoma"/>
              </a:rPr>
              <a:t> y los sectores empresariales (oposición de sectores más ecologis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General (asume que habrán leyes específicas, en materias complementaria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ley en su mensaje establece los principios que la inspiran: No se encuentran en su texto, como parte del articulad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LEY SOBRE BASES GENERALES DEL MEDIO AMB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04560" y="1752480"/>
            <a:ext cx="8458200" cy="41148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Desde sus inicios hubo críticas al diseño institucion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valuación OCDE critica sistema de fiscalización (fines 200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En la campaña presidencial de 2006 casi todos propusieron la creaci</a:t>
            </a:r>
            <a:r>
              <a:rPr b="0" lang="es-CL" sz="2400" spc="-1" strike="noStrike">
                <a:solidFill>
                  <a:srgbClr val="000000"/>
                </a:solidFill>
                <a:latin typeface="Tahoma"/>
                <a:ea typeface="ＭＳ Ｐゴシック"/>
              </a:rPr>
              <a:t>ón de un</a:t>
            </a:r>
            <a:r>
              <a:rPr b="0" lang="es-CL" sz="2400" spc="-1" strike="noStrike">
                <a:solidFill>
                  <a:srgbClr val="000000"/>
                </a:solidFill>
                <a:latin typeface="Tahoma"/>
                <a:ea typeface="Tahoma"/>
              </a:rPr>
              <a:t> ministe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ahoma"/>
              </a:rPr>
              <a:t>Gobierno de Bachelet manda proyectos de ley al Congreso.</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Rectangle 4"/>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Arial"/>
              </a:rPr>
              <a:t>QUINCE AÑOS DESP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Javier</dc:creator>
  <dc:description/>
  <dc:language>en-US</dc:language>
  <cp:lastModifiedBy>Doris Sepulveda</cp:lastModifiedBy>
  <dcterms:modified xsi:type="dcterms:W3CDTF">2011-11-09T01:57:02Z</dcterms:modified>
  <cp:revision>56</cp:revision>
  <dc:subject/>
  <dc:title>PowerPoint Presentation</dc:title>
</cp:coreProperties>
</file>