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83CB6-53CD-48C0-ABCA-8B17D11A5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FBF12-05A8-4052-B52B-EE691DA36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D2344-EBED-4E5C-8A31-09A6986D5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639DA-FBCB-416F-B567-88EEE32E4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C4478-DD13-4D30-B528-D7B3AB11A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9C645-38D5-40DD-9238-6A71C2A9D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AED68-F106-48D4-A396-9B42C4DE7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299EB-3BA9-4B81-8768-56B21843B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957BC-6B60-4D98-899C-88635F696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56470-C284-4174-B8F2-3FAFE1251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69324-B1AD-4D6A-9A10-AB65FB657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7712E-67A1-4D0C-B1BC-D5884EFA5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7E9A-D484-48EC-A2BA-6886369438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8080"/>
                </a:solidFill>
                <a:latin typeface="Tahoma"/>
              </a:rPr>
              <a:t>Derecho Ambiental en Chile: Breve Historia y Principios Rectores</a:t>
            </a:r>
            <a:r>
              <a:rPr b="0" lang="es-CL" sz="4400" spc="-1" strike="noStrike">
                <a:solidFill>
                  <a:srgbClr val="800000"/>
                </a:solidFill>
                <a:latin typeface="Tahoma"/>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Javier Vergara Fisher</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tricio Leyton Florez</a:t>
            </a:r>
            <a:endParaRPr b="0" lang="en-US" sz="28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mestre Primavera 2011</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urso Derech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80880" y="1752480"/>
            <a:ext cx="8305920" cy="411480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Principios inspiradores no cambian.</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Gran acuerdo político destraba reforma.</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Énfasis reforma: </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Institucional (Ministerio; Consejo para la Sustentabilidad, SEIA, SMA).</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SEIA : discusión respecto de lo político y técnico; participación ciudadana.</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Ley fue publicada en enero de 2010:</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Diversas normas: aplicación inmediata; otras que quedan sujetas a nueva institucionalidad y otras a Reglamentos.</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Tribunal Ambiental (nueva ley y suspende SM).</a:t>
            </a:r>
            <a:endParaRPr b="0" lang="en-US" sz="2400" spc="-1" strike="noStrike">
              <a:solidFill>
                <a:srgbClr val="000000"/>
              </a:solidFill>
              <a:latin typeface="Times New Roman"/>
            </a:endParaRPr>
          </a:p>
          <a:p>
            <a:pPr marL="308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68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QUINCE AÑOS DESPU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NUEVA INSTITUCIONAL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4"/>
          <p:cNvSpPr/>
          <p:nvPr/>
        </p:nvSpPr>
        <p:spPr>
          <a:xfrm>
            <a:off x="3027240" y="3274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5"/>
          <p:cNvSpPr/>
          <p:nvPr/>
        </p:nvSpPr>
        <p:spPr>
          <a:xfrm>
            <a:off x="1314720" y="2819520"/>
            <a:ext cx="681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PRINCIPIOS DERECH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880" y="1828800"/>
            <a:ext cx="8382240" cy="411480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t>
            </a:r>
            <a:r>
              <a:rPr b="0" i="1" lang="es-CL" sz="2400" spc="-1" strike="noStrike">
                <a:solidFill>
                  <a:srgbClr val="000000"/>
                </a:solidFill>
                <a:latin typeface="Tahoma"/>
              </a:rPr>
              <a:t>El particular que actualmente contamina o que lo haga en el futuro debe incorporar en sus costos de producción todas las inversiones necesarias para evitar la contaminación</a:t>
            </a:r>
            <a:r>
              <a:rPr b="0" lang="es-CL" sz="2400" spc="-1" strike="noStrike">
                <a:solidFill>
                  <a:srgbClr val="000000"/>
                </a:solidFill>
                <a:latin typeface="Tahoma"/>
              </a:rPr>
              <a:t>” (Mensaje Ley de Bas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 deben desarrollar instrumentos de políticas ambientales tendientes a internalizar estos cost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28240" y="1676520"/>
            <a:ext cx="8458200" cy="4114800"/>
          </a:xfrm>
          <a:prstGeom prst="rect">
            <a:avLst/>
          </a:prstGeom>
          <a:noFill/>
          <a:ln w="0">
            <a:noFill/>
          </a:ln>
        </p:spPr>
        <p:txBody>
          <a:bodyPr anchor="t">
            <a:normAutofit/>
          </a:bodyPr>
          <a:p>
            <a:pPr marL="3430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cepto general del principio es que no pueden existir subsidios o incentivos fiscales para cumplir con la normativa ambiental.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xcepciones al principio aceptadas por la teoría: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tuaciones externalidades positivas.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queñas industrias (habitualmente costos de desarrollo, asimetrías de informació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INSTRUMENTOS DE MERC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rmas de calidad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rmas de emis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rmas de proces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hibiciones</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INSTRUMENTOS DE REGULACION DIRECT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676520"/>
            <a:ext cx="8458200" cy="4114800"/>
          </a:xfrm>
          <a:prstGeom prst="rect">
            <a:avLst/>
          </a:prstGeom>
          <a:noFill/>
          <a:ln w="0">
            <a:noFill/>
          </a:ln>
        </p:spPr>
        <p:txBody>
          <a:bodyPr anchor="t">
            <a:normAutofit/>
          </a:bodyPr>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mpuest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arif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rmisos de emisión transabl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pósitos retornables</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INSTRUMENTOS DE MERC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80880" y="1752480"/>
            <a:ext cx="8305920" cy="4114800"/>
          </a:xfrm>
          <a:prstGeom prst="rect">
            <a:avLst/>
          </a:prstGeom>
          <a:noFill/>
          <a:ln w="0">
            <a:noFill/>
          </a:ln>
        </p:spPr>
        <p:txBody>
          <a:bodyPr anchor="t">
            <a:normAutofit/>
          </a:bodyPr>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ducación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vestigación</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INSTRUMENTOS DE ACEPTABILIDAD SOC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80880" y="1828800"/>
            <a:ext cx="8382240" cy="4114800"/>
          </a:xfrm>
          <a:prstGeom prst="rect">
            <a:avLst/>
          </a:prstGeom>
          <a:noFill/>
          <a:ln w="0">
            <a:noFill/>
          </a:ln>
        </p:spPr>
        <p:txBody>
          <a:bodyPr anchor="t">
            <a:normAutofit/>
          </a:bodyPr>
          <a:p>
            <a:pPr marL="3430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uditorias (vinculados a mercad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cuerdos voluntarios, compromisos voluntarios, autoregulación.</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INSTRUMENTOS VOLUNTARI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04560" y="1752480"/>
            <a:ext cx="8458200" cy="4114800"/>
          </a:xfrm>
          <a:prstGeom prst="rect">
            <a:avLst/>
          </a:prstGeom>
          <a:noFill/>
          <a:ln w="0">
            <a:noFill/>
          </a:ln>
        </p:spPr>
        <p:txBody>
          <a:bodyPr anchor="t">
            <a:normAutofit/>
          </a:bodyPr>
          <a:p>
            <a:pPr marL="343080"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Quien genera daños ambientales debe repararl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iseños especiales de sistemas de responsabilidad  en materia ambiental (en términos generales o para determinadas actividad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Manifestación del principio del que Contamina Pag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DE RESPONSABIL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04560" y="1752480"/>
            <a:ext cx="8381880" cy="4114800"/>
          </a:xfrm>
          <a:prstGeom prst="rect">
            <a:avLst/>
          </a:prstGeom>
          <a:noFill/>
          <a:ln w="0">
            <a:noFill/>
          </a:ln>
        </p:spPr>
        <p:txBody>
          <a:bodyPr anchor="t">
            <a:normAutofit/>
          </a:bodyPr>
          <a:p>
            <a:pPr marL="343080"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personas tienen derecho a participar en el desarrollo de los procesos ambienta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recho – Deber de Informar</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PARTICIPA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04560" y="1752480"/>
            <a:ext cx="8458200" cy="411480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ís de alrededor de 16.000.000 millones de habitantes.</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rga y angosta faja de tierra (fronteras naturales, el desierto de atacama; la Cordillera de los Andes; el Oc</a:t>
            </a:r>
            <a:r>
              <a:rPr b="0" lang="es-CL" sz="2400" spc="-1" strike="noStrike">
                <a:solidFill>
                  <a:srgbClr val="000000"/>
                </a:solidFill>
                <a:latin typeface="Arial"/>
                <a:ea typeface="ＭＳ Ｐゴシック"/>
              </a:rPr>
              <a:t>é</a:t>
            </a:r>
            <a:r>
              <a:rPr b="0" lang="es-CL" sz="2400" spc="-1" strike="noStrike">
                <a:solidFill>
                  <a:srgbClr val="000000"/>
                </a:solidFill>
                <a:latin typeface="Tahoma"/>
                <a:ea typeface="ＭＳ Ｐゴシック"/>
              </a:rPr>
              <a:t>ano </a:t>
            </a:r>
            <a:r>
              <a:rPr b="0" lang="es-CL" sz="2400" spc="-1" strike="noStrike">
                <a:solidFill>
                  <a:srgbClr val="000000"/>
                </a:solidFill>
                <a:latin typeface="Tahoma"/>
              </a:rPr>
              <a:t>Pacífico).</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limas variados: desértico en el norte, mediterráneo en zona central, humedo frío en el sur (bosques siempreverde).</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Gran cantidad de terreno difícil de habitar. Genera presión sobre las mejores áreas.</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centración urbana en la zona central.</a:t>
            </a:r>
            <a:endParaRPr b="0" lang="en-US" sz="2400" spc="-1" strike="noStrike">
              <a:solidFill>
                <a:srgbClr val="000000"/>
              </a:solidFill>
              <a:latin typeface="Times New Roman"/>
            </a:endParaRPr>
          </a:p>
        </p:txBody>
      </p:sp>
      <p:sp>
        <p:nvSpPr>
          <p:cNvPr id="4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H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04560" y="1752480"/>
            <a:ext cx="8458200" cy="4114800"/>
          </a:xfrm>
          <a:prstGeom prst="rect">
            <a:avLst/>
          </a:prstGeom>
          <a:noFill/>
          <a:ln w="0">
            <a:noFill/>
          </a:ln>
        </p:spPr>
        <p:txBody>
          <a:bodyPr anchor="t">
            <a:normAutofit/>
          </a:bodyPr>
          <a:p>
            <a:pPr marL="343080"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El Derecho – Deber</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recho para los ciudadan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er para la autoridad en ciertos cas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er para los entes regulados en determinados casos: (manejo de sustancias o desechos peligros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DERECHO A LA INFORMAC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04920" y="1676520"/>
            <a:ext cx="8534160" cy="4114800"/>
          </a:xfrm>
          <a:prstGeom prst="rect">
            <a:avLst/>
          </a:prstGeom>
          <a:noFill/>
          <a:ln w="0">
            <a:noFill/>
          </a:ln>
        </p:spPr>
        <p:txBody>
          <a:bodyPr anchor="t">
            <a:normAutofit/>
          </a:bodyPr>
          <a:p>
            <a:pPr marL="3430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Evitar las producción de efectos ambientales antes que su reparación:</a:t>
            </a:r>
            <a:endParaRPr b="0" lang="en-US" sz="26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rmas de calidad y emi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Evaluación de Impacto Ambienta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responsabilida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DE LA PREVENC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80880" y="1752480"/>
            <a:ext cx="8382240" cy="4114800"/>
          </a:xfrm>
          <a:prstGeom prst="rect">
            <a:avLst/>
          </a:prstGeom>
          <a:noFill/>
          <a:ln w="0">
            <a:noFill/>
          </a:ln>
        </p:spPr>
        <p:txBody>
          <a:bodyPr anchor="t">
            <a:normAutofit/>
          </a:bodyPr>
          <a:p>
            <a:pPr marL="343080"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radualidad en el establecimientos de nuevos estándar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zos adecuados para tomar medidas de control de contaminación o para la aplicación de nuevos estándares</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DEL GRADUALIS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8600" y="1676520"/>
            <a:ext cx="8610480" cy="4114800"/>
          </a:xfrm>
          <a:prstGeom prst="rect">
            <a:avLst/>
          </a:prstGeom>
          <a:noFill/>
          <a:ln w="0">
            <a:noFill/>
          </a:ln>
        </p:spPr>
        <p:txBody>
          <a:bodyPr anchor="t">
            <a:normAutofit/>
          </a:bodyPr>
          <a:p>
            <a:pPr marL="343080" indent="0">
              <a:lnSpc>
                <a:spcPct val="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 se consagra expresamente en mensaje, pero es parte de la le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idad de Gest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diversos aspectos ambientales de los proyectos de inversión deben analizarse en una sola discusión ambiental.</a:t>
            </a:r>
            <a:endParaRPr b="0" lang="en-US" sz="24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VENTANILLA UN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4920" y="1752480"/>
            <a:ext cx="8534160" cy="4114800"/>
          </a:xfrm>
          <a:prstGeom prst="rect">
            <a:avLst/>
          </a:prstGeom>
          <a:noFill/>
          <a:ln w="0">
            <a:noFill/>
          </a:ln>
        </p:spPr>
        <p:txBody>
          <a:bodyPr anchor="t">
            <a:normAutofit/>
          </a:bodyPr>
          <a:p>
            <a:pPr marL="343080" indent="0">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incipio 15 Declaracion de Rí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r>
              <a:rPr b="0" lang="es-CL" sz="2400" spc="-1" strike="noStrike">
                <a:solidFill>
                  <a:srgbClr val="000000"/>
                </a:solidFill>
                <a:latin typeface="Tahoma"/>
              </a:rPr>
              <a:t>“</a:t>
            </a:r>
            <a:r>
              <a:rPr b="0" i="1" lang="es-CL" sz="2400" spc="-1" strike="noStrike">
                <a:solidFill>
                  <a:srgbClr val="000000"/>
                </a:solidFill>
                <a:latin typeface="Tahoma"/>
              </a:rPr>
              <a:t>Cuando haya peligro de daño grave o irreversible, la falta de certeza científica absoluta no deberá utilizarse como razón para postergar la adopción de medidas eficaces en función de los costos para impedir la degradación del medio ambiente</a:t>
            </a:r>
            <a:r>
              <a:rPr b="0" lang="es-CL" sz="2400" spc="-1" strike="noStrike">
                <a:solidFill>
                  <a:srgbClr val="000000"/>
                </a:solidFill>
                <a:latin typeface="Tahoma"/>
              </a:rPr>
              <a:t>.”</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PRECAUTORI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AUSENTE LEY 19.3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240" y="1828800"/>
            <a:ext cx="8534520" cy="4114800"/>
          </a:xfrm>
          <a:prstGeom prst="rect">
            <a:avLst/>
          </a:prstGeom>
          <a:noFill/>
          <a:ln w="0">
            <a:noFill/>
          </a:ln>
        </p:spPr>
        <p:txBody>
          <a:bodyPr anchor="t">
            <a:normAutofit/>
          </a:bodyPr>
          <a:p>
            <a:pPr marL="343080" indent="0">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certeza científ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iosegur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Ondas de radiodifusión</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No se contempla como principio inspirador en ley Chilena, pero es parte de varios tratados suscritos por Chil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PRECAUTORI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560" y="1676520"/>
            <a:ext cx="8458200" cy="4114800"/>
          </a:xfrm>
          <a:prstGeom prst="rect">
            <a:avLst/>
          </a:prstGeom>
          <a:noFill/>
          <a:ln w="0">
            <a:noFill/>
          </a:ln>
        </p:spPr>
        <p:txBody>
          <a:bodyPr anchor="t">
            <a:normAutofit fontScale="94000"/>
          </a:bodyPr>
          <a:p>
            <a:pPr marL="322200" indent="0">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lica en materia de residuos peligroso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ponsabilidad del generador de residuos se extiende hasta entregarlos a una entidad autorizada para su adecuada disposición.</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otros países, ha generado normas muy estrictas en materia de responsabilidad por inadecuada disposición (solidaridad, retroactividad y responsabilidad estrict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ratados internacionales en materia de transporte transfronterizo de residuos peligroso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glamento Residuos Peligrosos (Salud), establece obligaciones más detalladas que antes para generador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22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6984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DE LA CUNA A LA TUMB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240" y="1676520"/>
            <a:ext cx="8534520" cy="4114800"/>
          </a:xfrm>
          <a:prstGeom prst="rect">
            <a:avLst/>
          </a:prstGeom>
          <a:noFill/>
          <a:ln w="0">
            <a:noFill/>
          </a:ln>
        </p:spPr>
        <p:txBody>
          <a:bodyPr anchor="t">
            <a:normAutofit/>
          </a:bodyPr>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 todos modos, existen obligaciones en materia de residuos no peligrosos (autorización para disponer fuera y dentro de instal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gares de manejo, almacenamiento y disposición de residuos (requieren autorización sanita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gares de tratamiento y disposición se someten al SEIA.</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DE LA CUNA A LA TUMB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82880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rganizarse en grupo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 la luz de los principios e instrumentos discutidos en clases, cada grupo analizará uno de los problemas propuestos, y luego cada grupo presentará al resto del grupo su opinión respecto al tema</a:t>
            </a: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82880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Grupo A: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La nueva ley de Bosque nativo contiene un subsidio al pueden postular aquellos que presenten un plan para preservar y mejorar su bosque nativo, el cual será asignado a quienes presenten planes de manejo para tales fines hasta completarse los recursos destinados. </a:t>
            </a:r>
            <a:endParaRPr b="0" lang="en-US" sz="28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0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240" y="1676520"/>
            <a:ext cx="8534520" cy="4114800"/>
          </a:xfrm>
          <a:prstGeom prst="rect">
            <a:avLst/>
          </a:prstGeom>
          <a:noFill/>
          <a:ln w="0">
            <a:noFill/>
          </a:ln>
        </p:spPr>
        <p:txBody>
          <a:bodyPr anchor="t">
            <a:normAutofit fontScale="96000"/>
          </a:bodyPr>
          <a:p>
            <a:pPr marL="329040" indent="-32904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Economía sustentada esencialmente en el uso y explotación de recursos naturales: </a:t>
            </a:r>
            <a:endParaRPr b="0" lang="en-US" sz="26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rte y algo en zona central: Minería (fines siglo XIX: salitre, Siglo XX cobr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centro-sur y parte del sur: Agricultura  (hasta la década de los 80s, para uso consumo interno, a partir de los 80s, esencialmente mercado extern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sur y sur: Forestal (esencialmente mercado externo) y Ganadería (mercado interno y últimamente extern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odo el país: pesca.</a:t>
            </a:r>
            <a:endParaRPr b="0"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H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82880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800" spc="-1" strike="noStrike">
                <a:solidFill>
                  <a:srgbClr val="000000"/>
                </a:solidFill>
                <a:latin typeface="Tahoma"/>
              </a:rPr>
              <a:t>Grupo B: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Se están estudiando nuevas normas de emisión para aquellas empresas que emiten Arsénico al ambiente. Dado los altos costo de control, se está analizando la introducción de incentivos tributarios a quienes cumplan las normas con un año de anticipación a su vigencia. </a:t>
            </a: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0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828800"/>
            <a:ext cx="7772400" cy="4114800"/>
          </a:xfrm>
          <a:prstGeom prst="rect">
            <a:avLst/>
          </a:prstGeom>
          <a:noFill/>
          <a:ln w="0">
            <a:noFill/>
          </a:ln>
        </p:spPr>
        <p:txBody>
          <a:bodyPr anchor="t">
            <a:normAutofit/>
          </a:bodyPr>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800" spc="-1" strike="noStrike">
                <a:solidFill>
                  <a:srgbClr val="000000"/>
                </a:solidFill>
                <a:latin typeface="Tahoma"/>
              </a:rPr>
              <a:t>Grupos C: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Se ha definido que el sector termoeléctrico tiene altos niveles de emisión de SO2. Se ha propuesto tomar medidas inmediatas exigiendo en el plazo de seis meses la reducción de las emisiones de esas instalaciones en un 50%.</a:t>
            </a: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0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828800"/>
            <a:ext cx="7772400" cy="411480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ＭＳ Ｐゴシック"/>
              </a:rPr>
              <a:t>-G</a:t>
            </a:r>
            <a:r>
              <a:rPr b="0" lang="es-ES" sz="2800" spc="-1" strike="noStrike">
                <a:solidFill>
                  <a:srgbClr val="000000"/>
                </a:solidFill>
                <a:latin typeface="Tahoma"/>
              </a:rPr>
              <a:t>rupo D:</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Se está produciendo inquietud sobre la líneas de alta tensión, en cuanto a los efectos en salud que puede tener para quienes viven en sus cercanías. No existe una norma sobre el particular, pero se decide establecer una norma de emisión para esas instalaciones.</a:t>
            </a:r>
            <a:endParaRPr b="0" lang="en-US" sz="2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1" marL="743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10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1828800"/>
            <a:ext cx="7772400" cy="4114800"/>
          </a:xfrm>
          <a:prstGeom prst="rect">
            <a:avLst/>
          </a:prstGeom>
          <a:noFill/>
          <a:ln w="0">
            <a:noFill/>
          </a:ln>
        </p:spPr>
        <p:txBody>
          <a:bodyPr anchor="t">
            <a:normAutofit/>
          </a:bodyPr>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Grupo E: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Estamos en un pequeño valle con pocas casas, pero donde las emisiones de las chimeneas de las casas están causando un problema de aumento de concentraciones ambientales. Señale formas de regular ese problema.</a:t>
            </a:r>
            <a:endParaRPr b="0" lang="en-US" sz="2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74304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sp>
        <p:nvSpPr>
          <p:cNvPr id="10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04560" y="1676520"/>
            <a:ext cx="8381880" cy="4114800"/>
          </a:xfrm>
          <a:prstGeom prst="rect">
            <a:avLst/>
          </a:prstGeom>
          <a:noFill/>
          <a:ln w="0">
            <a:noFill/>
          </a:ln>
        </p:spPr>
        <p:txBody>
          <a:bodyPr anchor="t">
            <a:normAutofit/>
          </a:bodyPr>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Fines de los 80 y a partir de los 90:</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inserción internacional de la economí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tento de desarrollar una economía vinculada a servicios (financieros, turísticos,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olidación de un sistema jurídico de protección al Derecho de Propiedad y al Derecho a emprender (Constitución 198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 pesar de temprano reconocimiento de ciertos derechos en materia ambiental, es un proceso de introducción más paulatino en el ámbito de la gestión pública y privada (Constitución 1980).</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H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560" y="1676520"/>
            <a:ext cx="8458200" cy="4114800"/>
          </a:xfrm>
          <a:prstGeom prst="rect">
            <a:avLst/>
          </a:prstGeom>
          <a:noFill/>
          <a:ln w="0">
            <a:noFill/>
          </a:ln>
        </p:spPr>
        <p:txBody>
          <a:bodyPr anchor="t">
            <a:normAutofit/>
          </a:bodyPr>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Chile desde el siglo XIX y luego en el siglo XX existen ciertas normas que tienen incidencia ambiental:</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digo de Civil (Código de Bello): Acciones posesorías y normas sobre daño contingente en materia de responsabilidad (poca o ninguna aplicación en materia ambient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gislación “sectorial”: Infinidad de normas de relevancia ambiental entregan competencia a diversas entidades e incluso a tribunales (Riles 1916), Protección Salud, Agricultura, Parques, etc.</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DERECHO AMBIENTAL EN CHI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BREVE HISTO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1676520"/>
            <a:ext cx="8382240" cy="4114800"/>
          </a:xfrm>
          <a:prstGeom prst="rect">
            <a:avLst/>
          </a:prstGeom>
          <a:noFill/>
          <a:ln w="0">
            <a:noFill/>
          </a:ln>
        </p:spPr>
        <p:txBody>
          <a:bodyPr anchor="t">
            <a:normAutofit/>
          </a:bodyPr>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Reconocimiento Constitucional (1980):</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recho a vivir en un medio ambiente libre de contamin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curso o acción de protec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imitación Derecho de Propie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imitación al Derecho a desarrollar actividades económ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imeros casos relevantes ( Lago Chungará, Bahía de Chañaral, etc.).</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DERECHO AMBIENTAL EN CHI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BREVE HISTO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0880" y="1676520"/>
            <a:ext cx="8382240" cy="411480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Década del 90: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blemas de contaminación en la Región Metropolitana, y otr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flictos sociales en materias de rellenos sanitari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ecesidad de inserción internacional (regulaciones mímimas de emisiones en el sector miner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19.300 sobre Bases Generales del Medio Ambient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DERECHO AMBIENTAL EN CHI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BREVE HISTO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19.300 dictada en 1994.</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rresponde a un acuerdo entre el Gobierno de la </a:t>
            </a:r>
            <a:r>
              <a:rPr b="0" lang="es-CL" sz="2400" spc="-1" strike="noStrike">
                <a:solidFill>
                  <a:srgbClr val="000000"/>
                </a:solidFill>
                <a:latin typeface="Arial"/>
                <a:ea typeface="ＭＳ Ｐゴシック"/>
              </a:rPr>
              <a:t>é</a:t>
            </a:r>
            <a:r>
              <a:rPr b="0" lang="es-CL" sz="2400" spc="-1" strike="noStrike">
                <a:solidFill>
                  <a:srgbClr val="000000"/>
                </a:solidFill>
                <a:latin typeface="Tahoma"/>
                <a:ea typeface="ＭＳ Ｐゴシック"/>
              </a:rPr>
              <a:t>poca</a:t>
            </a:r>
            <a:r>
              <a:rPr b="0" lang="es-CL" sz="2400" spc="-1" strike="noStrike">
                <a:solidFill>
                  <a:srgbClr val="000000"/>
                </a:solidFill>
                <a:latin typeface="Tahoma"/>
              </a:rPr>
              <a:t> y los sectores empresariales (oposición de sectores más ecologist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General (asume que habrán leyes específicas, en materias complementaria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ley en su mensaje establece los principios que la inspiran: No se encuentran en su texto, como parte del articulad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LEY SOBRE BASES GENERALES DEL MEDIO 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04560" y="1752480"/>
            <a:ext cx="8458200" cy="411480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Desde sus inicios hubo críticas al diseño institucion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Evaluación OCDE critica sistema de fiscalización (fines 200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En la campaña presidencial de 2006 casi todos propusieron la creaci</a:t>
            </a:r>
            <a:r>
              <a:rPr b="0" lang="es-CL" sz="2400" spc="-1" strike="noStrike">
                <a:solidFill>
                  <a:srgbClr val="000000"/>
                </a:solidFill>
                <a:latin typeface="Tahoma"/>
                <a:ea typeface="ＭＳ Ｐゴシック"/>
              </a:rPr>
              <a:t>ón de un</a:t>
            </a:r>
            <a:r>
              <a:rPr b="0" lang="es-CL" sz="2400" spc="-1" strike="noStrike">
                <a:solidFill>
                  <a:srgbClr val="000000"/>
                </a:solidFill>
                <a:latin typeface="Tahoma"/>
                <a:ea typeface="Tahoma"/>
              </a:rPr>
              <a:t> ministeri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Gobierno de Bachelet manda proyectos de ley al Congreso.</a:t>
            </a: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QUINCE AÑOS DESP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Javier</dc:creator>
  <dc:description/>
  <dc:language>en-US</dc:language>
  <cp:lastModifiedBy>Doris Sepulveda</cp:lastModifiedBy>
  <dcterms:modified xsi:type="dcterms:W3CDTF">2011-11-09T01:57:02Z</dcterms:modified>
  <cp:revision>56</cp:revision>
  <dc:subject/>
  <dc:title>PowerPoint Presentation</dc:title>
</cp:coreProperties>
</file>