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9AB3-8FC1-4D85-AC04-3C6010259F2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73EE-301C-4ABB-8957-6EE664B10DE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999AF-610F-4680-AAA1-1C82ACADA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C0E79-6AEE-492F-B96B-9D5346464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71848-EEB2-48F3-B977-529EE30BD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47A9B-AB3E-4355-A334-84643DE23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4C362-7E62-4E48-8DB3-D61C8691E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4ED3A-92C3-4B58-AA55-330AD45F7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78444-311E-4620-A78A-1DA8712B1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A6B00-10C2-4A7C-9876-EC1CB8B5C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08BE8-6FE8-4140-B784-ED38FF631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FF842-622C-4E47-B6FE-0FB3FDE8F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EB49F-030E-4E3D-90B8-24F23439F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B1909-7A5D-40DC-BD3B-374ACC60A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83C47-5F01-4236-BDFB-83553917A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8E45E-3C34-4A72-8048-823E192F1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FA4E9-BF21-4E02-B0E2-1197DA8CC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3E6753-1472-4BDD-8784-4573A3C23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B98FC-E308-44CB-A56A-793B3FE66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0D999-5AB9-420F-A870-F93478012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2790E-3E6F-486C-B1ED-0DA520275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FC5AD-44EB-401F-BE60-3DA694238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A1A21-C8AF-4A60-8EEA-AFF637C58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B2CB3-ECA2-4005-94FC-479B5394B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B1207-5180-4E7E-B61B-AA44B2165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D9DD8-661A-4947-96FB-C12500839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4A36-FBDB-4C3B-971E-87F7B5E20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FFD6-0E8E-4871-BFA4-9D7966FE689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osé Luis Cárdenas T.</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ase 20: 12 de enero de 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en torno de la dignidad que singulariza a todo sujeto de la especie humana, se articula el sistema constitucional chileno, siendo menester poner de relieve que si la Carta Política asegura a todas las personas los derechos fundamentales, lo hace en el entendido que preexisten a ella”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amplia mayoría de la doctrina nacional y extranjera reconoce que los derechos sociales, llamados también </a:t>
            </a:r>
            <a:r>
              <a:rPr b="0" lang="es-ES" sz="2000" spc="-1" strike="noStrike" u="sng">
                <a:solidFill>
                  <a:srgbClr val="000000"/>
                </a:solidFill>
                <a:uFillTx/>
                <a:latin typeface="Arial"/>
              </a:rPr>
              <a:t>derechos de prestación o de la segunda generación</a:t>
            </a:r>
            <a:r>
              <a:rPr b="0" lang="es-ES" sz="2000" spc="-1" strike="noStrike">
                <a:solidFill>
                  <a:srgbClr val="000000"/>
                </a:solidFill>
                <a:latin typeface="Arial"/>
              </a:rPr>
              <a:t>, son tales y no simples declamaciones o meras expectativas, cuya materialización efectiva quede suspendida hasta que las disponibilidades presupuestarias del Estado puedan llevarlos a la práctica. Acertadamente, se ha escrito (Francisco J. Laposta: “Los Derechos Sociales y su Protección Jurídica. Introducción al Problema”, en Jerónimo Betegón </a:t>
            </a:r>
            <a:r>
              <a:rPr b="1" lang="es-ES" sz="2000" spc="-1" strike="noStrike">
                <a:solidFill>
                  <a:srgbClr val="000000"/>
                </a:solidFill>
                <a:latin typeface="Arial"/>
              </a:rPr>
              <a:t>et. al, </a:t>
            </a:r>
            <a:r>
              <a:rPr b="0" lang="es-ES" sz="2000" spc="-1" strike="noStrike">
                <a:solidFill>
                  <a:srgbClr val="000000"/>
                </a:solidFill>
                <a:latin typeface="Arial"/>
              </a:rPr>
              <a:t>(coordinadores): </a:t>
            </a:r>
            <a:r>
              <a:rPr b="1" lang="es-ES" sz="2000" spc="-1" strike="noStrike">
                <a:solidFill>
                  <a:srgbClr val="000000"/>
                </a:solidFill>
                <a:latin typeface="Arial"/>
              </a:rPr>
              <a:t>Constitución y Derechos Fundamentales, </a:t>
            </a:r>
            <a:r>
              <a:rPr b="0" lang="es-ES" sz="2000" spc="-1" strike="noStrike">
                <a:solidFill>
                  <a:srgbClr val="000000"/>
                </a:solidFill>
                <a:latin typeface="Arial"/>
              </a:rPr>
              <a:t>Madrid, Centro de Estudios Políticos y Constitucionales (2004) pp. 299 y 30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el derecho a la protección de la salud es de índole social, </a:t>
            </a:r>
            <a:r>
              <a:rPr b="0" lang="en-US" sz="1900" spc="-1" strike="noStrike" u="sng">
                <a:solidFill>
                  <a:srgbClr val="000000"/>
                </a:solidFill>
                <a:uFillTx/>
                <a:latin typeface="Arial"/>
              </a:rPr>
              <a:t>involucrando conductas activas de los órganos estatales y de los particulares para materializarlo en la práctica</a:t>
            </a:r>
            <a:r>
              <a:rPr b="0" lang="en-US" sz="1900" spc="-1" strike="noStrike">
                <a:solidFill>
                  <a:srgbClr val="000000"/>
                </a:solidFill>
                <a:latin typeface="Arial"/>
              </a:rPr>
              <a:t>, habida consideración que la satisfacción de tal exigencia representa un rasgo distintivo de la legitimidad sustantiva del Estado Social en la democracia constitucional contemporánea”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del mismo modo, esta Magistratura no puede dejar de enfatizar que el </a:t>
            </a:r>
            <a:r>
              <a:rPr b="0" lang="en-US" sz="1900" spc="-1" strike="noStrike" u="sng">
                <a:solidFill>
                  <a:srgbClr val="000000"/>
                </a:solidFill>
                <a:uFillTx/>
                <a:latin typeface="Arial"/>
              </a:rPr>
              <a:t>derecho a la protección de la salud, en cuanto derecho social en los términos antes explicados, se halla sustancialmente ligado a otros atributos esenciales</a:t>
            </a:r>
            <a:r>
              <a:rPr b="0" lang="en-US" sz="1900" spc="-1" strike="noStrike">
                <a:solidFill>
                  <a:srgbClr val="000000"/>
                </a:solidFill>
                <a:latin typeface="Arial"/>
              </a:rPr>
              <a:t> asegurados en nuestro Código Político, v. gr., el </a:t>
            </a:r>
            <a:r>
              <a:rPr b="0" lang="en-US" sz="1900" spc="-1" strike="noStrike" u="sng">
                <a:solidFill>
                  <a:srgbClr val="000000"/>
                </a:solidFill>
                <a:uFillTx/>
                <a:latin typeface="Arial"/>
              </a:rPr>
              <a:t>derecho a la vida y a la integridad tanto física como psíquica</a:t>
            </a:r>
            <a:r>
              <a:rPr b="0" lang="en-US" sz="1900" spc="-1" strike="noStrike">
                <a:solidFill>
                  <a:srgbClr val="000000"/>
                </a:solidFill>
                <a:latin typeface="Arial"/>
              </a:rPr>
              <a:t>, todos los cuales deben ser tutelados y promovidos para infundir al ordenamiento la legitimidad ya aludida”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l deber de los </a:t>
            </a:r>
            <a:r>
              <a:rPr b="0" lang="es-ES" sz="2000" spc="-1" strike="noStrike" u="sng">
                <a:solidFill>
                  <a:srgbClr val="000000"/>
                </a:solidFill>
                <a:uFillTx/>
                <a:latin typeface="Arial"/>
              </a:rPr>
              <a:t>particulares y de las instituciones privadas de respetar y promover el ejercicio de los derechos consustanciales a la dignidad de la persona humana en cuanto a su existencia y exigibilidad</a:t>
            </a:r>
            <a:r>
              <a:rPr b="0" lang="es-ES" sz="2000" spc="-1" strike="noStrike">
                <a:solidFill>
                  <a:srgbClr val="000000"/>
                </a:solidFill>
                <a:latin typeface="Arial"/>
              </a:rPr>
              <a:t>, se torna patente respecto de aquellos sujetos a los cuales la Constitución, </a:t>
            </a:r>
            <a:r>
              <a:rPr b="0" lang="es-ES" sz="2000" spc="-1" strike="noStrike" u="sng">
                <a:solidFill>
                  <a:srgbClr val="000000"/>
                </a:solidFill>
                <a:uFillTx/>
                <a:latin typeface="Arial"/>
              </a:rPr>
              <a:t>como manifestación del principio de subsidiariedad</a:t>
            </a:r>
            <a:r>
              <a:rPr b="0" lang="es-ES" sz="2000" spc="-1" strike="noStrike">
                <a:solidFill>
                  <a:srgbClr val="000000"/>
                </a:solidFill>
                <a:latin typeface="Arial"/>
              </a:rPr>
              <a:t>, les ha reconocido y asegurado la facultad de participar en el proceso que infunde eficacia a los derechos que ella garantiza. Tal es, exactamente, lo que sucede con las Instituciones de Salud Previsional, en relación con el derecho de sus afiliados a gozar de las acciones destinadas a la protección de la salud, consagrado en el artículo 19, Nº 9, de la Constitu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Que, aplicando dicho criterio de hermenéutica constitucional y siendo la Carta Fundamental un </a:t>
            </a:r>
            <a:r>
              <a:rPr b="0" lang="en-US" sz="1800" spc="-1" strike="noStrike" u="sng">
                <a:solidFill>
                  <a:srgbClr val="000000"/>
                </a:solidFill>
                <a:uFillTx/>
                <a:latin typeface="Arial"/>
              </a:rPr>
              <a:t>sistema orgánico y coherente de valores, principios y normas, todos los cuales guardan entre sí correspondencia y armonía</a:t>
            </a:r>
            <a:r>
              <a:rPr b="0" lang="en-US" sz="1800" spc="-1" strike="noStrike">
                <a:solidFill>
                  <a:srgbClr val="000000"/>
                </a:solidFill>
                <a:latin typeface="Arial"/>
              </a:rPr>
              <a:t>, excluyendo cualquiera interpretación que anule o prive de eficacia a algún precepto de ella, </a:t>
            </a:r>
            <a:r>
              <a:rPr b="0" lang="en-US" sz="1800" spc="-1" strike="noStrike" u="sng">
                <a:solidFill>
                  <a:srgbClr val="000000"/>
                </a:solidFill>
                <a:uFillTx/>
                <a:latin typeface="Arial"/>
              </a:rPr>
              <a:t>cabe insistir en que no sólo los órganos del Estado deben respetar y promover los derechos consustanciales a la dignidad de la persona humana, sino que esa obligación recae también en los particulares, aunque sea subsidiariamente</a:t>
            </a:r>
            <a:r>
              <a:rPr b="0" lang="en-US" sz="1800" spc="-1" strike="noStrike">
                <a:solidFill>
                  <a:srgbClr val="000000"/>
                </a:solidFill>
                <a:latin typeface="Arial"/>
              </a:rPr>
              <a:t>, puesto que el Código Supremo asegura la intangibilidad de tales atributos en toda circunstancia, cualesquiera sean los sujetos que se hallen en la necesidad de infundir vigencia efectiva a lo proclamado en sus precept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05600" indent="-2714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 las instituciones aludidas tienen también asegurados sus derechos en la Carta Política, </a:t>
            </a:r>
            <a:r>
              <a:rPr b="0" lang="en-US" sz="1900" spc="-1" strike="noStrike" u="sng">
                <a:solidFill>
                  <a:srgbClr val="000000"/>
                </a:solidFill>
                <a:uFillTx/>
                <a:latin typeface="Arial"/>
              </a:rPr>
              <a:t>pero con idéntica certeza, ha de afirmarse que ellos se encuentran sometidos a los deberes correlativos</a:t>
            </a:r>
            <a:r>
              <a:rPr b="0" lang="en-US" sz="1900" spc="-1" strike="noStrike">
                <a:solidFill>
                  <a:srgbClr val="000000"/>
                </a:solidFill>
                <a:latin typeface="Arial"/>
              </a:rPr>
              <a:t>, de los cuales resulta menester realzar aquí su contribución al bien común, haciendo cuanto esté a su alcance, dentro del ordenamiento jurídico, </a:t>
            </a:r>
            <a:r>
              <a:rPr b="0" lang="en-US" sz="1900" spc="-1" strike="noStrike" u="sng">
                <a:solidFill>
                  <a:srgbClr val="000000"/>
                </a:solidFill>
                <a:uFillTx/>
                <a:latin typeface="Arial"/>
              </a:rPr>
              <a:t>por materializar el goce del derecho a la protección de la salud</a:t>
            </a:r>
            <a:r>
              <a:rPr b="0" lang="en-US" sz="1900" spc="-1" strike="noStrike">
                <a:solidFill>
                  <a:srgbClr val="000000"/>
                </a:solidFill>
                <a:latin typeface="Arial"/>
              </a:rPr>
              <a:t>. Consiguientemente, el desarrollo de sus </a:t>
            </a:r>
            <a:r>
              <a:rPr b="0" lang="en-US" sz="1900" spc="-1" strike="noStrike" u="sng">
                <a:solidFill>
                  <a:srgbClr val="000000"/>
                </a:solidFill>
                <a:uFillTx/>
                <a:latin typeface="Arial"/>
              </a:rPr>
              <a:t>actividades empresariales y el ejercicio del dominio sobre sus bienes, encuentran límites y obligaciones legítimas, impuestos por la ley en cumplimiento de lo previsto en la Carta Política a propósito de las exigencias derivadas de la función social de la propiedad</a:t>
            </a:r>
            <a:r>
              <a:rPr b="0" lang="en-US" sz="1900" spc="-1" strike="noStrike">
                <a:solidFill>
                  <a:srgbClr val="000000"/>
                </a:solidFill>
                <a:latin typeface="Arial"/>
              </a:rPr>
              <a:t>. Precisamente, entre tales delimitaciones aparece, al tenor del artículo 19, Nº 24, inciso segundo, de la Constitución, cuanto exija la salubridad pública, es decir, lo que sea bueno para la salud de sus habitante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Que, como consecuencia de lo afirmado, cabe concluir que las normas que regulan el contrato de salud, sean legales o administrativas, </a:t>
            </a:r>
            <a:r>
              <a:rPr b="0" lang="es-ES" sz="1900" spc="-1" strike="noStrike" u="sng">
                <a:solidFill>
                  <a:srgbClr val="000000"/>
                </a:solidFill>
                <a:uFillTx/>
                <a:latin typeface="Arial"/>
              </a:rPr>
              <a:t>deben ser interpretadas y aplicadas en términos de maximizar el disfrute real y pleno de los derechos que son consustanciales a la dignidad humana</a:t>
            </a:r>
            <a:r>
              <a:rPr b="0" lang="es-ES" sz="1900" spc="-1" strike="noStrike">
                <a:solidFill>
                  <a:srgbClr val="000000"/>
                </a:solidFill>
                <a:latin typeface="Arial"/>
              </a:rPr>
              <a:t>, entre ellos, el derecho social relativo a la protección de la salud, en los términos asegurados a todas las personas en el artículo 19, Nº 9, de la Constitución, precepto que se erige en base constitucional y de orden público que informa, con calidad de ineludible e inafectable, toda convención de esa índol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el deber de los particulares de respetar y promover los derechos inherentes a la dignidad de la persona persiste, inalterado, en las relaciones convencionales entre privados, cualquiera sea su naturaleza. Sostener lo contrario implicaría admitir la posibilidad de que, invocando la autonomía de la voluntad, tales derechos y, a su vez, la dignidad de la persona, pudieran ser menoscabados o lesionados en su esencia, interpretación que, a la luz de lo ya explicado, se torna constitucionalmente insostenibl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Que, estando basada la estructura de la tabla de factores en criterios objetivos y de común o general vigencia, </a:t>
            </a:r>
            <a:r>
              <a:rPr b="1" lang="es-ES" sz="1900" spc="-1" strike="noStrike" u="sng">
                <a:solidFill>
                  <a:srgbClr val="000000"/>
                </a:solidFill>
                <a:uFillTx/>
                <a:latin typeface="Arial"/>
              </a:rPr>
              <a:t>la diferencia que ella importa en sí, por los rangos de edad que establece, no puede ser calificada por esta Magistratura como carente de razonabilidad, infundada o arbitraria</a:t>
            </a:r>
            <a:r>
              <a:rPr b="0" lang="es-ES" sz="1900" spc="-1" strike="noStrike">
                <a:solidFill>
                  <a:srgbClr val="000000"/>
                </a:solidFill>
                <a:latin typeface="Arial"/>
              </a:rPr>
              <a:t>. En esa medida, la alegación de la requirente dirigida en contra del precepto legal impugnado en cuanto, en el caso </a:t>
            </a:r>
            <a:r>
              <a:rPr b="0" i="1" lang="es-ES" sz="1900" spc="-1" strike="noStrike">
                <a:solidFill>
                  <a:srgbClr val="000000"/>
                </a:solidFill>
                <a:latin typeface="Arial"/>
              </a:rPr>
              <a:t>sub lite</a:t>
            </a:r>
            <a:r>
              <a:rPr b="0" lang="es-ES" sz="1900" spc="-1" strike="noStrike">
                <a:solidFill>
                  <a:srgbClr val="000000"/>
                </a:solidFill>
                <a:latin typeface="Arial"/>
              </a:rPr>
              <a:t>, autoriza a su Institución de Salud Provisional para aplicar la tabla de factores, a los efectos de determinar el valor de su plan de salud, </a:t>
            </a:r>
            <a:r>
              <a:rPr b="1" lang="es-ES" sz="1900" spc="-1" strike="noStrike" u="sng">
                <a:solidFill>
                  <a:srgbClr val="000000"/>
                </a:solidFill>
                <a:uFillTx/>
                <a:latin typeface="Arial"/>
              </a:rPr>
              <a:t>debe ser rechazada y así será declarado</a:t>
            </a:r>
            <a:r>
              <a:rPr b="0" lang="es-E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querimientos de inaplicabilidad art. 38 ter</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tencias roles 976, 1218, 1273 y 1287.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a:t>
            </a:r>
            <a:endParaRPr b="0" lang="en-US" sz="24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Que, consiguientemente, no cabe sino concluir que toda facultad que por ley se otorgue a las Isapres de fijar libre o discrecionalmente un factor para incorporarlo a dichas contrataciones debe suponerse siempre limitada por los valores, principios y disposiciones constitucionales, deducción lógica que, si fuera desconocida o ignorada, sería equivalente a quebrantar el valor de la supremacía que singulariza a la Constitución;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2" name="PlaceHolder 2"/>
          <p:cNvSpPr>
            <a:spLocks noGrp="1"/>
          </p:cNvSpPr>
          <p:nvPr>
            <p:ph/>
          </p:nvPr>
        </p:nvSpPr>
        <p:spPr>
          <a:xfrm>
            <a:off x="1523880" y="1676160"/>
            <a:ext cx="701064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a:t>
            </a:r>
            <a:endParaRPr b="0" lang="en-US" sz="24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t>
            </a:r>
            <a:r>
              <a:rPr b="0" lang="es-ES" sz="2300" spc="-1" strike="noStrike">
                <a:solidFill>
                  <a:srgbClr val="000000"/>
                </a:solidFill>
                <a:latin typeface="Arial"/>
              </a:rPr>
              <a:t>Que el examen de constitucionalidad de la atribución que el artículo 38 ter, en relación con el artículo 2º, ambos de la misma Ley Nº 18.933, otorgan a la Isapre requerida para establecer, libremente, los factores de la tabla aplicable a la requirente, </a:t>
            </a:r>
            <a:r>
              <a:rPr b="0" lang="es-ES" sz="2300" spc="-1" strike="noStrike" u="sng">
                <a:solidFill>
                  <a:srgbClr val="000000"/>
                </a:solidFill>
                <a:uFillTx/>
                <a:latin typeface="Arial"/>
              </a:rPr>
              <a:t>debe constatar si se respetan las exigencias de orden público contenidas en el artículo 19, Nº 9, del Código Político, pues en el evento contrario cabe pronunciar su inaplicabilidad para el caso concreto y singular de autos</a:t>
            </a:r>
            <a:r>
              <a:rPr b="0" lang="es-ES" sz="2300" spc="-1" strike="noStrike">
                <a:solidFill>
                  <a:srgbClr val="000000"/>
                </a:solidFill>
                <a:latin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Que la evolución de los factores de edad y sexo en el ciclo vital de la requirente, consultada en la tabla incorporada a su contrato de salud representa una diferencia que, </a:t>
            </a:r>
            <a:r>
              <a:rPr b="0" lang="es-ES" sz="1800" spc="-1" strike="noStrike" u="sng">
                <a:solidFill>
                  <a:srgbClr val="000000"/>
                </a:solidFill>
                <a:uFillTx/>
                <a:latin typeface="Arial"/>
              </a:rPr>
              <a:t>si bien está justificada en cuanto a su existencia en condiciones objetivas y generales de riesgo, no lo está en lo relativo a su magnitud</a:t>
            </a:r>
            <a:r>
              <a:rPr b="0" lang="es-ES" sz="1800" spc="-1" strike="noStrike">
                <a:solidFill>
                  <a:srgbClr val="000000"/>
                </a:solidFill>
                <a:latin typeface="Arial"/>
              </a:rPr>
              <a:t>, la que oscila desde el factor 1,00 al factor 4,00, facultando así a la Isapre para cuadruplicar el valor del plan de salud pertin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el caso concreto y singular </a:t>
            </a:r>
            <a:r>
              <a:rPr b="0" i="1" lang="es-ES" sz="2000" spc="-1" strike="noStrike">
                <a:solidFill>
                  <a:srgbClr val="000000"/>
                </a:solidFill>
                <a:latin typeface="Arial"/>
              </a:rPr>
              <a:t>sub lite, </a:t>
            </a:r>
            <a:r>
              <a:rPr b="0" lang="es-ES" sz="2000" spc="-1" strike="noStrike" u="sng">
                <a:solidFill>
                  <a:srgbClr val="000000"/>
                </a:solidFill>
                <a:uFillTx/>
                <a:latin typeface="Arial"/>
              </a:rPr>
              <a:t>al no estar justificada la magnitud de la diferencia resultante de la aplicación de los factores asignados a la tabla, incorporada al contrato de salud de la requirente de autos, en función del rol que han de servir las Instituciones de Salud Previsional, debe concluirse que se trata de una facultad cuyo ejercicio permite incurrir en discriminación infundada o distinción carente de justificación razonable y, en esa medida, arbitraria</a:t>
            </a:r>
            <a:r>
              <a:rPr b="0" lang="es-ES" sz="2000" spc="-1" strike="noStrike">
                <a:solidFill>
                  <a:srgbClr val="000000"/>
                </a:solidFill>
                <a:latin typeface="Arial"/>
              </a:rPr>
              <a:t>. Aunque amparada en el texto del precepto legal impugnado en esta </a:t>
            </a:r>
            <a:r>
              <a:rPr b="0" i="1" lang="es-ES" sz="2000" spc="-1" strike="noStrike">
                <a:solidFill>
                  <a:srgbClr val="000000"/>
                </a:solidFill>
                <a:latin typeface="Arial"/>
              </a:rPr>
              <a:t>litis</a:t>
            </a:r>
            <a:r>
              <a:rPr b="0" lang="es-ES" sz="2000" spc="-1" strike="noStrike">
                <a:solidFill>
                  <a:srgbClr val="000000"/>
                </a:solidFill>
                <a:latin typeface="Arial"/>
              </a:rPr>
              <a:t> precisa, se torna evidente que tal disposición lesiona la esencia de la igualdad entre las partes asegurada por el </a:t>
            </a:r>
            <a:r>
              <a:rPr b="0" lang="es-ES" sz="2000" spc="-1" strike="noStrike" u="sng">
                <a:solidFill>
                  <a:srgbClr val="000000"/>
                </a:solidFill>
                <a:uFillTx/>
                <a:latin typeface="Arial"/>
              </a:rPr>
              <a:t>artículo 19, Nº 2, de la Constitución</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8"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es también base constitucional y de orden público del contrato de salud la prevista en el artículo 19, Nº 9, de la Carta Política, cuyo inciso final reconoce el </a:t>
            </a:r>
            <a:r>
              <a:rPr b="0" lang="en-US" sz="2000" spc="-1" strike="noStrike" u="sng">
                <a:solidFill>
                  <a:srgbClr val="000000"/>
                </a:solidFill>
                <a:uFillTx/>
                <a:latin typeface="Arial"/>
              </a:rPr>
              <a:t>derecho de la requirente a elegir el sistema de salud</a:t>
            </a:r>
            <a:r>
              <a:rPr b="0" lang="en-US" sz="2000" spc="-1" strike="noStrike">
                <a:solidFill>
                  <a:srgbClr val="000000"/>
                </a:solidFill>
                <a:latin typeface="Arial"/>
              </a:rPr>
              <a:t> al que desea acogerse. […] deviene irrebatible que todas las cláusulas del referido contrato deben orientarse a </a:t>
            </a:r>
            <a:r>
              <a:rPr b="0" lang="en-US" sz="2000" spc="-1" strike="noStrike" u="sng">
                <a:solidFill>
                  <a:srgbClr val="000000"/>
                </a:solidFill>
                <a:uFillTx/>
                <a:latin typeface="Arial"/>
              </a:rPr>
              <a:t>materializar el goce real y legítimo de dicho derecho</a:t>
            </a:r>
            <a:r>
              <a:rPr b="0" lang="en-US" sz="2000" spc="-1" strike="noStrike">
                <a:solidFill>
                  <a:srgbClr val="000000"/>
                </a:solidFill>
                <a:latin typeface="Arial"/>
              </a:rPr>
              <a:t>, más todavía si el afiliado envejece y, a raíz de ello, sube considerablemente el factor respectivo, lo cual repercute en el mayor costo de su plan de salud. […] lejos de permitir el acceso a las prestaciones correlativas, las dificulta y, en el caso extremo, cuando el afiliado, no puede seguir pagando el nuevo costo del plan, […] queda obligado a </a:t>
            </a:r>
            <a:r>
              <a:rPr b="0" lang="en-US" sz="2000" spc="-1" strike="noStrike" u="sng">
                <a:solidFill>
                  <a:srgbClr val="000000"/>
                </a:solidFill>
                <a:uFillTx/>
                <a:latin typeface="Arial"/>
              </a:rPr>
              <a:t>abandonar el sistema privado</a:t>
            </a:r>
            <a:r>
              <a:rPr b="0" lang="en-US" sz="2000" spc="-1" strike="noStrike">
                <a:solidFill>
                  <a:srgbClr val="000000"/>
                </a:solidFill>
                <a:latin typeface="Arial"/>
              </a:rPr>
              <a:t> de salud […] para incorporarse al equivalente públic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Osorio Sagredo” (Rol 1218)</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invocan art. 19 N° 2 y 9</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C incorpora 19 N° 1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Osorio Sagredo” (Rol 1218)</a:t>
            </a: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Constitución, en su artículo 19, Nº 18º, inciso primero, asegura a todas las personas “el derecho a la seguridad social”, precisando en el inciso tercero de dicha disposición que “la acción del Estado estará dirigida a garantizar el acceso de todos los habitantes al goce de prestaciones básicas uniformes, sea que se otorguen a través de </a:t>
            </a:r>
            <a:r>
              <a:rPr b="0" lang="es-ES" sz="2000" spc="-1" strike="noStrike" u="sng">
                <a:solidFill>
                  <a:srgbClr val="000000"/>
                </a:solidFill>
                <a:uFillTx/>
                <a:latin typeface="Arial"/>
              </a:rPr>
              <a:t>instituciones públicas o privadas</a:t>
            </a:r>
            <a:r>
              <a:rPr b="0" lang="es-ES" sz="2000" spc="-1" strike="noStrike">
                <a:solidFill>
                  <a:srgbClr val="000000"/>
                </a:solidFill>
                <a:latin typeface="Arial"/>
              </a:rPr>
              <a:t>”; para finalizar, en el inciso cuarto, señala que “</a:t>
            </a:r>
            <a:r>
              <a:rPr b="0" lang="es-ES" sz="2000" spc="-1" strike="noStrike" u="sng">
                <a:solidFill>
                  <a:srgbClr val="000000"/>
                </a:solidFill>
                <a:uFillTx/>
                <a:latin typeface="Arial"/>
              </a:rPr>
              <a:t>el Estado supervigilará el adecuado ejercicio del derecho a la seguridad social</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Osorio Sagredo” (Rol 1218)</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l conjunto de principios que reconocen a todo ser humano el derecho a los bienes indispensables para prevenir sus contingencias sociales y cubrir sus efectos y que regulan las instituciones requeridas para ello.” (Alfredo Bowen, citado por el fa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Osorio Sagredo” (Rol 1218)</a:t>
            </a: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nuestro juicio, la solidaridad se manifiesta por los siguientes planteamientos ya que:</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eguridad Social es, ante todo, un esfuerzo de toda la comunidad, realizado en su propio beneficio;</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cho esfuerzo deben contribuir todos, y cada cual según sus capacidades y posibilidade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esfuerzo individual de cada persona debe ser considerado como una exigencia del Bien Común (y no como una prestación previa para que luego el órgano gestor otorgue la correspondiente prestación).” (Patricio Novoa, citado por el fall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Valenzuela Márquez”</a:t>
            </a:r>
            <a:br>
              <a:rPr sz="4200"/>
            </a:br>
            <a:r>
              <a:rPr b="0" lang="es-CL" sz="4200" spc="-1" strike="noStrike">
                <a:solidFill>
                  <a:srgbClr val="000000"/>
                </a:solidFill>
                <a:latin typeface="Arial"/>
              </a:rPr>
              <a:t>(Rol 1273)</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fundiza garantía de la igualdad ante la le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igualdades esenciales” “desigualdades es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curso de protección en contra de Isapre 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rmas invocadas 19 N° 2, 9 y 24</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rma impugnada 38 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a:t>
            </a:r>
            <a:r>
              <a:rPr b="0" lang="es-ES" sz="4200" spc="-1" strike="noStrike">
                <a:solidFill>
                  <a:srgbClr val="000000"/>
                </a:solidFill>
                <a:latin typeface="Arial"/>
              </a:rPr>
              <a:t>Fernández Bitterlich” </a:t>
            </a:r>
            <a:br>
              <a:rPr sz="4200"/>
            </a:br>
            <a:r>
              <a:rPr b="0" lang="es-ES" sz="4200" spc="-1" strike="noStrike">
                <a:solidFill>
                  <a:srgbClr val="000000"/>
                </a:solidFill>
                <a:latin typeface="Arial"/>
              </a:rPr>
              <a:t>(Rol 1287) </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nsolida la argumentación en base al art. 19 N° 2, 9 y 18</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allana el camino para la declaración de inconstitucional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uperintendencia de Salud “[…] explica que los dos factores aludidos son objetivos y que, </a:t>
            </a:r>
            <a:r>
              <a:rPr b="0" lang="en-US" sz="2000" spc="-1" strike="noStrike" u="sng">
                <a:solidFill>
                  <a:srgbClr val="000000"/>
                </a:solidFill>
                <a:uFillTx/>
                <a:latin typeface="Arial"/>
              </a:rPr>
              <a:t>medidos en grandes conjuntos para inferir probabilidades, permiten determinar o predecir el mayor o menor riesgo de gasto de la industria pertinente</a:t>
            </a:r>
            <a:r>
              <a:rPr b="0" lang="en-US" sz="2000" spc="-1" strike="noStrike">
                <a:solidFill>
                  <a:srgbClr val="000000"/>
                </a:solidFill>
                <a:latin typeface="Arial"/>
              </a:rPr>
              <a:t>. Consecuentemente, deduce que “el ajuste de precios que permite la ley se justifica en el contexto de una industria que se asemeja a la de los seguros y que, a la vez, es parte del sistema de seguridad soci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erintendencia de Salud: “[…] no se trata de que el sexo y la edad sean </a:t>
            </a:r>
            <a:r>
              <a:rPr b="0" lang="es-ES" sz="2000" spc="-1" strike="noStrike" u="sng">
                <a:solidFill>
                  <a:srgbClr val="000000"/>
                </a:solidFill>
                <a:uFillTx/>
                <a:latin typeface="Arial"/>
              </a:rPr>
              <a:t>parámetros caprichosos, arbitrarios o indemostrables</a:t>
            </a:r>
            <a:r>
              <a:rPr b="0" lang="es-ES" sz="2000" spc="-1" strike="noStrike">
                <a:solidFill>
                  <a:srgbClr val="000000"/>
                </a:solidFill>
                <a:latin typeface="Arial"/>
              </a:rPr>
              <a:t> como factores a considerar para determinar el gasto en salud que, en el tiempo, tendrá que asumir una Isap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uperintendencia añade que </a:t>
            </a:r>
            <a:r>
              <a:rPr b="0" lang="es-ES" sz="2000" spc="-1" strike="noStrike" u="sng">
                <a:solidFill>
                  <a:srgbClr val="000000"/>
                </a:solidFill>
                <a:uFillTx/>
                <a:latin typeface="Arial"/>
              </a:rPr>
              <a:t>lo prohibido</a:t>
            </a:r>
            <a:r>
              <a:rPr b="0" lang="es-ES" sz="2000" spc="-1" strike="noStrike">
                <a:solidFill>
                  <a:srgbClr val="000000"/>
                </a:solidFill>
                <a:latin typeface="Arial"/>
              </a:rPr>
              <a:t> por la Constitución en el inciso quinto o final del Nº 9 del artículo 19, </a:t>
            </a:r>
            <a:r>
              <a:rPr b="0" i="1" lang="es-ES" sz="2000" spc="-1" strike="noStrike">
                <a:solidFill>
                  <a:srgbClr val="000000"/>
                </a:solidFill>
                <a:latin typeface="Arial"/>
              </a:rPr>
              <a:t>“</a:t>
            </a:r>
            <a:r>
              <a:rPr b="0" lang="es-ES" sz="2000" spc="-1" strike="noStrike">
                <a:solidFill>
                  <a:srgbClr val="000000"/>
                </a:solidFill>
                <a:latin typeface="Arial"/>
              </a:rPr>
              <a:t>es la existencia de </a:t>
            </a:r>
            <a:r>
              <a:rPr b="0" lang="es-ES" sz="2000" spc="-1" strike="noStrike" u="sng">
                <a:solidFill>
                  <a:srgbClr val="000000"/>
                </a:solidFill>
                <a:uFillTx/>
                <a:latin typeface="Arial"/>
              </a:rPr>
              <a:t>todo monopolio estatal para las prestaciones de salud</a:t>
            </a:r>
            <a:r>
              <a:rPr b="0" lang="es-ES" sz="2000" spc="-1" strike="noStrike">
                <a:solidFill>
                  <a:srgbClr val="000000"/>
                </a:solidFill>
                <a:latin typeface="Arial"/>
              </a:rPr>
              <a:t>, estando vedado para la ley y toda autoridad imponer un sistema único de salud brindado por el Estado ni impedir u obstaculizar que los particulares ofrezcan esas prestaciones, en la forma y condiciones que señale la le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09"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erintendencia de Salud argumenta que el ordenamiento jurídico permite la actividad privada en materia de sistemas de salud, por lo cual “seguir al extremo el argumento de la requirente </a:t>
            </a:r>
            <a:r>
              <a:rPr b="0" lang="es-ES" sz="2000" spc="-1" strike="noStrike" u="sng">
                <a:solidFill>
                  <a:srgbClr val="000000"/>
                </a:solidFill>
                <a:uFillTx/>
                <a:latin typeface="Arial"/>
              </a:rPr>
              <a:t>implicaría que una persona que no percibe ingresos y, en consecuencia, no puede pagar un precio para acceder a un plan, podría alegar que la ley que exige la cotización es inconstitucional</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1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13"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000" spc="-1" strike="noStrike">
                <a:solidFill>
                  <a:srgbClr val="000000"/>
                </a:solidFill>
                <a:latin typeface="Arial"/>
              </a:rPr>
              <a:t>Superintendencia de Salud: </a:t>
            </a:r>
            <a:r>
              <a:rPr b="0" lang="es-ES" sz="2000" spc="-1" strike="noStrike">
                <a:solidFill>
                  <a:srgbClr val="000000"/>
                </a:solidFill>
                <a:latin typeface="Arial"/>
              </a:rPr>
              <a:t>“pretender que una Isapre se </a:t>
            </a:r>
            <a:r>
              <a:rPr b="0" lang="es-ES" sz="2000" spc="-1" strike="noStrike" u="sng">
                <a:solidFill>
                  <a:srgbClr val="000000"/>
                </a:solidFill>
                <a:uFillTx/>
                <a:latin typeface="Arial"/>
              </a:rPr>
              <a:t>obligue para siempre a otorgar los mismos beneficios, como legalmente está dispuesto hoy en día, pero que a cambio no pueda variar los precios, significaría que estamos afectando precisamente la norma constitucional que la requirente invoca</a:t>
            </a:r>
            <a:r>
              <a:rPr b="0" lang="es-ES" sz="2000" spc="-1" strike="noStrike">
                <a:solidFill>
                  <a:srgbClr val="000000"/>
                </a:solidFill>
                <a:latin typeface="Arial"/>
              </a:rPr>
              <a:t>, ya que implicaría que dichas instituciones no pudieran financiarse y desaparecerían, quedando sólo el sistema estatal de salud” </a:t>
            </a:r>
            <a:endParaRPr b="0" lang="en-US" sz="2000" spc="-1" strike="noStrike">
              <a:solidFill>
                <a:srgbClr val="000000"/>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 se concentró en el </a:t>
            </a:r>
            <a:r>
              <a:rPr b="0" lang="es-CL" sz="2400" spc="-1" strike="noStrike">
                <a:solidFill>
                  <a:srgbClr val="000000"/>
                </a:solidFill>
                <a:latin typeface="Arial"/>
              </a:rPr>
              <a:t>Derecho a la Protección de la Salud (19 N° 9)</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 </a:t>
            </a:r>
            <a:endParaRPr b="0" lang="en-US" sz="20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de la dignidad que singulariza a toda persona humana se deriva un cúmulo de atributos, con los que nace y que conserva durante toda su vida. Entre tales atributos se hallan los </a:t>
            </a:r>
            <a:r>
              <a:rPr b="0" lang="en-US" sz="1900" spc="-1" strike="noStrike" u="sng">
                <a:solidFill>
                  <a:srgbClr val="000000"/>
                </a:solidFill>
                <a:uFillTx/>
                <a:latin typeface="Arial"/>
              </a:rPr>
              <a:t>derechos públicos subjetivos o facultades que el ordenamiento jurídico le asegura con carácter de inalienables, imprescriptibles e inviolables en todo momento, lugar y circunstancia</a:t>
            </a:r>
            <a:r>
              <a:rPr b="0" lang="en-US" sz="1900" spc="-1" strike="noStrike">
                <a:solidFill>
                  <a:srgbClr val="000000"/>
                </a:solidFill>
                <a:latin typeface="Arial"/>
              </a:rPr>
              <a:t>”.</a:t>
            </a:r>
            <a:br>
              <a:rPr sz="1900"/>
            </a:b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01-12T10:48:19Z</dcterms:modified>
  <cp:revision>160</cp:revision>
  <dc:subject/>
  <dc:title>Derecho Constitucional Económico</dc:title>
</cp:coreProperties>
</file>