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E6F2-B2C2-4A5B-AD0B-0F5FA727DE3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55D8-4231-464A-B8F5-FBDA9AA0DFD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E1DCE-4C6F-4E0A-839C-F47E8719B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A80D4-8D75-46FF-A538-035688C78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385AD-5853-4405-93C4-DF61B5F48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DAC80-CB52-4FBF-AEE1-036C31F15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875C23-8498-4574-8115-A9174A67E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A0E41-0642-4285-8146-EAC08DF77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2C7B3-BA8A-4038-8C21-4D939071D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0178B-D873-44F4-84D3-9EA9736C7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78DF7-2A9F-4978-ACAC-7D7A032D6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7B2FC-CA0C-4D8B-B0DD-7FF36752C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CB0A1-AE5D-4E38-9F79-7E3EA2CA9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402D2-CF43-4FBD-A47D-50DAD0BCC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5AF48-AC4D-4036-8A4F-03AEB2B29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73807-C3D7-4906-8A74-154E8675E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0BE27-4D68-411F-81CE-AEC11897E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7AE66-C5F2-4C9B-BE98-3F20366E5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FEC57-2F67-4BE4-9604-A26742099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4A854-286D-404E-A39E-A9F27C63A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13680-940A-4FBA-B611-F171E9E76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3315A-801F-442B-A242-BAD5DEA8C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65391-8813-4F33-B59E-7CA683EA5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0F91E-9B5F-41F4-B469-341BAF9C8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72CA-CBD1-4E7D-87B2-5038165A2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D94F-3818-4F86-8237-417E16402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4A96-F9B0-4476-9F02-D3BE2D0A2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9BDD-A268-438C-8CE9-8361B6B6E87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9: 10 de enero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 C. Suprema</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modificación efectuada a la ley Nº 18.933, si bien ha restringido la facultad de las </a:t>
            </a:r>
            <a:r>
              <a:rPr b="1" lang="es-ES" sz="2000" spc="-1" strike="noStrike">
                <a:solidFill>
                  <a:srgbClr val="000000"/>
                </a:solidFill>
                <a:latin typeface="Arial"/>
              </a:rPr>
              <a:t>Isapres</a:t>
            </a:r>
            <a:r>
              <a:rPr b="0" lang="es-ES" sz="2000" spc="-1" strike="noStrike">
                <a:solidFill>
                  <a:srgbClr val="000000"/>
                </a:solidFill>
                <a:latin typeface="Arial"/>
              </a:rPr>
              <a:t> para adecuar los planes de salud, otorgándoles una libertad para la alteración de los precios base de acuerdo a ciertas reglas que la norma explicita, no es menos cierto, que dicha “libertad de la que habla el artículo 198 del D.F.L. Nº 1 de 2005 del Ministerio del ramo, no puede estimarse como absoluta frente al contratante de dicho plan, sino que exige en su ejercicio una racionalidad que no la torne arbitraria, como ha sucedido en la especie, debiendo permitir mantener el debido equilibrio entre las contraprestaciones de cada contratante”</a:t>
            </a:r>
            <a:br>
              <a:rPr sz="2100"/>
            </a:b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3/08/2006</a:t>
            </a:r>
            <a:r>
              <a:rPr b="0" lang="es-ES" sz="2100" spc="-1" strike="noStrike">
                <a:solidFill>
                  <a:srgbClr val="000000"/>
                </a:solidFill>
                <a:latin typeface="Arial"/>
              </a:rPr>
              <a:t>, </a:t>
            </a:r>
            <a:r>
              <a:rPr b="1" lang="es-ES" sz="2100" spc="-1" strike="noStrike">
                <a:solidFill>
                  <a:srgbClr val="000000"/>
                </a:solidFill>
                <a:latin typeface="Arial"/>
              </a:rPr>
              <a:t>3416-2006</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6 …</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facultad de aumentar el valor base del Plan de Salud por parte de la Isapre, resulta restringida, </a:t>
            </a:r>
            <a:r>
              <a:rPr b="0" lang="es-ES" sz="2000" spc="-1" strike="noStrike" u="sng">
                <a:solidFill>
                  <a:srgbClr val="000000"/>
                </a:solidFill>
                <a:uFillTx/>
                <a:latin typeface="Arial"/>
              </a:rPr>
              <a:t>condicionada a un cambio efectivo y verificable del valor de las prestaciones médicas</a:t>
            </a:r>
            <a:r>
              <a:rPr b="0" lang="es-ES" sz="2000" spc="-1" strike="noStrike">
                <a:solidFill>
                  <a:srgbClr val="000000"/>
                </a:solidFill>
                <a:latin typeface="Arial"/>
              </a:rPr>
              <a:t>, en razón de una alteración sustancial de sus costos (Considerando Tercero, Corte de Apelaciones de Santiago). Si bien el contrato de salud es un contrato regulado por la ley, no por ello deja de ser un contrato bilateral que genera derechos y obligaciones recíprocas, de modo que su modificación debe ser debidamente fundamentada (Considerando Segundo, Corte de Suprema)”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30/08/2006</a:t>
            </a:r>
            <a:r>
              <a:rPr b="0" lang="es-ES" sz="2100" spc="-1" strike="noStrike">
                <a:solidFill>
                  <a:srgbClr val="000000"/>
                </a:solidFill>
                <a:latin typeface="Arial"/>
              </a:rPr>
              <a:t>, </a:t>
            </a:r>
            <a:r>
              <a:rPr b="1" lang="es-ES" sz="2100" spc="-1" strike="noStrike">
                <a:solidFill>
                  <a:srgbClr val="000000"/>
                </a:solidFill>
                <a:latin typeface="Arial"/>
              </a:rPr>
              <a:t>3654-2006</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7 …</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La facultad revisora de las Isapres, </a:t>
            </a:r>
            <a:r>
              <a:rPr b="0" lang="es-ES" sz="1900" spc="-1" strike="noStrike" u="sng">
                <a:solidFill>
                  <a:srgbClr val="000000"/>
                </a:solidFill>
                <a:uFillTx/>
                <a:latin typeface="Arial"/>
              </a:rPr>
              <a:t>consistente en modificar unilateralmente el precio base del plan de salud, tiene un carácter extraordinario</a:t>
            </a:r>
            <a:r>
              <a:rPr b="0" lang="es-ES" sz="1900" spc="-1" strike="noStrike">
                <a:solidFill>
                  <a:srgbClr val="000000"/>
                </a:solidFill>
                <a:latin typeface="Arial"/>
              </a:rPr>
              <a:t>, atendiendo a la </a:t>
            </a:r>
            <a:r>
              <a:rPr b="1" lang="es-ES" sz="1900" spc="-1" strike="noStrike" u="sng">
                <a:solidFill>
                  <a:srgbClr val="000000"/>
                </a:solidFill>
                <a:uFillTx/>
                <a:latin typeface="Arial"/>
              </a:rPr>
              <a:t>naturaleza privada</a:t>
            </a:r>
            <a:r>
              <a:rPr b="0" lang="es-ES" sz="1900" spc="-1" strike="noStrike">
                <a:solidFill>
                  <a:srgbClr val="000000"/>
                </a:solidFill>
                <a:latin typeface="Arial"/>
              </a:rPr>
              <a:t> de los contratos de salud, que conduce a que deba ser interpretada restrictivamente, a fin de evitar abusos. Exige una </a:t>
            </a:r>
            <a:r>
              <a:rPr b="1" lang="es-ES" sz="1900" spc="-1" strike="noStrike" u="sng">
                <a:solidFill>
                  <a:srgbClr val="000000"/>
                </a:solidFill>
                <a:uFillTx/>
                <a:latin typeface="Arial"/>
              </a:rPr>
              <a:t>razonabilidad en sus motivos, y será legítima sólo cuando se justifique el alza por una alteración objetiva y esencial de las prestaciones, como la introducción de nuevos tratamientos o tecnologías aplicadas, en razón que habría una alteración sustancial de los costos, y no por un simple aumento debido a fenómenos inflacionarios</a:t>
            </a:r>
            <a:r>
              <a:rPr b="0" lang="es-ES" sz="1900" spc="-1" strike="noStrike">
                <a:solidFill>
                  <a:srgbClr val="000000"/>
                </a:solidFill>
                <a:latin typeface="Arial"/>
              </a:rPr>
              <a:t> o a la injustificable posición de que la variación pueda estar condicionada por la frecuencia del uso de sistema, pues es de la esencia de este tipo de contrataciones la incertidumbre en su ocurr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7 …</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Sólo así será posible </a:t>
            </a:r>
            <a:r>
              <a:rPr b="0" lang="es-ES" sz="2000" spc="-1" strike="noStrike" u="sng">
                <a:solidFill>
                  <a:srgbClr val="000000"/>
                </a:solidFill>
                <a:uFillTx/>
                <a:latin typeface="Arial"/>
              </a:rPr>
              <a:t>salvaguardar los legítimos intereses económicos de las instituciones y proteger la situación de los afiliados</a:t>
            </a:r>
            <a:r>
              <a:rPr b="0" lang="es-ES" sz="2000" spc="-1" strike="noStrike">
                <a:solidFill>
                  <a:srgbClr val="000000"/>
                </a:solidFill>
                <a:latin typeface="Arial"/>
              </a:rPr>
              <a:t>, razón por la cual ante el caso que una Isapre revise y modifique el plan de salud de un contratante sin que se hubiesen producido las variaciones en cuya única virtud puede válidamente hacerlo, incurre tal institución en una actuación arbitraria, que afecta el derecho de propiedad del recurrente, pues importará una disminución concreta y efectiva en el patrimonio de és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6/07/2007</a:t>
            </a:r>
            <a:r>
              <a:rPr b="0" lang="es-ES" sz="2100" spc="-1" strike="noStrike">
                <a:solidFill>
                  <a:srgbClr val="000000"/>
                </a:solidFill>
                <a:latin typeface="Arial"/>
              </a:rPr>
              <a:t>, </a:t>
            </a:r>
            <a:r>
              <a:rPr b="1" lang="es-ES" sz="2100" spc="-1" strike="noStrike">
                <a:solidFill>
                  <a:srgbClr val="000000"/>
                </a:solidFill>
                <a:latin typeface="Arial"/>
              </a:rPr>
              <a:t>3013-2007</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7 …</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Efectivamente las normas citadas establecen que las instituciones podrán revisar los contratos de salud que correspondan. </a:t>
            </a:r>
            <a:r>
              <a:rPr b="1" lang="es-ES" sz="1700" spc="-1" strike="noStrike" u="sng">
                <a:solidFill>
                  <a:srgbClr val="000000"/>
                </a:solidFill>
                <a:uFillTx/>
                <a:latin typeface="Arial"/>
              </a:rPr>
              <a:t>Sin embargo, siendo dicha norma una excepción al principio establecido por el artículo 1.545 del Código Civil, debe aplicarse en forma restrictiva y sólo para los casos en que la alteración del valor de las prestaciones médicas se haya originado por factores objetivos y debidamente acreditados por la institución de salud previsional, no siendo suficiente, al efecto, considerar la sola alusión a una variación experimentada por los precios de las prestaciones de salud</a:t>
            </a:r>
            <a:r>
              <a:rPr b="1" lang="es-ES" sz="1700" spc="-1" strike="noStrike">
                <a:solidFill>
                  <a:srgbClr val="000000"/>
                </a:solidFill>
                <a:latin typeface="Arial"/>
              </a:rPr>
              <a:t>, por cuanto para tal fin, el pago de los planes se conviene en unidades reajustables, indicadores que permiten mantener la equivalencia entre ellos y los costos de las Isapres, </a:t>
            </a:r>
            <a:r>
              <a:rPr b="1" lang="es-ES" sz="1700" spc="-1" strike="noStrike" u="sng">
                <a:solidFill>
                  <a:srgbClr val="000000"/>
                </a:solidFill>
                <a:uFillTx/>
                <a:latin typeface="Arial"/>
              </a:rPr>
              <a:t>máxime si en su informe el recurrido solamente se limita a indicar que los últimos doce meses se produjo un aumento en los costos de salud sin justificar de manera alguna tal afirmación</a:t>
            </a:r>
            <a:r>
              <a:rPr b="1" lang="es-E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7 …</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Así, la facultad revisora de la Isapre debe entenderse condicionada </a:t>
            </a:r>
            <a:r>
              <a:rPr b="0" lang="es-ES" sz="2000" spc="-1" strike="noStrike" u="sng">
                <a:solidFill>
                  <a:srgbClr val="000000"/>
                </a:solidFill>
                <a:uFillTx/>
                <a:latin typeface="Arial"/>
              </a:rPr>
              <a:t>en su esencia a un cambio efectivo del costo de las prestaciones médicas, en razón de una alteración sustancial de sus costos y es del caso que la recurrida no invocó ni acreditó concretamente la efectividad de dichas circunstancias</a:t>
            </a:r>
            <a:r>
              <a:rPr b="0" lang="es-ES" sz="2000" spc="-1" strike="noStrike">
                <a:solidFill>
                  <a:srgbClr val="000000"/>
                </a:solidFill>
                <a:latin typeface="Arial"/>
              </a:rPr>
              <a:t>, de lo que se sigue que dicha actuación de la Isapre, si bien es enmarcada en los artículos 197 inciso 3º y 198 del D.F.L. Nº 1 del Ministerio de Salud, no corresponde a una aplicación razonable y lógica de la referida facultad.(Considerandos 4º y 5º sentencia Corte de Apelacion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5/10/2007</a:t>
            </a:r>
            <a:r>
              <a:rPr b="0" lang="es-ES" sz="2100" spc="-1" strike="noStrike">
                <a:solidFill>
                  <a:srgbClr val="000000"/>
                </a:solidFill>
                <a:latin typeface="Arial"/>
              </a:rPr>
              <a:t>, </a:t>
            </a:r>
            <a:r>
              <a:rPr b="1" lang="es-ES" sz="2100" spc="-1" strike="noStrike">
                <a:solidFill>
                  <a:srgbClr val="000000"/>
                </a:solidFill>
                <a:latin typeface="Arial"/>
              </a:rPr>
              <a:t>4630-2007</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Última de 2007 … </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t>
            </a:r>
            <a:r>
              <a:rPr b="0" lang="es-ES" sz="2100" spc="-1" strike="noStrike">
                <a:solidFill>
                  <a:srgbClr val="000000"/>
                </a:solidFill>
                <a:latin typeface="Arial"/>
              </a:rPr>
              <a:t>Que si bien el artículo 197 inciso tercero del DFL Nº 1 de 2005, faculta a las Isapres para hacer adecuaciones en el valor del plan Base de Salud, facultad establecida además en el contrato de salud de que trata el caso de autos, </a:t>
            </a:r>
            <a:r>
              <a:rPr b="0" lang="es-ES" sz="2100" spc="-1" strike="noStrike" u="sng">
                <a:solidFill>
                  <a:srgbClr val="000000"/>
                </a:solidFill>
                <a:uFillTx/>
                <a:latin typeface="Arial"/>
              </a:rPr>
              <a:t>tal prerrogativa debe interpretarse en forma excepcional</a:t>
            </a:r>
            <a:r>
              <a:rPr b="0" lang="es-ES" sz="2100" spc="-1" strike="noStrike">
                <a:solidFill>
                  <a:srgbClr val="000000"/>
                </a:solidFill>
                <a:latin typeface="Arial"/>
              </a:rPr>
              <a:t>, rigiendo en forma general lo establecido en el artículo 1545 del Código Civil, en lo relativo al consentimiento mutuo de las modificaciones del contrato</a:t>
            </a:r>
            <a:br>
              <a:rPr sz="2100"/>
            </a:br>
            <a:br>
              <a:rPr sz="2100"/>
            </a:br>
            <a:r>
              <a:rPr b="0" lang="es-ES" sz="2100" spc="-1" strike="noStrike">
                <a:solidFill>
                  <a:srgbClr val="000000"/>
                </a:solidFill>
                <a:latin typeface="Arial"/>
              </a:rPr>
              <a:t>La restricción que aqueja a las Isapres en lo relativo al ejercicio de la facultad de adecuación, dice relación con la </a:t>
            </a:r>
            <a:r>
              <a:rPr b="0" lang="es-ES" sz="2100" spc="-1" strike="noStrike" u="sng">
                <a:solidFill>
                  <a:srgbClr val="000000"/>
                </a:solidFill>
                <a:uFillTx/>
                <a:latin typeface="Arial"/>
              </a:rPr>
              <a:t>razonabilidad y justificación de las modificaciones</a:t>
            </a:r>
            <a:r>
              <a:rPr b="0" lang="es-ES" sz="2100" spc="-1" strike="noStrike">
                <a:solidFill>
                  <a:srgbClr val="000000"/>
                </a:solidFill>
                <a:latin typeface="Arial"/>
              </a:rPr>
              <a:t>, y específicamente en el caso de autos, del aumento del valor del plan base de salu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Última de 2007 …</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Así entonces, se entenderá justificada la modificación del contrato de salud, </a:t>
            </a:r>
            <a:r>
              <a:rPr b="0" lang="es-ES" sz="1800" spc="-1" strike="noStrike" u="sng">
                <a:solidFill>
                  <a:srgbClr val="000000"/>
                </a:solidFill>
                <a:uFillTx/>
                <a:latin typeface="Arial"/>
              </a:rPr>
              <a:t>en la medida que se presenten situaciones verosímiles en relación a un cambio efectivo en el valor de las prestaciones médicas, el que implicaría un costo sustancialmente mayor a los planes de salud otorgadas por las Instituciones de Salud Previsional</a:t>
            </a:r>
            <a:br>
              <a:rPr sz="1800"/>
            </a:br>
            <a:br>
              <a:rPr sz="1800"/>
            </a:br>
            <a:r>
              <a:rPr b="0" lang="es-ES" sz="1800" spc="-1" strike="noStrike">
                <a:solidFill>
                  <a:srgbClr val="000000"/>
                </a:solidFill>
                <a:latin typeface="Arial"/>
              </a:rPr>
              <a:t>En consecuencia, la falta de justificación verosímil al cambio en los planes de salud otorgados por la Isapre, implican una actuación arbitraria por parte de ésta, </a:t>
            </a:r>
            <a:r>
              <a:rPr b="0" lang="es-ES" sz="1800" spc="-1" strike="noStrike" u="sng">
                <a:solidFill>
                  <a:srgbClr val="000000"/>
                </a:solidFill>
                <a:uFillTx/>
                <a:latin typeface="Arial"/>
              </a:rPr>
              <a:t>que conculca el derecho del recurrente a acoger libremente el sistema de salud al que desea acogerse, contemplado en el artículo 19 Nº 9 inciso final de la Constitución Política de la Repúblic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de Apelaciones de Santiago</a:t>
            </a:r>
            <a:r>
              <a:rPr b="0" lang="es-ES" sz="1700" spc="-1" strike="noStrike">
                <a:solidFill>
                  <a:srgbClr val="000000"/>
                </a:solidFill>
                <a:latin typeface="Arial"/>
              </a:rPr>
              <a:t>, </a:t>
            </a:r>
            <a:r>
              <a:rPr b="1" lang="es-ES" sz="1700" spc="-1" strike="noStrike">
                <a:solidFill>
                  <a:srgbClr val="000000"/>
                </a:solidFill>
                <a:latin typeface="Arial"/>
              </a:rPr>
              <a:t>04/02/2008</a:t>
            </a:r>
            <a:r>
              <a:rPr b="0" lang="es-ES" sz="1700" spc="-1" strike="noStrike">
                <a:solidFill>
                  <a:srgbClr val="000000"/>
                </a:solidFill>
                <a:latin typeface="Arial"/>
              </a:rPr>
              <a:t>, </a:t>
            </a:r>
            <a:r>
              <a:rPr b="1" lang="es-ES" sz="1700" spc="-1" strike="noStrike">
                <a:solidFill>
                  <a:srgbClr val="000000"/>
                </a:solidFill>
                <a:latin typeface="Arial"/>
              </a:rPr>
              <a:t>7114-2007</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a facultad revisora de los contratos de salud por parte de las ISAPRES, al constituir una excepción al artículo 1545 del Código Civil, </a:t>
            </a:r>
            <a:r>
              <a:rPr b="0" lang="en-US" sz="1800" spc="-1" strike="noStrike" u="sng">
                <a:solidFill>
                  <a:srgbClr val="000000"/>
                </a:solidFill>
                <a:uFillTx/>
                <a:latin typeface="Arial"/>
              </a:rPr>
              <a:t>debe ser interpretada restrictivamente, a fin de evitar su abuso, atendida la especial situación de quienes se encuentran afiliados a un plan frente a la ISAPRE, a la hora de decidir si se mantienen o no las condiciones de la contratación.</a:t>
            </a:r>
            <a:r>
              <a:rPr b="0" lang="en-US" sz="1800" spc="-1" strike="noStrike">
                <a:solidFill>
                  <a:srgbClr val="000000"/>
                </a:solidFill>
                <a:latin typeface="Arial"/>
              </a:rPr>
              <a:t> De este modo, se salvaguardan los legítimos intereses económicos de las instituciones de salud frente a sustanciales variaciones de sus costos operativos, pero se protege la situación de los afiliados, en la medida que la revisión de los precios procede únicamente por una </a:t>
            </a:r>
            <a:r>
              <a:rPr b="0" lang="en-US" sz="1800" spc="-1" strike="noStrike" u="sng">
                <a:solidFill>
                  <a:srgbClr val="000000"/>
                </a:solidFill>
                <a:uFillTx/>
                <a:latin typeface="Arial"/>
              </a:rPr>
              <a:t>alteración real, objetiva y esencial de las prestaciones</a:t>
            </a:r>
            <a:r>
              <a:rPr b="0" lang="en-US" sz="1800" spc="-1" strike="noStrike">
                <a:solidFill>
                  <a:srgbClr val="000000"/>
                </a:solidFill>
                <a:latin typeface="Arial"/>
              </a:rPr>
              <a:t>, apta para afectar a todo un sector de afiliados o, a lo menos, a todos los que contrataron un mismo plan (considerando 4º, sentencia Corte Suprema)”</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Si bien la facultad revisora no aparece reglada, exige una </a:t>
            </a:r>
            <a:r>
              <a:rPr b="0" lang="es-ES" sz="2000" spc="-1" strike="noStrike" u="sng">
                <a:solidFill>
                  <a:srgbClr val="000000"/>
                </a:solidFill>
                <a:uFillTx/>
                <a:latin typeface="Arial"/>
              </a:rPr>
              <a:t>razonabilidad en sus motivos</a:t>
            </a:r>
            <a:r>
              <a:rPr b="0" lang="es-ES" sz="2000" spc="-1" strike="noStrike">
                <a:solidFill>
                  <a:srgbClr val="000000"/>
                </a:solidFill>
                <a:latin typeface="Arial"/>
              </a:rPr>
              <a:t>, esto es, que la revisión responda a una variación de los precios de las prestaciones cubiertas por el plan, </a:t>
            </a:r>
            <a:r>
              <a:rPr b="0" lang="es-ES" sz="2000" spc="-1" strike="noStrike" u="sng">
                <a:solidFill>
                  <a:srgbClr val="000000"/>
                </a:solidFill>
                <a:uFillTx/>
                <a:latin typeface="Arial"/>
              </a:rPr>
              <a:t>no siendo suficiente la mera indexación de los referidos precios –pues para ello el pago se hace en forma reajustable, lo que mantiene la equivalencia entre precios y costos de la ISAPRE–, sino que deberá provenir de la introducción de nuevos tratamientos o tecnologías aplicadas</a:t>
            </a:r>
            <a:r>
              <a:rPr b="0" lang="es-ES" sz="2000" spc="-1" strike="noStrike">
                <a:solidFill>
                  <a:srgbClr val="000000"/>
                </a:solidFill>
                <a:latin typeface="Arial"/>
              </a:rPr>
              <a:t>, que modifiquen efectiva y sustancialmente las respectivas prestaciones (considerando 3º, sentencia Corte Suprema)”</a:t>
            </a:r>
            <a:br>
              <a:rPr sz="2000"/>
            </a:br>
            <a:br>
              <a:rPr sz="1500"/>
            </a:br>
            <a:r>
              <a:rPr b="1" lang="es-ES"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t>
            </a:r>
            <a:r>
              <a:rPr b="0" lang="es-ES" sz="1700" spc="-1" strike="noStrike">
                <a:solidFill>
                  <a:srgbClr val="000000"/>
                </a:solidFill>
                <a:latin typeface="Arial"/>
              </a:rPr>
              <a:t>En consecuencia, la facultad revisora de la ISAPRE está </a:t>
            </a:r>
            <a:r>
              <a:rPr b="0" lang="es-ES" sz="1700" spc="-1" strike="noStrike" u="sng">
                <a:solidFill>
                  <a:srgbClr val="000000"/>
                </a:solidFill>
                <a:uFillTx/>
                <a:latin typeface="Arial"/>
              </a:rPr>
              <a:t>condicionada en su esencia a un cambio efectivo y verificable del costo de las prestaciones médicas, en razón de una alteración sustancial de esos costos, y no por un simple aumento, debido a fenómenos inflacionarios</a:t>
            </a:r>
            <a:r>
              <a:rPr b="0" lang="es-ES" sz="1700" spc="-1" strike="noStrike">
                <a:solidFill>
                  <a:srgbClr val="000000"/>
                </a:solidFill>
                <a:latin typeface="Arial"/>
              </a:rPr>
              <a:t>. Por lo mismo, si no se han producido las variaciones que habilitan la utilización de la facultad revisora, y la ISAPRE aumenta el valor base del plan de salud, la institución </a:t>
            </a:r>
            <a:r>
              <a:rPr b="0" lang="es-ES" sz="1700" spc="-1" strike="noStrike" u="sng">
                <a:solidFill>
                  <a:srgbClr val="000000"/>
                </a:solidFill>
                <a:uFillTx/>
                <a:latin typeface="Arial"/>
              </a:rPr>
              <a:t>está actuando arbitrariamente, conculcando las garantías de igualdad ante la ley y del derecho de opción establecido en el artículo 19 Nº 9 de la Carta Fundamental, a elegir el sistema de salud público o privado, porque si la afiliación se torna excesivamente gravosa, podría constreñir al interesado a incorporarse al sistema estatal</a:t>
            </a:r>
            <a:r>
              <a:rPr b="0" lang="es-ES" sz="1700" spc="-1" strike="noStrike">
                <a:solidFill>
                  <a:srgbClr val="000000"/>
                </a:solidFill>
                <a:latin typeface="Arial"/>
              </a:rPr>
              <a:t> (considerandos 5º a 7º, sentencia Corte Suprema).”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Suprema</a:t>
            </a:r>
            <a:r>
              <a:rPr b="0" lang="es-ES" sz="1700" spc="-1" strike="noStrike">
                <a:solidFill>
                  <a:srgbClr val="000000"/>
                </a:solidFill>
                <a:latin typeface="Arial"/>
              </a:rPr>
              <a:t>, </a:t>
            </a:r>
            <a:r>
              <a:rPr b="1" lang="es-ES" sz="1700" spc="-1" strike="noStrike">
                <a:solidFill>
                  <a:srgbClr val="000000"/>
                </a:solidFill>
                <a:latin typeface="Arial"/>
              </a:rPr>
              <a:t>16/12/2008</a:t>
            </a:r>
            <a:r>
              <a:rPr b="0" lang="es-ES" sz="1700" spc="-1" strike="noStrike">
                <a:solidFill>
                  <a:srgbClr val="000000"/>
                </a:solidFill>
                <a:latin typeface="Arial"/>
              </a:rPr>
              <a:t>, </a:t>
            </a:r>
            <a:r>
              <a:rPr b="1" lang="es-ES" sz="1700" spc="-1" strike="noStrike">
                <a:solidFill>
                  <a:srgbClr val="000000"/>
                </a:solidFill>
                <a:latin typeface="Arial"/>
              </a:rPr>
              <a:t>6400-2008</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9 …</a:t>
            </a:r>
            <a:endParaRPr b="0" lang="en-US" sz="4200" spc="-1" strike="noStrike">
              <a:solidFill>
                <a:srgbClr val="000000"/>
              </a:solidFill>
              <a:latin typeface="Arial"/>
            </a:endParaRPr>
          </a:p>
        </p:txBody>
      </p:sp>
      <p:sp>
        <p:nvSpPr>
          <p:cNvPr id="142" name="PlaceHolder 2"/>
          <p:cNvSpPr>
            <a:spLocks noGrp="1"/>
          </p:cNvSpPr>
          <p:nvPr>
            <p:ph/>
          </p:nvPr>
        </p:nvSpPr>
        <p:spPr>
          <a:xfrm>
            <a:off x="1523880" y="1676160"/>
            <a:ext cx="7010640" cy="43434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En cuanto al aumento del valor base del plan de salud del recurrente, si bien la Isapre tiene la facultad legal para hacer tal adecuación –conforme al artículo 197 inciso 3º de la Ley de Isapres–, tal facultad resulta excepcional frente a la regla general establecida en el artículo 1545 del Código Civil y, por consiguiente, sólo puede ser aplicada por la Isapre en forma restringida. Efectivamente, la facultad revisora de la Isapre está condicionada a un cambio efectivo y verificable del valor de las prestaciones médicas, en razón de una alteración sustancial de sus costos. </a:t>
            </a:r>
            <a:r>
              <a:rPr b="0" lang="es-ES" sz="1700" spc="-1" strike="noStrike" u="sng">
                <a:solidFill>
                  <a:srgbClr val="000000"/>
                </a:solidFill>
                <a:uFillTx/>
                <a:latin typeface="Arial"/>
              </a:rPr>
              <a:t>En estas condiciones, el mero anuncio de la existencia de antecedentes que estarían a disposición del afiliado en las sucursales de la Isapre o en su página web, no es justificación suficiente para el alza, constituyendo entonces un acto ilegal y arbitrario que atenta contra el derecho de propiedad garantizado por la Carta Fundamental</a:t>
            </a:r>
            <a:r>
              <a:rPr b="0" lang="es-ES" sz="1700" spc="-1" strike="noStrike">
                <a:solidFill>
                  <a:srgbClr val="000000"/>
                </a:solidFill>
                <a:latin typeface="Arial"/>
              </a:rPr>
              <a:t> (considerando 5º, sentencia Corte de Apelacione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Suprema</a:t>
            </a:r>
            <a:r>
              <a:rPr b="0" lang="es-ES" sz="1700" spc="-1" strike="noStrike">
                <a:solidFill>
                  <a:srgbClr val="000000"/>
                </a:solidFill>
                <a:latin typeface="Arial"/>
              </a:rPr>
              <a:t>, </a:t>
            </a:r>
            <a:r>
              <a:rPr b="1" lang="es-ES" sz="1700" spc="-1" strike="noStrike">
                <a:solidFill>
                  <a:srgbClr val="000000"/>
                </a:solidFill>
                <a:latin typeface="Arial"/>
              </a:rPr>
              <a:t>21/09/2009</a:t>
            </a:r>
            <a:r>
              <a:rPr b="0" lang="es-ES" sz="1700" spc="-1" strike="noStrike">
                <a:solidFill>
                  <a:srgbClr val="000000"/>
                </a:solidFill>
                <a:latin typeface="Arial"/>
              </a:rPr>
              <a:t>, </a:t>
            </a:r>
            <a:r>
              <a:rPr b="1" lang="es-ES" sz="1700" spc="-1" strike="noStrike">
                <a:solidFill>
                  <a:srgbClr val="000000"/>
                </a:solidFill>
                <a:latin typeface="Arial"/>
              </a:rPr>
              <a:t>6353-2009</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0 …</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La interpretación y aplicación </a:t>
            </a:r>
            <a:r>
              <a:rPr b="0" lang="es-ES" sz="1900" spc="-1" strike="noStrike" u="sng">
                <a:solidFill>
                  <a:srgbClr val="000000"/>
                </a:solidFill>
                <a:uFillTx/>
                <a:latin typeface="Arial"/>
              </a:rPr>
              <a:t>restrictiva de las circunstancias que justifican una revisión objetiva y unilateral del precio base de un plan de salud por parte de una Isapre se apoya en el carácter extraordinario de esta facultad</a:t>
            </a:r>
            <a:r>
              <a:rPr b="0" lang="es-ES" sz="1900" spc="-1" strike="noStrike">
                <a:solidFill>
                  <a:srgbClr val="000000"/>
                </a:solidFill>
                <a:latin typeface="Arial"/>
              </a:rPr>
              <a:t> y en la particular situación en que se encuentran los afiliados a un plan frente a la nombrada institución a la hora de decidir si se mantienen o no las condiciones de contratación. </a:t>
            </a:r>
            <a:r>
              <a:rPr b="0" lang="es-ES" sz="1900" spc="-1" strike="noStrike" u="sng">
                <a:solidFill>
                  <a:srgbClr val="000000"/>
                </a:solidFill>
                <a:uFillTx/>
                <a:latin typeface="Arial"/>
              </a:rPr>
              <a:t>De este modo, se salvaguardan, por una parte, los legítimos intereses económicos de las instituciones frente a las variaciones de sus costos operativos y, por otra, se protege la situación de los afiliados, en la medida que la revisión de los precios sólo resultará legítima por una alteración objetiva y esencial de las prestaciones</a:t>
            </a:r>
            <a:r>
              <a:rPr b="0" lang="es-ES" sz="1900" spc="-1" strike="noStrike">
                <a:solidFill>
                  <a:srgbClr val="000000"/>
                </a:solidFill>
                <a:latin typeface="Arial"/>
              </a:rPr>
              <a:t>, apta para afectar a todo un sector de afiliados o, a lo menos, a todos los que contrataron un mismo pla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0 …</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t>
            </a:r>
            <a:r>
              <a:rPr b="0" lang="es-ES" sz="2100" spc="-1" strike="noStrike">
                <a:solidFill>
                  <a:srgbClr val="000000"/>
                </a:solidFill>
                <a:latin typeface="Arial"/>
              </a:rPr>
              <a:t>Esto sin perjuicio de que, en su caso y libremente, se puedan pactar modificaciones de las condiciones particulares si todos los interesados convienen en ello. </a:t>
            </a:r>
            <a:r>
              <a:rPr b="0" lang="es-ES" sz="2100" spc="-1" strike="noStrike" u="sng">
                <a:solidFill>
                  <a:srgbClr val="000000"/>
                </a:solidFill>
                <a:uFillTx/>
                <a:latin typeface="Arial"/>
              </a:rPr>
              <a:t>En la especie, la recurrida adjuntó a la carta de adecuación un anexo mediante el cual pretendió justificar su decisión, informando al afiliado la </a:t>
            </a:r>
            <a:r>
              <a:rPr b="1" lang="es-ES" sz="2100" spc="-1" strike="noStrike" u="sng">
                <a:solidFill>
                  <a:srgbClr val="000000"/>
                </a:solidFill>
                <a:uFillTx/>
                <a:latin typeface="Arial"/>
              </a:rPr>
              <a:t>metodología empleada en el proceso de reajuste de precios</a:t>
            </a:r>
            <a:r>
              <a:rPr b="0" lang="es-ES" sz="2100" spc="-1" strike="noStrike">
                <a:solidFill>
                  <a:srgbClr val="000000"/>
                </a:solidFill>
                <a:latin typeface="Arial"/>
              </a:rPr>
              <a:t>. Sin embargo, </a:t>
            </a:r>
            <a:r>
              <a:rPr b="0" lang="es-ES" sz="2100" spc="-1" strike="noStrike" u="sng">
                <a:solidFill>
                  <a:srgbClr val="000000"/>
                </a:solidFill>
                <a:uFillTx/>
                <a:latin typeface="Arial"/>
              </a:rPr>
              <a:t>dicho anexo no satisface la razonabilidad exigida, ya que no logra demostrar ni justificar de manera cabal, pormenorizada y racional</a:t>
            </a:r>
            <a:r>
              <a:rPr b="0" lang="es-ES" sz="2100" spc="-1" strike="noStrike">
                <a:solidFill>
                  <a:srgbClr val="000000"/>
                </a:solidFill>
                <a:latin typeface="Arial"/>
              </a:rPr>
              <a:t>, por qué deben reajustarse los precios con los solos antecedentes que se invocan”</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04/10/2010</a:t>
            </a:r>
            <a:r>
              <a:rPr b="0" lang="es-ES" sz="2100" spc="-1" strike="noStrike">
                <a:solidFill>
                  <a:srgbClr val="000000"/>
                </a:solidFill>
                <a:latin typeface="Arial"/>
              </a:rPr>
              <a:t>, </a:t>
            </a:r>
            <a:r>
              <a:rPr b="1" lang="es-ES" sz="2100" spc="-1" strike="noStrike">
                <a:solidFill>
                  <a:srgbClr val="000000"/>
                </a:solidFill>
                <a:latin typeface="Arial"/>
              </a:rPr>
              <a:t>6915-2010</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1 …</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n la especie, </a:t>
            </a:r>
            <a:r>
              <a:rPr b="0" lang="es-ES" sz="2000" spc="-1" strike="noStrike" u="sng">
                <a:solidFill>
                  <a:srgbClr val="000000"/>
                </a:solidFill>
                <a:uFillTx/>
                <a:latin typeface="Arial"/>
              </a:rPr>
              <a:t>el anexo adjuntado a la carta de adecuación por la Isapre recurrida no satisface dicha exigencia si se limita a afirmar con cifras y criterios generales que los costos de la Isapre para otorgar las prestaciones a que está obligada han aumentado</a:t>
            </a:r>
            <a:r>
              <a:rPr b="0" lang="es-ES" sz="2000" spc="-1" strike="noStrike">
                <a:solidFill>
                  <a:srgbClr val="000000"/>
                </a:solidFill>
                <a:latin typeface="Arial"/>
              </a:rPr>
              <a:t>, sin que ello se demuestre o justifique de manera cabal, pormenorizada y racional”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rte de Apelaciones de Santiago</a:t>
            </a:r>
            <a:r>
              <a:rPr b="0" lang="es-ES" sz="2000" spc="-1" strike="noStrike">
                <a:solidFill>
                  <a:srgbClr val="000000"/>
                </a:solidFill>
                <a:latin typeface="Arial"/>
              </a:rPr>
              <a:t>, </a:t>
            </a:r>
            <a:r>
              <a:rPr b="1" lang="es-ES" sz="2000" spc="-1" strike="noStrike">
                <a:solidFill>
                  <a:srgbClr val="000000"/>
                </a:solidFill>
                <a:latin typeface="Arial"/>
              </a:rPr>
              <a:t>14/02/2011</a:t>
            </a:r>
            <a:r>
              <a:rPr b="0" lang="es-ES" sz="2000" spc="-1" strike="noStrike">
                <a:solidFill>
                  <a:srgbClr val="000000"/>
                </a:solidFill>
                <a:latin typeface="Arial"/>
              </a:rPr>
              <a:t>, </a:t>
            </a:r>
            <a:r>
              <a:rPr b="1" lang="es-ES" sz="2000" spc="-1" strike="noStrike">
                <a:solidFill>
                  <a:srgbClr val="000000"/>
                </a:solidFill>
                <a:latin typeface="Arial"/>
              </a:rPr>
              <a:t>305-2011</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bían formas de salir de es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cia dónde estaba empujando la jurisprudenc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 C. Apelacione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no obstante que el artículo 38 de la ley 18.933 faculta a las </a:t>
            </a:r>
            <a:r>
              <a:rPr b="1" lang="es-ES" sz="2000" spc="-1" strike="noStrike">
                <a:solidFill>
                  <a:srgbClr val="000000"/>
                </a:solidFill>
                <a:latin typeface="Arial"/>
              </a:rPr>
              <a:t>Isapres</a:t>
            </a:r>
            <a:r>
              <a:rPr b="0" lang="es-ES" sz="2000" spc="-1" strike="noStrike">
                <a:solidFill>
                  <a:srgbClr val="000000"/>
                </a:solidFill>
                <a:latin typeface="Arial"/>
              </a:rPr>
              <a:t> para adecuar los precios de los planes de salud en cuanto a las prestaciones convenidas, la naturaleza y el monto de sus beneficios, </a:t>
            </a:r>
            <a:r>
              <a:rPr b="0" lang="es-ES" sz="2000" spc="-1" strike="noStrike" u="sng">
                <a:solidFill>
                  <a:srgbClr val="000000"/>
                </a:solidFill>
                <a:uFillTx/>
                <a:latin typeface="Arial"/>
              </a:rPr>
              <a:t>dicha facultad debe ejercerse con la debida prudencia y mesura, atendido el origen del texto legal, que obedeció a la necesidad de fijar un mecanismo que permitiera corregir la inestabilidad propia de esta clase de convenciones</a:t>
            </a:r>
            <a:r>
              <a:rPr b="0" lang="es-ES" sz="2000" spc="-1" strike="noStrike">
                <a:solidFill>
                  <a:srgbClr val="000000"/>
                </a:solidFill>
                <a:latin typeface="Arial"/>
              </a:rPr>
              <a:t>, ya que en el transcurso del tiempo pueden producirse variaciones imprevisibles en los costos de los precios médicos, sin perjuicio, además, de los cambios que pudieran afectar a la economía nacional”.</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09"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la carta de adecuación del plan de salud del recurrente, que rola a fojas 2, Isapre Banmédica S.A. no expresa ningún motivo o razón del cual pudiera derivarse el fundamento del reajuste en el precio del plan que lo vincula con el actor, lo que evidencia que tal incremento carece de la debida justificación, si se tienen presente, además, las condiciones de estabilidad y control inflacionario que mantiene el país, y el hecho de que, no se ha controvertido la circunstancia de que a consecuencia de esta acción constitucional se lo ofreció al compareciente adecuar el precio de su plan de salud a un valor de 11,350 U.F.”</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1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3"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ES" sz="2000" spc="-1" strike="noStrike">
                <a:solidFill>
                  <a:srgbClr val="000000"/>
                </a:solidFill>
                <a:latin typeface="Arial"/>
              </a:rPr>
              <a:t>Que en este contexto, el alza unilateral dispuesta por la recurrida al no darse razón alguna en la carta referida, </a:t>
            </a:r>
            <a:r>
              <a:rPr b="0" lang="es-ES" sz="2000" spc="-1" strike="noStrike" u="sng">
                <a:solidFill>
                  <a:srgbClr val="000000"/>
                </a:solidFill>
                <a:uFillTx/>
                <a:latin typeface="Arial"/>
              </a:rPr>
              <a:t>priva al actor de la posibilidad de ponderarlas a los fines de aceptar las nuevas condiciones que se le proponen, lo que implica un proceder arbitrario y, ciertamente ilegal</a:t>
            </a:r>
            <a:r>
              <a:rPr b="0" lang="es-ES" sz="2000" spc="-1" strike="noStrike">
                <a:solidFill>
                  <a:srgbClr val="000000"/>
                </a:solidFill>
                <a:latin typeface="Arial"/>
              </a:rPr>
              <a:t>, pues la facultad que excepcionalmente otorga el artículo 38 de la ley Nº 18.933 exige para su ejercicio una adecuada y debida fundamentación”.</a:t>
            </a:r>
            <a:br>
              <a:rPr sz="2000"/>
            </a:br>
            <a:endParaRPr b="0" lang="en-US" sz="2000" spc="-1" strike="noStrike">
              <a:solidFill>
                <a:srgbClr val="000000"/>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nSpc>
                <a:spcPct val="8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Isapre recurrida, al adecuar el plan de salud del recurrente y aplicar un incremento por concepto de reajustes ha vulnerado </a:t>
            </a:r>
            <a:r>
              <a:rPr b="0" lang="es-ES" sz="2000" spc="-1" strike="noStrike" u="sng">
                <a:solidFill>
                  <a:srgbClr val="000000"/>
                </a:solidFill>
                <a:uFillTx/>
                <a:latin typeface="Arial"/>
              </a:rPr>
              <a:t>la garantía constitucional del derecho de propiedad del actor, consagrada en el Nº 24 del artículo 19 de la Constitución Política de la República, por cuanto se ha intentado imponerle un mayor costo por el plan en vigencia, manteniendo invariable las coberturas otorgadas en su contrato de salud, sin mejorar, como contrapartida, la cantidad o calidad de dichas coberturas, ofreciéndole en cambio un plan alternativo de rango inferior en cuanto a su cobertura</a:t>
            </a:r>
            <a:r>
              <a:rPr b="0" lang="es-ES" sz="2000" spc="-1" strike="noStrike">
                <a:solidFill>
                  <a:srgbClr val="000000"/>
                </a:solidFill>
                <a:latin typeface="Arial"/>
              </a:rPr>
              <a:t>, a cambio de conservar igual nivel de cotización, colocando de esta forma al afiliado afectado en una disyuntiva, que cualquiera sea en definitiva su opción, le provoca un detrimento serio en sus intereses, lo que en ningún caso puede estimarse procedente”</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Que en el evento de concretarse la ilegal y arbitraria actuación que se reprocha, el actor sufriría una disminución real de su patrimonio, al incrementársele en una suma próxima al 3,2% del costo de su actual plan de salud, por concepto de reajustes, lo cual constituye un atentado claro y preciso a la expresada garantía constitucional”.</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01-10T02:40:02Z</dcterms:modified>
  <cp:revision>157</cp:revision>
  <dc:subject/>
  <dc:title>Derecho Constitucional Económico</dc:title>
</cp:coreProperties>
</file>