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523B-3E97-4C36-9F03-A0F889B730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01B3-7457-41E3-839B-1F49D8335E1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F6324-04B8-40DC-9F7C-A41AD181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C8C15-635A-478E-AC5A-C810FA79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61E76-C163-46C6-BFF2-BAACAE6B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7EC5F-AEAC-4BFE-BEFF-E1EB4B197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673C5-DDF0-47D5-8A76-1864EFF1F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DFB75-FA5A-409C-AEEC-7A70F86FA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C0257-98D0-4B89-B986-2EABD9613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E2740-E592-4BA6-9AEF-D99FA89E3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F0937-51A0-49AB-987F-30C6B7F96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9B4F4-FA2B-42A2-BC70-A3FCCC734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A514C-FFBC-499C-9E83-5E7C47E8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CC2A9-749C-453E-ABE7-F2DA09353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354F0-370A-4AF9-9813-FB487446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6BED-9C28-444C-AD2D-E539A7D9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A39F7-8800-4F7F-A017-CB26BD3DB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EFB0E-4730-4742-8E95-4DD5CC92C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5C4AA-17ED-4307-9227-309E2777A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C1A5-CAFE-4B5E-8BFE-D129EFBA9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0248-9140-4FFC-A5D1-14E7B5A4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D8972-44B5-452B-BD3F-CE95D4ECF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96D7E-076D-408C-9E03-3CEB99C3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6641-77DB-4D49-8529-0D2EF91DA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B148-C2EB-454D-BD44-350F0D649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A784-9726-4E86-AABF-95F8C5E95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A556-539B-42BC-92AB-6830D50287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4F64-67FA-4651-836F-4EFC1EFDBD3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5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lIns="90000" rIns="90000" tIns="46800" bIns="46800"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AD7F-0EA4-42A4-A447-776CB9BFA45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223F-00EB-4D4F-80D8-D61EBF7EB80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Rectangle 3"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Rectangle 3"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Rectangl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 descr=""/>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05T02:28:03Z</dcterms:modified>
  <cp:revision>156</cp:revision>
  <dc:subject/>
  <dc:title>Derecho Constitucional Económico</dc:title>
</cp:coreProperties>
</file>