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87C5-A9B2-4192-AECA-FA9A6BBE5D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3A9-384F-4E26-9587-D1483CA1925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36D75-0FA8-4543-A6DD-ACC10246B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04AA0-C563-4930-BDA0-1BD87DB95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17DCF-6000-476A-A492-01808373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4685-9DF7-4BB6-9CC6-330D358D5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7F100-37A5-4E97-BB57-F113CE977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47B35-AB10-4495-BDE9-D431697AB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905D1-0054-48E8-8461-5AD941F4A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FDD3-7CE7-4441-A111-A66A19763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BA5A0-6AF1-4C64-825F-DF38F8ECB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23E12-34E5-4821-84BC-760DAC003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D1F6-9804-48B9-A738-1D3C9EAF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D7F8-BA97-4C2D-90F7-F10DEFB7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55926-DFE6-4F98-B37F-B8EFF529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96116-F8E7-4E3E-85D5-12835CEE2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57B54-4EF2-4596-87CE-BBC6FD5C6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FE418-FF7F-433E-8681-D1FC7156E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1830B-CB27-4A51-AF8B-B21D9FF0D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C3E9-4F82-4AF8-B9C8-6A2F9A79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7BE1-DC63-42C2-939A-069D0692E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7D67-BFE7-46D1-937F-F3C476E4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E74C4-0D30-4A29-B49E-8C45E71BA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78A7-0DFD-47C5-9D69-7A15694C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D9D5-563E-4F44-BF20-0B108F922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B90D-EDA2-4CDA-9D33-1DD1BD4D3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F4CF-16E2-4AB0-8CBC-1E284F2592A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8E5C-A823-4669-BFFB-4D0A4AEE8EF5}"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5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lIns="90000" rIns="90000" tIns="46800" bIns="46800"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551E-8C8C-4952-9FA2-D3C42A27F4AD}"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C1A6-76CC-4A64-A71D-3C0292142DB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Rectangle 3"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Rectangle 3"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Rectangl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 descr=""/>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05T02:28:03Z</dcterms:modified>
  <cp:revision>156</cp:revision>
  <dc:subject/>
  <dc:title>Derecho Constitucional Económico</dc:title>
</cp:coreProperties>
</file>