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1A1C-6AD1-48BD-9C5D-60DCE5F518E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2F39-2934-462D-9890-5BC5BDD99086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B664-3164-4F67-B180-F20DA22C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0C55-3A43-429F-87E5-394764F6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5508-016F-49E1-97A8-BB374281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5C7F-6BF1-449C-9624-BF2491EE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A22B-FF49-4DC9-B7BD-42B39129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69BA-B5BF-44A6-A096-EECAE311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1FCC-7B81-4F44-B9BC-DD13F2A3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79BD-5338-41BF-83EC-D104C971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3610-1728-4749-8DE9-675B4EB7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8FE1-3C2E-4832-9B7E-502DAB23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C660-4A7C-4D3A-8D57-783B2694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CE23-8E4A-4AD9-9E1C-968BD508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6A5D-FFF2-4A86-BB30-7CD03426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CF04-32A1-42C8-9441-20639AC4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9CA1-859A-4764-A114-D5FE28CA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5D8F-B4D8-4648-BDE8-4893BB7B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57F3-71E7-417A-A39B-0544DE89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C0DF-D4C6-471B-A14C-58E0B14E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EB6E-97A0-44A0-96C8-8A7AAB4F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D2E0-FFD2-4662-A0BA-CDF0E277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142D-19B6-4CCC-8483-F7FE705D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C6B2-C1EE-469B-8EC7-AAA7399B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010D-34D0-4EB4-B246-3ACC28AA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A5C9-CF7F-4941-967E-977FCFAB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6BE5-7993-4130-A15E-0B95D88D6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F9A8-AD14-45FA-8EA6-57DC1E38B4EE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15: 29 de diciembre de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produc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Proveedores públicos o privad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Atención primaria o de especial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Qué relevancia tiene el modelo? ¿concesion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entivos para reducir costos vs.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Regulación de precios? (baja elastic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eguramiento de la calidad (asimetrías de inform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ortancia del financiamiento y el sistema de seguros (riesgo mo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productiva y efe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ducir aquellos bienes o servicios que solucione un problema de salud dado al menor costo (razón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costo-efectividad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6127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asignativa y problema de prior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A quién asignar? ¿A quién le produce mayor valo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Bajo qué criterio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ite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olar lo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actores determina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enfermedades más relevantes desde el punto de vista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ntidad y 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fermedades que generan la mayor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rga de morta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para las que se cuenten con medidas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tervención de efectiv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robada;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s de salud que no matan, pero qu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isminuyen la 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personas, generando discapacidad, dolor y angust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erramientas epidemiológ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ciplina científica que estudia la distribución, frecuencia, determinantes, relaciones, predicciones y control de los factores relacionados con la salud y enfermedad en poblaciones human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s de mortalidad/morbi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valencia, proporción afec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idencia, rapidez de propa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de Hanlo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 los criterios que usa son amplitud del problema(A), severidad del problema(B), eficacia de la solución(C), factibilidad de la intervención(D).  El puntaje esta dado por la fórmula (A+B)C x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OPS-CEND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os criterios de priorización son magnitud del problema, trascendencia, vulnerabilidad, relación costo efecto y tende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Indice Q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considera en su cálculo, para cada enfermedad, la tasa de mortalidad ajustada por edad y sexo, respecto de la tasa de mortalidad estandarizada por edad y sexo para una población de referencia; la tasa bruta de mortalidad por 100.000 habitantes; los años de vida perdidos por muerte prematura; los días de hospitalización y el número de consultas externas, por cada 100.000 habitantes. Este índice tiene las ventajas de utilizar información generalmente disponible en las estadísticas tradicionales y la de agregar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rta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rbi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 una unidad de medida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étodo AVI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nsidera un componente cuantita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ños de vida perdidos por muerte prem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ños de vida perdidos por la discapacidad derivada de la enfermedad y sus secue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alor social de las muertes o de la discapa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un componente cualitativo derivado de la opinión de la pob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los métodos tienen ciertos componentes subje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701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étodos de prioriz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difíciles de llevar a la prác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ndamentos discutibles (estimación de problemas, determinación de eficacia de intervenciones,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n incorporar múltiples dimensiones: política, ética, való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1629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paso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mos en la clase anter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correlación (¿causalidad?) entre niveles de salud pública y desarrollo económ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niveles de salud pública y el gasto en salud (problema del uso alternativo de los recurso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discusión sobre el nivel (cualitativo y cuantitativo) de salud a garantiz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llas del “mercado de la salud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lemas intrínse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imetrías de información (Problema Principal-Agent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ja elasticidad de la deman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Doble) Riesgo Mor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ternalidades;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novación como “Bien Públic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podría ser “atacado” constitucionalmente un método/resultados de un sistema de prioriz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construir el argum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s deseable desde el punto del bienestar soc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xiste sólo una respuesta respecto del efecto de la dinámica constitucional sobre los sistema de prioriz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l resultado del diseño de políticas públicas en salud es “per se” mejor que el de la “dinámica constitucional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xiste alguna forma de “profilaxis constitucional” de las políticas públicas en salu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parentemente es parte del “medio ambiente” donde ocurr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lítica pública en salud = resultado neto entre (política original) +/- (dinámica constitucion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pas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23880" y="1904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s de mercado lleva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egar el mecanismo “sólo mercado”, como medio para lograr ciertos óptimos sociales/económico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ustificar la intervención estatal vía regulación y prestaciones directas … eventuales “nuevas” fa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siciones monopólicas ¿regulación de precios?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orsiones en la formación de precios (prestadores privados vs públicos; diferenciación no basada en prec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ventuales distorsiones adicionales por “dinámica constitucional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ntro del contexto señalado debe el Estado articular políticas y modelos para responder las clásicas preguntas económicas frente a “necesidades de salud infinita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“Bien Salud” como “Bien Privado”? = no por fallas de mercado y severos problemas de ac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Debe ser tratado el “Bien Salud” como un “bien público” en términos económicos? (no rival; no excluyente): ¿Acceso ilimitado y sin costo? ¿qué problemas gene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23880" y="19047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arentemente, como bien “cuasi-público” ¿uso más racional de los recursos? ¿cierto nivel de redistribució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ortancia del balance entre eficiencia y equ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El “Bien Salud” debe ser distribuido en forma distinta a otros bienes? ¿por qué? ¿sentido económico o sólo valóric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tiene importancia quién recibe el “Bien Salud”? ¿puede beneficiarse algunos más que otro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Existe algún parámetro únic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23880" y="1676160"/>
            <a:ext cx="70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Justificación de redistribución entre? ¿jóvenes-viejos? ¿población rural-urbana? ¿ricos-pobre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Llegar a un piso mínimo del “Bien Salud” sobre el cual construir parámetros de efici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Piso mínimo” es cambiante: a mayor desarrollo económico mayor “piso mínimo”; mayor presión sobre efici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productiva: producir el “Bien Salud” al menor cost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asign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es posible reorganizar o producir de una manera tal que alguien esté mejor sin que alguien salga perdie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95280" y="18288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asign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atisfacción o utilidad de una persona puede ser incrementada únicamente mediante la reducción de la utilidad de otra pers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isto en forma agregada, un mercado competitivo es eficiente en la medida en que los costos sociales y beneficios sociales coinci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bien es atribuido a quien más lo valora. En ausencia de fallas de mercado y costos de transacción (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R. Coas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, éste debiese concretarlo: NO ocurren en el “mercado de la salu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Cuál eficiencia en el “mercado de la salud”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Paret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no puede encontrarse una utilización alternativa del “Bien Salud” que ponga a una persona en mejores circunstancias sin empeorar a o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Kaldor-Hick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si los beneficios para algunos de una utilización alternativa del “Bien Salud” compensa los costos en dicho b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 most goods and services, heal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e is not consumed for its own sa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 for the expected positive contribution it will make to an individual’s heal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houg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 for some health care such as preventive services may be foreseen, for the most part need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predic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ause the incidence of illness or injury for an individual is itself unpredictable. Therefo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me forms of insurance can be effective and efficient econom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s for seeing that individuals in need receive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48:29Z</dcterms:created>
  <dc:creator>jlcarden</dc:creator>
  <dc:description/>
  <dc:language>en-US</dc:language>
  <cp:lastModifiedBy>jcardenas</cp:lastModifiedBy>
  <dcterms:modified xsi:type="dcterms:W3CDTF">2011-12-29T13:52:10Z</dcterms:modified>
  <cp:revision>117</cp:revision>
  <dc:subject/>
  <dc:title>Derecho Constitucional Económico</dc:title>
</cp:coreProperties>
</file>