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BF19-2703-4BEF-BBFB-235FE4A4C51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DC2E-77CE-4FF3-B024-9AFAA63F87F3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B123-6756-434A-BDF6-4B38AEF84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10EA-3527-41EE-AF82-52487267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3564-7A14-48D6-8821-FA35D949F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FF92-2318-46E6-8CE4-BED4B5268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5E6FF-754D-487E-A390-F8708D752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CD9D-5120-4D2A-93DF-053B4F60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688C-1735-4533-8E84-6BE7CEFB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002F-4AD8-4D5E-B479-135FD83DB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D41B-5CF4-4893-A881-0455BD99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A44A-843B-4D47-A0AE-501F3225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A478-3E69-449B-9C06-716EA49D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AEE6-708D-4B06-960C-E8157748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D922-6285-4615-99BA-BEA282DE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E6EED-03CA-4B07-87B4-3D47B28D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5ECB-A493-46C7-B157-3048833D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EC18-3426-4A39-BC90-CA69FA28B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6B21-3DF6-4351-8EBB-864A24308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7A84-4905-45BB-AE4C-E69251E7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1F82-BB37-40B2-BFB7-54906741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BF1E-9535-4ACB-9725-BC095E28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3EBE-720F-4B5C-B4F0-3A1472E5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886E-DA18-4F93-B802-20F0670C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04FA-7A25-4423-8F53-9794DDB9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B4C1-DBBC-4032-9332-C963F80E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4689-0FA0-4610-B72A-4F687FEAB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940F-492F-447F-A495-E7205529A666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Derecho Constitucional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Económico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286000" y="4952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osé Luis Cárdenas 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lase 15: 29 de diciembre de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ficiencia producti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Proveedores públicos o privado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Atención primaria o de especialid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Qué relevancia tiene el modelo? ¿concesion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centivos para reducir costos vs.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Regulación de precios? (baja elasticid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seguramiento de la calidad (asimetrías de inform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mportancia del financiamiento y el sistema de seguros (riesgo mor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ficiencia productiva y efe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ducir aquellos bienes o servicios que solucione un problema de salud dado al menor costo (razón 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costo-efectividad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8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828800" y="3429000"/>
            <a:ext cx="61279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ficiencia asignativa y problema de prior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¿A quién asignar? ¿A quién le produce mayor valo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¿Bajo qué criterio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3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riter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rolar los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factores determinant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enfermedades más relevantes desde el punto de vista d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antidad y calidad de vi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fermedades que generan la mayor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arga de mortalida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y para las que se cuenten con medidas d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intervención de efectivida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robada;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blemas de salud que no matan, pero qu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disminuyen la calidad de vi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las personas, generando discapacidad, dolor y angust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erramientas epidemiológ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ciplina científica que estudia la distribución, frecuencia, determinantes, relaciones, predicciones y control de los factores relacionados con la salud y enfermedad en poblaciones human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asas de mortalidad/morbili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valencia, proporción afec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cidencia, rapidez de propa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étodo de Hanlo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 los criterios que usa son amplitud del problema(A), severidad del problema(B), eficacia de la solución(C), factibilidad de la intervención(D).  El puntaje esta dado por la fórmula (A+B)C x 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étodo OPS-CEND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los criterios de priorización son magnitud del problema, trascendencia, vulnerabilidad, relación costo efecto y tendenci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Indice Q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considera en su cálculo, para cada enfermedad, la tasa de mortalidad ajustada por edad y sexo, respecto de la tasa de mortalidad estandarizada por edad y sexo para una población de referencia; la tasa bruta de mortalidad por 100.000 habitantes; los años de vida perdidos por muerte prematura; los días de hospitalización y el número de consultas externas, por cada 100.000 habitantes. Este índice tiene las ventajas de utilizar información generalmente disponible en las estadísticas tradicionales y la de agregar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ortalida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orbilida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n una unidad de medida comú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Método AVIS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onsidera un componente cuantitativ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ños de vida perdidos por muerte prem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ños de vida perdidos por la discapacidad derivada de la enfermedad y sus secue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alor social de las muertes o de la discapa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 un componente cualitativo derivado de la opinión de la pob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dos los métodos tienen ciertos componentes subje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9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70102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915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étodos de prioriz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n difíciles de llevar a la prác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undamentos discutibles (estimación de problemas, determinación de eficacia de intervenciones,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ben incorporar múltiples dimensiones: política, ética, való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4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1629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Repaso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imos en la clase anteri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correlación (¿causalidad?) entre niveles de salud pública y desarrollo económic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s niveles de salud pública y el gasto en salud (problema del uso alternativo de los recurso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discusión sobre el nivel (cualitativo y cuantitativo) de salud a garantiza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llas del “mercado de la salud”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lemas intrínsec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simetrías de información (Problema Principal-Agent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aja elasticidad de la demand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Doble) Riesgo Mor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ternalidades;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novación como “Bien Público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podría ser “atacado” constitucionalmente un método/resultados de un sistema de prioriz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construir el argumen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s deseable desde el punto del bienestar soc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xiste sólo una respuesta respecto del efecto de la dinámica constitucional sobre los sistema de prioriz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l resultado del diseño de políticas públicas en salud es “per se” mejor que el de la “dinámica constitucional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xiste alguna forma de “profilaxis constitucional” de las políticas públicas en salu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2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parentemente es parte del “medio ambiente” donde ocurr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olítica pública en salud = resultado neto entre (política original) +/- (dinámica constitucion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6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Repas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523880" y="1904760"/>
            <a:ext cx="7010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llas de mercado lleva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egar el mecanismo “sólo mercado”, como medio para lograr ciertos óptimos sociales/económico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ustificar la intervención estatal vía regulación y prestaciones directas … eventuales “nuevas” fal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siciones monopólicas ¿regulación de precios?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orsiones en la formación de precios (prestadores privados vs públicos; diferenciación no basada en prec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Eventuales distorsiones adicionales por “dinámica constitucional”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ntro del contexto señalado debe el Estado articular políticas y modelos para responder las clásicas preguntas económicas frente a “necesidades de salud infinita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“Bien Salud” como “Bien Privado”? = no por fallas de mercado y severos problemas de acc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Debe ser tratado el “Bien Salud” como un “bien público” en términos económicos? (no rival; no excluyente): ¿Acceso ilimitado y sin costo? ¿qué problemas gene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523880" y="1904760"/>
            <a:ext cx="701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parentemente, como bien “cuasi-público” ¿uso más racional de los recursos? ¿cierto nivel de redistribució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mportancia del balance entre eficiencia y equ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qu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El “Bien Salud” debe ser distribuido en forma distinta a otros bienes? ¿por qué? ¿sentido económico o sólo valórico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tiene importancia quién recibe el “Bien Salud”? ¿puede beneficiarse algunos más que otros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Existe algún parámetro único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23880" y="1676160"/>
            <a:ext cx="7010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qu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Justificación de redistribución entre? ¿jóvenes-viejos? ¿población rural-urbana? ¿ricos-pobres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Llegar a un piso mínimo del “Bien Salud” sobre el cual construir parámetros de eficienci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Piso mínimo” es cambiante: a mayor desarrollo económico mayor “piso mínimo”; mayor presión sobre eficienci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fici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Eficiencia productiva: producir el “Bien Salud” al menor cost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Eficiencia asignativa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es posible reorganizar o producir de una manera tal que alguien esté mejor sin que alguien salga perdie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295280" y="182880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fici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Eficiencia asignativa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satisfacción o utilidad de una persona puede ser incrementada únicamente mediante la reducción de la utilidad de otra perso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isto en forma agregada, un mercado competitivo es eficiente en la medida en que los costos sociales y beneficios sociales coinci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bien es atribuido a quien más lo valora. En ausencia de fallas de mercado y costos de transacción (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R. Coas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), éste debiese concretarlo: NO ocurren en el “mercado de la salud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fici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Cuál eficiencia en el “mercado de la salud”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Paret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no puede encontrarse una utilización alternativa del “Bien Salud” que ponga a una persona en mejores circunstancias sin empeorar a ot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Kaldor-Hick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si los beneficios para algunos de una utilización alternativa del “Bien Salud” compensa los costos en dicho bi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ike most goods and services, heal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e is not consumed for its own sak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 for the expected positive contribution it will make to an individual’s heal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thoug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ed for some health care such as preventive services may be foreseen, for the most part need 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predic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cause the incidence of illness or injury for an individual is itself unpredictable. Therefo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ome forms of insurance can be effective and efficient economi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hanisms for seeing that individuals in need receive ser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2296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00:48:29Z</dcterms:created>
  <dc:creator>jlcarden</dc:creator>
  <dc:description/>
  <dc:language>en-US</dc:language>
  <cp:lastModifiedBy>jcardenas</cp:lastModifiedBy>
  <dcterms:modified xsi:type="dcterms:W3CDTF">2011-12-29T13:52:10Z</dcterms:modified>
  <cp:revision>117</cp:revision>
  <dc:subject/>
  <dc:title>Derecho Constitucional Económico</dc:title>
</cp:coreProperties>
</file>