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DA4EA-0344-4895-81FC-42A32BABF3F0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FF0D5-E493-4C5C-9899-FC48DE9957C6}" type="slidenum">
              <a:rPr b="0" lang="es-ES" sz="12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A7C5B-2BBE-471A-A2AF-D377F9148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43FAB-9760-42CF-ABE5-77E398E6C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4F569-F259-4C72-8A18-4A0634FCD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86BC3-AA31-43AC-B587-E716F4904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B55D2-C7E9-488F-8EE8-0C4D9B24C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E6BDB-7D07-44F0-8F91-857D47379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FDC23-B380-4633-B589-0F7CF6C0F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41184-233E-4683-BC8E-A22D828C8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EAB84-3EDD-47E1-9F1F-C2F8019EC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B8193-89DE-40B1-BA68-B4DADF3DD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0D546-0C9B-41DC-827E-313E0F715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39477-AFF4-42A9-A928-DECE37C26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AA7D5-1A61-42F7-BA9F-A4ED460BB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8D0FE-3C03-4824-B4CC-9EA28DA48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B24D1-718A-4164-A697-13336376C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38D3D-D520-42A5-A432-A4C3A8793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E6203-1E4F-4691-B4B8-25E8ADE49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05F35-7858-4942-8982-985B006A6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6BC50-988D-4612-9D26-9DCCF157C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00BB4-6B2E-4240-87A8-07FC2C494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1253D-FC66-4AF1-8679-922896C1C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F5207-8708-47BE-BEE0-A7D39DA94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62BBF-5E87-4DB4-8470-266918CD6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61106-DCFB-4110-AE7C-A0A83C9D1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D° Constitucional Económico Montt &amp; Cárdena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B3395-BD90-4AB8-B9FD-CDC7F8D4B9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7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" name="Oval 8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" name="Oval 9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8" name="Oval 10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Line 7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6" name="Oval 8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7" name="Oval 9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8" name="Oval 10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336666"/>
                </a:solidFill>
                <a:latin typeface="Times New Roman"/>
              </a:rPr>
              <a:t>D° Constitucional Económico Montt &amp; Cárdena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4AA2B-9BAC-468D-98EB-802AC04F4D73}" type="slidenum">
              <a:rPr b="0" lang="en-US" sz="14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000000"/>
                </a:solidFill>
                <a:latin typeface="Arial"/>
              </a:rPr>
              <a:t>Derecho Constitucional</a:t>
            </a:r>
            <a:br>
              <a:rPr sz="4800"/>
            </a:br>
            <a:r>
              <a:rPr b="0" lang="es-CL" sz="4800" spc="-1" strike="noStrike">
                <a:solidFill>
                  <a:srgbClr val="000000"/>
                </a:solidFill>
                <a:latin typeface="Arial"/>
              </a:rPr>
              <a:t>Económico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2286000" y="4952520"/>
            <a:ext cx="632448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José Luis Cárdenas 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lase 15: 29 de diciembre de 20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Intervención Estatal: ¿Qué? ¿Cómo? ¿Para quién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ficiencia productiv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¿Proveedores públicos o privados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¿Atención primaria o de especialida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¿Qué relevancia tiene el modelo? ¿concesion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Incentivos para reducir costos vs. cal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¿Regulación de precios? (baja elasticida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seguramiento de la calidad (asimetrías de informació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Importancia del financiamiento y el sistema de seguros (riesgo mor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Date Placeholder 3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4" name="Slide Number Placeholder 4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Intervención Estatal: ¿Qué? ¿Cómo? ¿Para quién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ficiencia productiva y efectiv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roducir aquellos bienes o servicios que solucione un problema de salud dado al menor costo (razón </a:t>
            </a:r>
            <a:r>
              <a:rPr b="0" i="1" lang="es-CL" sz="2000" spc="-1" strike="noStrike">
                <a:solidFill>
                  <a:srgbClr val="000000"/>
                </a:solidFill>
                <a:latin typeface="Arial"/>
              </a:rPr>
              <a:t>costo-efectividad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3 Marcador de fecha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8" name="4 Marcador de número de diapositiva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828800" y="3429000"/>
            <a:ext cx="612792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Intervención Estatal: ¿Qué? ¿Cómo? ¿Para quién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ficiencia asignativa y problema de prioriz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¿A quién asignar? ¿A quién le produce mayor valor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¿Bajo qué criterios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3 Marcador de fecha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3" name="4 Marcador de número de diapositiva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447560" y="228600"/>
            <a:ext cx="701028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Intervención Estatal: ¿Qué? ¿Cómo? ¿Para quién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riteri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ontrolar los 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factores determinante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de enfermedades más relevantes desde el punto de vista de 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cantidad y calidad de vida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nfermedades que generan la mayor 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carga de mortalidad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y para las que se cuenten con medidas de 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intervención de efectividad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probada;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roblemas de salud que no matan, pero que 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disminuyen la calidad de vida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de las personas, generando discapacidad, dolor y angusti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3 Marcador de fecha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7" name="4 Marcador de número de diapositiva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Intervención Estatal: ¿Qué? ¿Cómo? ¿Para quién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Herramientas epidemiológic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isciplina científica que estudia la distribución, frecuencia, determinantes, relaciones, predicciones y control de los factores relacionados con la salud y enfermedad en poblaciones human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Tasas de mortalidad/morbilida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revalencia, proporción afect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Incidencia, rapidez de propag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Intervención Estatal: ¿Qué? ¿Cómo? ¿Para quién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Método de Hanlon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:  los criterios que usa son amplitud del problema(A), severidad del problema(B), eficacia de la solución(C), factibilidad de la intervención(D).  El puntaje esta dado por la fórmula (A+B)C x 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Método OPS-CENDES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los criterios de priorización son magnitud del problema, trascendencia, vulnerabilidad, relación costo efecto y tendencia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Intervención Estatal: ¿Qué? ¿Cómo? ¿Para quién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Indice Q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: considera en su cálculo, para cada enfermedad, la tasa de mortalidad ajustada por edad y sexo, respecto de la tasa de mortalidad estandarizada por edad y sexo para una población de referencia; la tasa bruta de mortalidad por 100.000 habitantes; los años de vida perdidos por muerte prematura; los días de hospitalización y el número de consultas externas, por cada 100.000 habitantes. Este índice tiene las ventajas de utilizar información generalmente disponible en las estadísticas tradicionales y la de agregar </a:t>
            </a:r>
            <a:r>
              <a:rPr b="0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mortalidad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0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morbilidad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en una unidad de medida comú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Intervención Estatal: ¿Qué? ¿Cómo? ¿Para quién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Método AVISA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: considera un componente cuantitativ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años de vida perdidos por muerte premat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años de vida perdidos por la discapacidad derivada de la enfermedad y sus secuel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valor social de las muertes o de la discapac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y un componente cualitativo derivado de la opinión de la pobl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Todos los métodos tienen ciertos componentes subjetiv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Intervención Estatal: ¿Qué? ¿Cómo? ¿Para quién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3 Marcador de fecha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9" name="4 Marcador de número de diapositiva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1219320" y="1752480"/>
            <a:ext cx="701028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39152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Intervención Estatal: ¿Qué? ¿Cómo? ¿Para quién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étodos de priorizació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on difíciles de llevar a la prác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fundamentos discutibles (estimación de problemas, determinación de eficacia de intervenciones,..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ben incorporar múltiples dimensiones: política, ética, valór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3 Marcador de fecha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4" name="4 Marcador de número de diapositiva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Date Placeholder 3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336666"/>
                </a:solidFill>
                <a:latin typeface="Arial"/>
              </a:rPr>
              <a:t>D° Constitucional Económico Montt &amp; Cárdenas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3520" y="190440"/>
            <a:ext cx="716292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Repaso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-253800">
              <a:lnSpc>
                <a:spcPct val="80000"/>
              </a:lnSpc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Vimos en la clase anteri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-21132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La correlación (¿causalidad?) entre niveles de salud pública y desarrollo económic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-21132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Los niveles de salud pública y el gasto en salud (problema del uso alternativo de los recursos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-21132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La discusión sobre el nivel (cualitativo y cuantitativo) de salud a garantizar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-21132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Fallas del “mercado de la salud”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45640" indent="-168840">
              <a:lnSpc>
                <a:spcPct val="80000"/>
              </a:lnSpc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roblemas intrínseco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45640" indent="-168840">
              <a:lnSpc>
                <a:spcPct val="80000"/>
              </a:lnSpc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simetrías de información (Problema Principal-Agent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45640" indent="-168840">
              <a:lnSpc>
                <a:spcPct val="80000"/>
              </a:lnSpc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Baja elasticidad de la demand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45640" indent="-168840">
              <a:lnSpc>
                <a:spcPct val="80000"/>
              </a:lnSpc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(Doble) Riesgo Moral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45640" indent="-168840">
              <a:lnSpc>
                <a:spcPct val="80000"/>
              </a:lnSpc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xternalidades; 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45640" indent="-168840">
              <a:lnSpc>
                <a:spcPct val="80000"/>
              </a:lnSpc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nnovación como “Bien Público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45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456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8456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8456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lvl="2" marL="8456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Intervención Estatal: ¿Qué? ¿Cómo? ¿Para quién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¿Cómo podría ser “atacado” constitucionalmente un método/resultados de un sistema de priorizació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¿Cómo construir el argument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¿Es deseable desde el punto del bienestar socia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3 Marcador de fecha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8" name="4 Marcador de número de diapositiva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Intervención Estatal: ¿Qué? ¿Cómo? ¿Para quién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¿Existe sólo una respuesta respecto del efecto de la dinámica constitucional sobre los sistema de priorizació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¿El resultado del diseño de políticas públicas en salud es “per se” mejor que el de la “dinámica constitucional”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¿Existe alguna forma de “profilaxis constitucional” de las políticas públicas en salu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3 Marcador de fecha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2" name="4 Marcador de número de diapositiva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Intervención Estatal: ¿Qué? ¿Cómo? ¿Para quién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Aparentemente es parte del “medio ambiente” donde ocurren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Política pública en salud = resultado neto entre (política original) +/- (dinámica constitucion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3 Marcador de fecha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6" name="4 Marcador de número de diapositiva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Repaso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523880" y="1904760"/>
            <a:ext cx="701064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Fallas de mercado llevan 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Negar el mecanismo “sólo mercado”, como medio para lograr ciertos óptimos sociales/económicos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Justificar la intervención estatal vía regulación y prestaciones directas … eventuales “nuevas” fall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osiciones monopólicas ¿regulación de precios?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istorsiones en la formación de precios (prestadores privados vs públicos; diferenciación no basada en preci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Arial"/>
              </a:rPr>
              <a:t>Eventuales distorsiones adicionales por “dinámica constitucional”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Date Placeholder 3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5" name="Slide Number Placeholder 4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Intervención Estatal: ¿Qué? ¿Cómo? ¿Para quién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entro del contexto señalado debe el Estado articular políticas y modelos para responder las clásicas preguntas económicas frente a “necesidades de salud infinitas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¿“Bien Salud” como “Bien Privado”? = no por fallas de mercado y severos problemas de acces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¿Debe ser tratado el “Bien Salud” como un “bien público” en términos económicos? (no rival; no excluyente): ¿Acceso ilimitado y sin costo? ¿qué problemas gener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Date Placeholder 3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9" name="Slide Number Placeholder 4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Intervención Estatal: ¿Qué? ¿Cómo? ¿Para quién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Date Placeholder 3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2" name="Slide Number Placeholder 4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523880" y="1904760"/>
            <a:ext cx="70106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parentemente, como bien “cuasi-público” ¿uso más racional de los recursos? ¿cierto nivel de redistribució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Importancia del balance entre eficiencia y equid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quida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Arial"/>
              </a:rPr>
              <a:t>¿El “Bien Salud” debe ser distribuido en forma distinta a otros bienes? ¿por qué? ¿sentido económico o sólo valórico?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Arial"/>
              </a:rPr>
              <a:t>¿tiene importancia quién recibe el “Bien Salud”? ¿puede beneficiarse algunos más que otros?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Arial"/>
              </a:rPr>
              <a:t>¿Existe algún parámetro único?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3880" y="228600"/>
            <a:ext cx="701064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Intervención Estatal: ¿Qué? ¿Cómo? ¿Para quién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523880" y="1676160"/>
            <a:ext cx="70106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quida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Arial"/>
              </a:rPr>
              <a:t>¿Justificación de redistribución entre? ¿jóvenes-viejos? ¿población rural-urbana? ¿ricos-pobres?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Arial"/>
              </a:rPr>
              <a:t>Llegar a un piso mínimo del “Bien Salud” sobre el cual construir parámetros de eficiencia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CL" sz="1900" spc="-1" strike="noStrike">
                <a:solidFill>
                  <a:srgbClr val="000000"/>
                </a:solidFill>
                <a:latin typeface="Arial"/>
              </a:rPr>
              <a:t>Piso mínimo” es cambiante: a mayor desarrollo económico mayor “piso mínimo”; mayor presión sobre eficiencia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ficienci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Arial"/>
              </a:rPr>
              <a:t>Eficiencia productiva: producir el “Bien Salud” al menor costo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Arial"/>
              </a:rPr>
              <a:t>Eficiencia asignativas: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o es posible reorganizar o producir de una manera tal que alguien esté mejor sin que alguien salga perdien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Date Placeholder 3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7" name="Slide Number Placeholder 4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Intervención Estatal: ¿Qué? ¿Cómo? ¿Para quién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295280" y="182880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ficienci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Arial"/>
              </a:rPr>
              <a:t>Eficiencia asignativas: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a satisfacción o utilidad de una persona puede ser incrementada únicamente mediante la reducción de la utilidad de otra perso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Visto en forma agregada, un mercado competitivo es eficiente en la medida en que los costos sociales y beneficios sociales coincid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l bien es atribuido a quien más lo valora. En ausencia de fallas de mercado y costos de transacción (</a:t>
            </a:r>
            <a:r>
              <a:rPr b="0" i="1" lang="es-CL" sz="1800" spc="-1" strike="noStrike">
                <a:solidFill>
                  <a:srgbClr val="000000"/>
                </a:solidFill>
                <a:latin typeface="Arial"/>
              </a:rPr>
              <a:t>R. Coase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), éste debiese concretarlo: NO ocurren en el “mercado de la salud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Date Placeholder 3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1" name="Slide Number Placeholder 4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Intervención Estatal: ¿Qué? ¿Cómo? ¿Para quién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ficienci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Arial"/>
              </a:rPr>
              <a:t>¿Cuál eficiencia en el “mercado de la salud”?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00"/>
                </a:solidFill>
                <a:latin typeface="Arial"/>
              </a:rPr>
              <a:t>Pareto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: no puede encontrarse una utilización alternativa del “Bien Salud” que ponga a una persona en mejores circunstancias sin empeorar a otr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00"/>
                </a:solidFill>
                <a:latin typeface="Arial"/>
              </a:rPr>
              <a:t>Kaldor-Hicks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: si los beneficios para algunos de una utilización alternativa del “Bien Salud” compensa los costos en dicho bi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Date Placeholder 3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5" name="Slide Number Placeholder 4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Intervención Estatal: ¿Qué? ¿Cómo? ¿Para quién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like most goods and services, health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are is not consumed for its own sak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ut for the expected positive contribution it will make to an individual’s healt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lthough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need for some health care such as preventive services may be foreseen, for the most part need is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unpredictab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ecause the incidence of illness or injury for an individual is itself unpredictable. Therefor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some forms of insurance can be effective and efficient economic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chanisms for seeing that individuals in need receive servi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Date Placeholder 3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9" name="Slide Number Placeholder 4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457200" y="1752480"/>
            <a:ext cx="822960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6T00:48:29Z</dcterms:created>
  <dc:creator>jlcarden</dc:creator>
  <dc:description/>
  <dc:language>en-US</dc:language>
  <cp:lastModifiedBy>jcardenas</cp:lastModifiedBy>
  <dcterms:modified xsi:type="dcterms:W3CDTF">2011-12-29T13:52:10Z</dcterms:modified>
  <cp:revision>117</cp:revision>
  <dc:subject/>
  <dc:title>Derecho Constitucional Económico</dc:title>
</cp:coreProperties>
</file>