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F8665-C437-4C1D-8CAD-1BFB236647DA}" type="slidenum">
              <a:rPr b="0" lang="es-E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69E64A-C725-450D-B9E9-2BC70DC2F4D4}" type="slidenum">
              <a:rPr b="0" lang="es-ES" sz="1200" spc="-1" strike="noStrike">
                <a:solidFill>
                  <a:srgbClr val="336666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2A5A-B2DB-4518-91F3-371AD3299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CFD00-F08B-45A7-9A1A-1DB7709C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91D57-8153-4A6C-82A0-CA5E3BFE91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C080E-63CD-4C95-92E3-4CDC775A20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E7896-4E48-42FF-9979-CBF855002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3752B-EAA9-43DB-BB5E-2C2A60C6C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35FDF-6814-413A-AB2D-6A029E4B9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4B1C9-A2EA-4A4D-9E8B-E560D6489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595A-E98E-421A-8B76-D63CC701D8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075F8-3BEA-4D27-8BD7-3054AE14B2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25222-12B9-4012-A2D8-070757C86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5C26C-296E-44B2-BFB5-745815A61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65CC9-9D22-41E1-AA1D-0519691AF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841CF-C860-493A-93D7-F1AF749D0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AD859-9978-4853-B8B5-0D4F21ABE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61F55-509E-4333-850A-299502F570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53B25-2EA9-430B-AA03-CB5E1C3E8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A2F91-DBAA-4E86-8F5B-216E4F05E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DB0-DEEE-4D07-BFE1-9141CE7C6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24F15-7D90-4745-B62C-CFFD884D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D739C-39BC-4B57-AAA6-8CD4A1E7B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2B1FA-C914-4833-85C3-8170B3222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CFFF6-3338-43C8-90A0-251784EE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6CAF9-7D67-4E73-B71C-29A8C68B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59ACE-C487-4E20-8031-786A0D4C18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33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99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cc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cccc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3366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Times New Roman"/>
              </a:rPr>
              <a:t>D° Constitucional Económico Montt &amp; Cárdenas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6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CD5D1-3A0D-4C72-A57D-04F2AC953961}" type="slidenum">
              <a:rPr b="0" lang="en-US" sz="1400" spc="-1" strike="noStrike">
                <a:solidFill>
                  <a:srgbClr val="3366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133360" y="1371600"/>
            <a:ext cx="6476760" cy="175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Derecho Constitucional</a:t>
            </a:r>
            <a:br>
              <a:rPr sz="4800"/>
            </a:br>
            <a:r>
              <a:rPr b="0" lang="es-CL" sz="4800" spc="-1" strike="noStrike">
                <a:solidFill>
                  <a:srgbClr val="000000"/>
                </a:solidFill>
                <a:latin typeface="Arial"/>
              </a:rPr>
              <a:t>Económico</a:t>
            </a:r>
            <a:br>
              <a:rPr sz="4800"/>
            </a:b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2286000" y="4952520"/>
            <a:ext cx="6324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osé Luis Cárdenas 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Clase 15: 29 de diciembre de 20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Proveedores públicos o privados?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Atención primaria o de especialidad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Qué relevancia tiene el modelo? ¿concesiones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entivos para reducir costos vs. calida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Regulación de precios? (baja elasticidad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seguramiento de la calidad (asimetrías de información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financiamiento y el sistema de seguros (riesgo mor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4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productiva y efectiv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Producir aquellos bienes o servicios que solucione un problema de salud dado al menor costo (razón </a:t>
            </a:r>
            <a:r>
              <a:rPr b="0" i="1" lang="es-CL" sz="2000" spc="-1" strike="noStrike">
                <a:solidFill>
                  <a:srgbClr val="000000"/>
                </a:solidFill>
                <a:latin typeface="Arial"/>
              </a:rPr>
              <a:t>costo-efectividad</a:t>
            </a: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3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828800" y="3429000"/>
            <a:ext cx="612792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ficiencia asignativa y problema de priorizació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A quién asignar? ¿A quién le produce mayor valor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200" spc="-1" strike="noStrike">
                <a:solidFill>
                  <a:srgbClr val="000000"/>
                </a:solidFill>
                <a:latin typeface="Arial"/>
              </a:rPr>
              <a:t>¿Bajo qué criterios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3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447560" y="22860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Criteri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Controlar los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factores determinantes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enfermedades más relevantes desde el punto de vista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ntidad y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Enfermedades que generan la mayor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carga de mortal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y para las que se cuenten con medidas d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intervención de efectividad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probada;</a:t>
            </a:r>
            <a:r>
              <a:rPr b="0" lang="es-E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oblemas de salud que no matan, pero que </a:t>
            </a:r>
            <a:r>
              <a:rPr b="0" lang="es-ES" sz="2000" spc="-1" strike="noStrike" u="sng">
                <a:solidFill>
                  <a:srgbClr val="000000"/>
                </a:solidFill>
                <a:uFillTx/>
                <a:latin typeface="Arial"/>
              </a:rPr>
              <a:t>disminuyen la calidad de vid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de las personas, generando discapacidad, dolor y angusti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47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Herramientas epidemiológ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isciplina científica que estudia la distribución, frecuencia, determinantes, relaciones, predicciones y control de los factores relacionados con la salud y enfermedad en poblaciones humanas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Tasas de mortalidad/morbilidad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Prevalencia, proporción afect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ncidencia, rapidez de propagació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de Hanlon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 los criterios que usa son amplitud del problema(A), severidad del problema(B), eficacia de la solución(C), factibilidad de la intervención(D).  El puntaje esta dado por la fórmula (A+B)C x 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étodo OPS-CENDES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los criterios de priorización son magnitud del problema, trascendencia, vulnerabilidad, relación costo efecto y tendencia</a:t>
            </a: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Indice Q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: considera en su cálculo, para cada enfermedad, la tasa de mortalidad ajustada por edad y sexo, respecto de la tasa de mortalidad estandarizada por edad y sexo para una población de referencia; la tasa bruta de mortalidad por 100.000 habitantes; los años de vida perdidos por muerte prematura; los días de hospitalización y el número de consultas externas, por cada 100.000 habitantes. Este índice tiene las ventajas de utilizar información generalmente disponible en las estadísticas tradicionales y la de agregar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ta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y </a:t>
            </a:r>
            <a:r>
              <a:rPr b="0" lang="es-ES_tradnl" sz="2000" spc="-1" strike="noStrike" u="sng">
                <a:solidFill>
                  <a:srgbClr val="000000"/>
                </a:solidFill>
                <a:uFillTx/>
                <a:latin typeface="Arial"/>
              </a:rPr>
              <a:t>morbilidad</a:t>
            </a:r>
            <a:r>
              <a:rPr b="0" lang="es-ES_tradnl" sz="2000" spc="-1" strike="noStrike">
                <a:solidFill>
                  <a:srgbClr val="000000"/>
                </a:solidFill>
                <a:latin typeface="Arial"/>
              </a:rPr>
              <a:t> en una unidad de medida comú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400" spc="-1" strike="noStrike" u="sng">
                <a:solidFill>
                  <a:srgbClr val="000000"/>
                </a:solidFill>
                <a:uFillTx/>
                <a:latin typeface="Arial"/>
              </a:rPr>
              <a:t>Método AVISA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nsidera un componente cuantitativo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muerte premat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años de vida perdidos por la discapacidad derivada de la enfermedad y sus secuel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valor social de las muertes o de la discapacid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y un componente cualitativo derivado de la opinión de la pobl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Todos los métodos tienen ciertos componentes subjeti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59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1219320" y="1752480"/>
            <a:ext cx="701028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3915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Métodos de priorización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son difíciles de llevar a la práct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fundamentos discutibles (estimación de problemas, determinación de eficacia de intervenciones,.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deben incorporar múltiples dimensiones: política, ética, való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4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336666"/>
                </a:solidFill>
                <a:latin typeface="Arial"/>
              </a:rPr>
              <a:t>D° Constitucional Económico Montt &amp; Cárdenas </a:t>
            </a:r>
            <a:endParaRPr b="0" lang="en-US" sz="10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3520" y="190440"/>
            <a:ext cx="716292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marL="253800" indent="-253800">
              <a:lnSpc>
                <a:spcPct val="80000"/>
              </a:lnSpc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Vimos en la clase anterio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correlación (¿causalidad?) entre niveles de salud pública y desarrollo económico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os niveles de salud pública y el gasto en salud (problema del uso alternativo de los recursos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La discusión sobre el nivel (cualitativo y cuantitativo) de salud a garantizar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-211320">
              <a:lnSpc>
                <a:spcPct val="80000"/>
              </a:lnSpc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Fallas del “mercado de la salud”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roblemas intrínsecos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Asimetrías de información (Problema Principal-Agent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Baja elasticidad de la demanda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Doble) Riesgo Mor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xternalidades;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-168840">
              <a:lnSpc>
                <a:spcPct val="80000"/>
              </a:lnSpc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Innovación como “Bien Público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2" marL="84564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lvl="1" marL="549720" indent="0">
              <a:lnSpc>
                <a:spcPct val="80000"/>
              </a:lnSpc>
              <a:spcBef>
                <a:spcPts val="1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podría ser “atacado” constitucionalmente un método/resultados de un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Cómo construir el argument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s deseable desde el punto del bienestar social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68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sólo una respuesta respecto del efecto de la dinámica constitucional sobre los sistema de priorización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l resultado del diseño de políticas públicas en salud es “per se” mejor que el de la “dinámica constitucional”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¿Existe alguna forma de “profilaxis constitucional” de las políticas públicas en salu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2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Aparentemente es parte del “medio ambiente” donde ocurren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000" spc="-1" strike="noStrike">
                <a:solidFill>
                  <a:srgbClr val="000000"/>
                </a:solidFill>
                <a:latin typeface="Arial"/>
              </a:rPr>
              <a:t>Política pública en salud = resultado neto entre (política original) +/- (dinámica constitucion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3 Marcador de fecha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76" name="4 Marcador de número de diapositiva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Repaso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1523880" y="1904760"/>
            <a:ext cx="701064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Fallas de mercado llevan 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Negar el mecanismo “sólo mercado”, como medio para lograr ciertos óptimos sociales/económicos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Justificar la intervención estatal vía regulación y prestaciones directas … eventuales “nuevas” fall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Posiciones monopólicas ¿regulación de precios?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Distorsiones en la formación de precios (prestadores privados vs públicos; diferenciación no basada en prec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100" spc="-1" strike="noStrike">
                <a:solidFill>
                  <a:srgbClr val="000000"/>
                </a:solidFill>
                <a:latin typeface="Arial"/>
              </a:rPr>
              <a:t>Eventuales distorsiones adicionales por “dinámica constitucional”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524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Dentro del contexto señalado debe el Estado articular políticas y modelos para responder las clásicas preguntas económicas frente a “necesidades de salud infinitas”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¿“Bien Salud” como “Bien Privado”? = no por fallas de mercado y severos problemas de acces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¿Debe ser tratado el “Bien Salud” como un “bien público” en términos económicos? (no rival; no excluyente): ¿Acceso ilimitado y sin costo? ¿qué problemas genera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0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2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1523880" y="1904760"/>
            <a:ext cx="70106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Arial"/>
              </a:rPr>
              <a:t>Aparentemente, como bien “cuasi-público” ¿uso más racional de los recursos? ¿cierto nivel de redistribució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Importancia del balance entre eficiencia y equidad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l “Bien Salud” debe ser distribuido en forma distinta a otros bienes? ¿por qué? ¿sentido económico o sólo valór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tiene importancia quién recibe el “Bien Salud”? ¿puede beneficiarse algunos más que otro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Existe algún parámetro único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76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523880" y="228600"/>
            <a:ext cx="701064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1523880" y="1676160"/>
            <a:ext cx="70106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quida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Justificación de redistribución entre? ¿jóvenes-viejos? ¿población rural-urbana? ¿ricos-pobres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Llegar a un piso mínimo del “Bien Salud” sobre el cual construir parámetros d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Piso mínimo” es cambiante: a mayor desarrollo económico mayor “piso mínimo”; mayor presión sobre eficiencia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productiva: producir el “Bien Salud” al menor costo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no es posible reorganizar o producir de una manera tal que alguien esté mejor sin que alguien salga perdie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17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1295280" y="182880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Eficiencia asignativas: 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La satisfacción o utilidad de una persona puede ser incrementada únicamente mediante la reducción de la utilidad de otra perso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Visto en forma agregada, un mercado competitivo es eficiente en la medida en que los costos sociales y beneficios sociales coincid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El bien es atribuido a quien más lo valora. En ausencia de fallas de mercado y costos de transacción (</a:t>
            </a: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R. Coase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), éste debiese concretarlo: NO ocurren en el “mercado de la salud”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1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ficienci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76"/>
              </a:spcBef>
              <a:buClr>
                <a:srgbClr val="99cc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Arial"/>
              </a:rPr>
              <a:t>¿Cuál eficiencia en el “mercado de la salud”?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Pareto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no puede encontrarse una utilización alternativa del “Bien Salud” que ponga a una persona en mejores circunstancias sin empeorar a o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CL" sz="1800" spc="-1" strike="noStrike">
                <a:solidFill>
                  <a:srgbClr val="000000"/>
                </a:solidFill>
                <a:latin typeface="Arial"/>
              </a:rPr>
              <a:t>Kaldor-Hicks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: si los beneficios para algunos de una utilización alternativa del “Bien Salud” compensa los costos en dicho bie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cccccc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5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200" spc="-1" strike="noStrike">
                <a:solidFill>
                  <a:srgbClr val="000000"/>
                </a:solidFill>
                <a:latin typeface="Arial"/>
              </a:rPr>
              <a:t>Intervención Estatal: ¿Qué? ¿Cómo? ¿Para quién?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like most goods and services, health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care is not consumed for its own sak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ut for the expected positive contribution it will make to an individual’s health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Although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need for some health care such as preventive services may be foreseen, for the most part need is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unpredictab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because the incidence of illness or injury for an individual is itself unpredictable. Therefore </a:t>
            </a: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some forms of insurance can be effective and efficient economic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chanisms for seeing that individuals in need receive servi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336666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Date Placeholder 3"/>
          <p:cNvSpPr/>
          <p:nvPr/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sp>
        <p:nvSpPr>
          <p:cNvPr id="129" name="Slide Number Placeholder 4"/>
          <p:cNvSpPr/>
          <p:nvPr/>
        </p:nvSpPr>
        <p:spPr>
          <a:xfrm>
            <a:off x="152388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6666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7200" y="1752480"/>
            <a:ext cx="8229600" cy="4496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06T00:48:29Z</dcterms:created>
  <dc:creator>jlcarden</dc:creator>
  <dc:description/>
  <dc:language>en-US</dc:language>
  <cp:lastModifiedBy>jcardenas</cp:lastModifiedBy>
  <dcterms:modified xsi:type="dcterms:W3CDTF">2011-12-29T13:52:10Z</dcterms:modified>
  <cp:revision>117</cp:revision>
  <dc:subject/>
  <dc:title>Derecho Constitucional Económico</dc:title>
</cp:coreProperties>
</file>