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24AD-9823-4A0B-BE8F-E1DB245469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9D7D-1CE5-428C-9DA9-D1CDC103A10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C4B92-EC27-42C7-AB36-14AD00C02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8388F-CBBA-48CD-A91E-4A658F1F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28879-FD9B-46BA-B0DF-C4A2D44DA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BC484-B1E5-46DA-BF85-1B8E0DE74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B2636-94D6-4209-8DE7-F7E15F6AE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8C569-2938-4ED1-8AFD-D10DA2B6B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D0B22-1F99-405D-9824-106F97DD8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725EF-0BE9-4FED-A778-9461263BD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F8190-9AB4-4A82-A5A6-007704D18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07BD7-F1D1-42E5-B9C1-744EE52F5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1E7C-FC0F-4F2A-88C8-137502CD5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57B1-71BF-4EFD-B270-62CAAA83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B4D9-9B7F-43E3-86D6-A1DD2E60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9DB3-E867-4721-B325-243EE92CE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AE65-76E0-47DF-A36C-1E7A0A902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562DB-2595-426B-AFEC-3D0A759E9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AEA86-244D-4692-B586-9461A5199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37B31-C277-4130-A433-11795DC5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90CF-1A83-460A-A1DF-D082B400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8295-489F-493A-8244-C837105E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9E07-1826-4320-AF65-64280F41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122E-4FB0-430B-AFAC-067E3BE3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FC7A-6FFD-4435-A3AB-AF6CB0B2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03FB-DF7E-4613-ACEB-E88F0ABB6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D98F-0FCC-4744-9737-BA6404810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ECB2-8DD5-4214-8818-1BECA1F991E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4: 27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2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5"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3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9"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z</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47"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4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51"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5"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59"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0"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63"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5"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3"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5"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7"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9"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12"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1-12-27T01:02:20Z</dcterms:modified>
  <cp:revision>117</cp:revision>
  <dc:subject/>
  <dc:title>Derecho Constitucional Económico</dc:title>
</cp:coreProperties>
</file>