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D6D8-01B0-47DD-8509-E845B7E24B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061F-226F-42C3-9AB2-24AD8F636F3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277E6-654B-478C-B691-18D6668B6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7CA6-0E6B-4BFF-9669-A6089915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33347-A56D-4E32-A0FE-7AD4BE28D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421EF-B95E-46AB-B4EE-DA31830B5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56349-0D19-4615-A9B0-DB6829538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5D875-879D-498A-9450-6EFB1F527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B462A-3995-4770-949F-FB3B2CBCC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6896-9BF6-4CFB-9C2A-65B262612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4D65F-E506-4958-9D3E-0077F477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FAA7A-B62A-4462-ABDB-1DB6D2C7E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4488-4A60-41E2-807C-6EA03DEE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C16FA-3BEF-4A88-A6EC-B219D0B4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6E5DE-D6F6-4B91-8B4D-A302D277E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C64ED-DB7C-406C-8A7B-95FA34904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B8404-05EB-4603-BD5A-5D5F2D035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8B192-4523-4F1F-A0B6-C41B6F562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5C9C2-ADE0-4BD1-B3D0-2C52807C9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458D-17A0-4A86-9DF0-08412EAD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3143F-A6AA-40B2-A508-30DD5D86A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896B9-2C5C-4170-B0E1-24932FEF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0BB2-FB80-4873-8D91-F3D6229EA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7E67-CD3E-461B-BCFE-D90CF49B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481C-660B-49CF-8414-326640D5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185A-12D5-4997-96F6-7521BF0B8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9A21-D434-450B-88ED-B59791E5E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828E-EFBC-4B61-BE55-6B5E3C66E8C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4: 27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2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5"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3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9"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z</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47"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4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51"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9"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6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3"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5"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7"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9"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12"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1-12-27T01:02:20Z</dcterms:modified>
  <cp:revision>117</cp:revision>
  <dc:subject/>
  <dc:title>Derecho Constitucional Económico</dc:title>
</cp:coreProperties>
</file>