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80D3-05EF-4D3E-9F87-371DFF66964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3A7A-755D-40D0-84C7-4BFABD378C6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8721F-CFFB-47B5-86BF-1966BDE6E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D6774-E5F8-4D51-8928-25BA2F96B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F957F-51CF-4D69-B617-EA0CF0C41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F4175-F72D-40B1-9BBD-80A56FBDD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115C3-26FC-4980-A856-A2CB08757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EBF97-8772-40FF-88F5-7AD0CAA4A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6E027-C25E-4091-ADB9-3B9B22BB2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AEE43-72EF-4817-8E2E-E4339FB04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48C10-8030-4E5C-96D9-C84262FA4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6E655-C8DA-4CF6-BE52-7CD205588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1311B-C1B4-4E00-A6A8-566CD29AA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0B1CC-7649-4AFC-8F1B-6A9A73BC3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142ED-5C28-42D4-914E-DD8696D1B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D2D45-15F1-4C97-AAFE-2AA571648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F23B9-37AA-4F98-9250-5E05F4DEE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E830E-5E37-475C-BED5-1E91932A8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52660-A3F9-42AA-AB39-AFB641951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8BB2F-5489-40B8-93CD-BE09F77BF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AD3D2-1063-41A5-A17E-516783BA1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666D3-7EF7-40EE-988A-B7AF24912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4E4CD-49C8-4549-AC09-B0B0F2622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BAAAA-B64B-4250-889B-BC59BE11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01804-69FD-4DED-B040-236CB7F58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F57CE-4204-46DA-B298-BA79317B1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2865-A364-4985-A481-5A7FBFB2A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EC01-9ABE-41EC-A22B-A9C36C3AE8AE}"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1: 15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ículo 65 de la CPR, inciso cuarto, en su Nº 1, otorga iniciativa exclusiva al Presidente de la República en materia tributari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de este modo, esta Magistratura ha sostenido que los elementos esenciales de la obligación tributaria deben quedar fijados suficientemente en la ley, no pudiendo efectuarse remisiones vagas y genéricas a la potestad reglamentaria de ejecución” (considerando 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mentos esencial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cho imponibl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sujetos obligados al pag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procedimiento para determinar la base imponibl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tas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las situaciones de exención y las infrac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n suma, es la ley la encargada de precisar los elementos esenciales de la obligación tributaria, pudiendo la potestad reglamentaria de ejecución </a:t>
            </a:r>
            <a:r>
              <a:rPr b="0" i="1" lang="en-US" sz="2400" spc="-1" strike="noStrike">
                <a:solidFill>
                  <a:srgbClr val="000000"/>
                </a:solidFill>
                <a:latin typeface="Arial"/>
              </a:rPr>
              <a:t>sólo desarrollar aspectos de detalle técnico que</a:t>
            </a:r>
            <a:r>
              <a:rPr b="0" lang="en-US" sz="2400" spc="-1" strike="noStrike">
                <a:solidFill>
                  <a:srgbClr val="000000"/>
                </a:solidFill>
                <a:latin typeface="Arial"/>
              </a:rPr>
              <a:t>, por su propia naturaleza, el legislador no puede regular, pero que éste debe delimitar con suficiente </a:t>
            </a:r>
            <a:r>
              <a:rPr b="0" i="1" lang="en-US" sz="2400" spc="-1" strike="noStrike">
                <a:solidFill>
                  <a:srgbClr val="000000"/>
                </a:solidFill>
                <a:latin typeface="Arial"/>
              </a:rPr>
              <a:t>claridad y determinació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Necesidad de Convenios</a:t>
            </a:r>
            <a:endParaRPr b="0" lang="en-US" sz="3800" spc="-1" strike="noStrike">
              <a:solidFill>
                <a:srgbClr val="000000"/>
              </a:solidFill>
              <a:latin typeface="Arial"/>
            </a:endParaRPr>
          </a:p>
        </p:txBody>
      </p:sp>
      <p:sp>
        <p:nvSpPr>
          <p:cNvPr id="15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Condicionamiento de la exención a la suscripción de convenios por parte de clubes deportivos con colegios municipalizados o particulares subencionados.</a:t>
            </a:r>
            <a:endParaRPr b="0" lang="en-US" sz="1800" spc="-1" strike="noStrike">
              <a:solidFill>
                <a:srgbClr val="000000"/>
              </a:solidFill>
              <a:latin typeface="Arial"/>
            </a:endParaRPr>
          </a:p>
          <a:p>
            <a:pPr lvl="1" marL="743040" indent="-285840">
              <a:lnSpc>
                <a:spcPct val="8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700" spc="-1" strike="noStrike">
                <a:solidFill>
                  <a:srgbClr val="000000"/>
                </a:solidFill>
                <a:latin typeface="Arial"/>
              </a:rPr>
              <a:t>Generaría la imposibilidad de uso por los socios</a:t>
            </a:r>
            <a:endParaRPr b="0" lang="en-US" sz="1700" spc="-1" strike="noStrike">
              <a:solidFill>
                <a:srgbClr val="000000"/>
              </a:solidFill>
              <a:latin typeface="Arial"/>
            </a:endParaRPr>
          </a:p>
          <a:p>
            <a:pPr lvl="1" marL="743040" indent="-285840">
              <a:lnSpc>
                <a:spcPct val="8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700" spc="-1" strike="noStrike">
                <a:solidFill>
                  <a:srgbClr val="000000"/>
                </a:solidFill>
                <a:latin typeface="Arial"/>
              </a:rPr>
              <a:t>Autoridad administrativa la que otorgaría la exención (19 N° 21 y  24)</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Necesidad de Convenios</a:t>
            </a:r>
            <a:endParaRPr b="0" lang="en-US" sz="3800" spc="-1" strike="noStrike">
              <a:solidFill>
                <a:srgbClr val="000000"/>
              </a:solidFill>
              <a:latin typeface="Arial"/>
            </a:endParaRPr>
          </a:p>
        </p:txBody>
      </p:sp>
      <p:sp>
        <p:nvSpPr>
          <p:cNvPr id="152" name="PlaceHolder 2"/>
          <p:cNvSpPr>
            <a:spLocks noGrp="1"/>
          </p:cNvSpPr>
          <p:nvPr>
            <p:ph/>
          </p:nvPr>
        </p:nvSpPr>
        <p:spPr>
          <a:xfrm>
            <a:off x="1523880" y="2209680"/>
            <a:ext cx="7010640" cy="381024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efecto, como lo señala la disposición legal que se impugna, los referidos convenios serán ‘establecidos en virtud del Reglamento’ que al respecto dicte la autoridad administrativa, lo que supone en el hecho que las condiciones para poder gozar de la exención estarán fijadas en una norma infralegal, lo que contraviene lo dispuesto en los artículos 19 Nº 20, 63 y 65 de la Constitución Política de la República, en los términos señalados en el capítulo II de la presente sentencia” (considerando 8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Necesidad de Convenios</a:t>
            </a:r>
            <a:endParaRPr b="0" lang="en-US" sz="38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Que, de este modo, el precepto legal que se impugna contiene una </a:t>
            </a:r>
            <a:r>
              <a:rPr b="0" lang="es-ES" sz="1700" spc="-1" strike="noStrike" u="sng">
                <a:solidFill>
                  <a:srgbClr val="000000"/>
                </a:solidFill>
                <a:uFillTx/>
                <a:latin typeface="Arial"/>
              </a:rPr>
              <a:t>remisión normativa pura y simple a la potestad reglamentaria de ejecución, sin señalamiento de pauta alguna a la que deba sujetarse la autoridad administrativa</a:t>
            </a:r>
            <a:r>
              <a:rPr b="0" lang="es-ES" sz="1700" spc="-1" strike="noStrike">
                <a:solidFill>
                  <a:srgbClr val="000000"/>
                </a:solidFill>
                <a:latin typeface="Arial"/>
              </a:rPr>
              <a:t>, lo que repugna al principio de legalidad tributaria, en los términos que se ha señalado en los capítulos II y III del presente fallo.</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Así, al tenor del precepto legal que se cuestiona, será el Reglamento el que establecerá –por sí y ante sí las condiciones y características que deban reunir los convenios que corresponda suscribir a los recintos deportivos particulares para que en definitiva puedan gozar de la exención del pago del impuesto territorial, limitándose a indicar exclusivamente que el sujeto</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beneficiario del uso gratuito de las instalaciones será</a:t>
            </a:r>
            <a:r>
              <a:rPr b="0" lang="es-ES" sz="1700" spc="-1" strike="noStrike">
                <a:solidFill>
                  <a:srgbClr val="000000"/>
                </a:solidFill>
                <a:latin typeface="Arial"/>
              </a:rPr>
              <a:t>	</a:t>
            </a:r>
            <a:r>
              <a:rPr b="0" lang="es-ES" sz="1700" spc="-1" strike="noStrike">
                <a:solidFill>
                  <a:srgbClr val="000000"/>
                </a:solidFill>
                <a:latin typeface="Arial"/>
              </a:rPr>
              <a:t>un colegio municipalizado o, en su caso, un particular subvencionado” (considerando 88°)</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ara recordar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0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0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1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1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1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1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2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2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2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istema tributario no es “neutro”, puede generar distorsion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licado balance entre beneficios (redistribución, incentivos) vs. costos (pérdida en eficiencia/competitividad)</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ompetencia tributaria “glob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incipios constitucional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inimizar distorsion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egitimar discrimin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Antecedentes Generales</a:t>
            </a:r>
            <a:endParaRPr b="0" lang="en-US" sz="4200" spc="-1" strike="noStrike">
              <a:solidFill>
                <a:srgbClr val="000000"/>
              </a:solidFill>
              <a:latin typeface="Arial"/>
            </a:endParaRPr>
          </a:p>
        </p:txBody>
      </p:sp>
      <p:sp>
        <p:nvSpPr>
          <p:cNvPr id="130"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ciedad Anónima de Deportes Manquehue, formula una acción de inaplicabilidad por inconstitucionalidad respecto de los artículos 1°, 3°, 4°, 5°, 7°, 10, 12 y 16 de la Ley N° 17.235 y del artículo 2° de la Ley N° 20.033, en la parte que ordena reemplazar el cuadro Anexo N°1 de la Ley N° 17.235, nómina de exenciones al impuesto territorial, párrafo I, exención del 100%, letra b), número 3. Además, respecto del artículo 2° de la Ley N° 17.235, en la parte referida al cuadro anexo N° 1, nómina de exenciones al impuesto territorial, párrafo I, exención del 100%, letra b, número 3. </a:t>
            </a:r>
            <a:endParaRPr b="0" lang="en-US" sz="1800" spc="-1" strike="noStrike">
              <a:solidFill>
                <a:srgbClr val="000000"/>
              </a:solidFill>
              <a:latin typeface="Arial"/>
            </a:endParaRPr>
          </a:p>
        </p:txBody>
      </p:sp>
      <p:sp>
        <p:nvSpPr>
          <p:cNvPr id="13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3E67-E861-44FA-B142-582AAB9B562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Caso “Manquehue”: Antecedentes Generales</a:t>
            </a:r>
            <a:endParaRPr b="0" lang="en-US" sz="46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vitar la pérdida de la exención del impuesto territo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n términos de justicia tributar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aso “Manquehue”: Reproches: Grava Patrimonio</a:t>
            </a:r>
            <a:endParaRPr b="0" lang="en-US" sz="3800" spc="-1" strike="noStrike">
              <a:solidFill>
                <a:srgbClr val="000000"/>
              </a:solidFill>
              <a:latin typeface="Arial"/>
            </a:endParaRPr>
          </a:p>
        </p:txBody>
      </p:sp>
      <p:sp>
        <p:nvSpPr>
          <p:cNvPr id="136"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ículo 19 N° 20 CPR, sólo autorizaría gravar a las rentas, no al patrimonio. </a:t>
            </a:r>
            <a:endParaRPr b="0" lang="en-US" sz="20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Desproporcionado e injusto</a:t>
            </a:r>
            <a:endParaRPr b="0" lang="en-US" sz="19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nta también podría englobar al Impuesto Territori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Cualquiera que sea su naturalez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 se acredita la desproporción</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uál era el riesgo de señalar que sólo se podía gravar la “renta”? … ¿efecto colateral?</a:t>
            </a:r>
            <a:endParaRPr b="0" lang="en-US" sz="2000" spc="-1" strike="noStrike">
              <a:solidFill>
                <a:srgbClr val="000000"/>
              </a:solidFill>
              <a:latin typeface="Arial"/>
            </a:endParaRPr>
          </a:p>
        </p:txBody>
      </p:sp>
      <p:sp>
        <p:nvSpPr>
          <p:cNvPr id="13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2E3D-7DBD-45CD-AD8C-DDAEDB16670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ción de la base imponible y la tasa, mediante actos administrativos:</a:t>
            </a:r>
            <a:endParaRPr b="0" lang="en-US" sz="20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Reevalúo (no aumento de más de 10% - 25%)</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Instrucciones técnicas – administrativas del SII</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Formación de rol de avalúos</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Fijación de tasa por DS (no superación de límite máximo)</a:t>
            </a:r>
            <a:endParaRPr b="0" lang="en-US" sz="19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Modificación de avalúos</a:t>
            </a: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Manquehue”: Reproches: Reserva Legal</a:t>
            </a:r>
            <a:endParaRPr b="0" lang="en-US" sz="4200" spc="-1" strike="noStrike">
              <a:solidFill>
                <a:srgbClr val="000000"/>
              </a:solidFill>
              <a:latin typeface="Arial"/>
            </a:endParaRPr>
          </a:p>
        </p:txBody>
      </p:sp>
      <p:sp>
        <p:nvSpPr>
          <p:cNvPr id="14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La Constitución asegura a todas las person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º. </a:t>
            </a:r>
            <a:r>
              <a:rPr b="0" i="1" lang="en-US" sz="1600" spc="-1" strike="noStrike">
                <a:solidFill>
                  <a:srgbClr val="000000"/>
                </a:solidFill>
                <a:latin typeface="Arial"/>
              </a:rPr>
              <a:t>La igual repartición de los tributos 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roporción a las rentas o en la progresión o form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que fije la </a:t>
            </a:r>
            <a:r>
              <a:rPr b="0" i="1" lang="en-US" sz="1600" spc="-1" strike="noStrike" u="sng">
                <a:solidFill>
                  <a:srgbClr val="000000"/>
                </a:solidFill>
                <a:uFillTx/>
                <a:latin typeface="Arial"/>
              </a:rPr>
              <a:t>ley</a:t>
            </a:r>
            <a:r>
              <a:rPr b="0" i="1" lang="en-US" sz="1600" spc="-1" strike="noStrike">
                <a:solidFill>
                  <a:srgbClr val="000000"/>
                </a:solidFill>
                <a:latin typeface="Arial"/>
              </a:rPr>
              <a:t>, y la igual repartición de las demá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argas públic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En ningún caso la </a:t>
            </a:r>
            <a:r>
              <a:rPr b="0" i="1" lang="en-US" sz="1600" spc="-1" strike="noStrike" u="sng">
                <a:solidFill>
                  <a:srgbClr val="000000"/>
                </a:solidFill>
                <a:uFillTx/>
                <a:latin typeface="Arial"/>
              </a:rPr>
              <a:t>ley</a:t>
            </a:r>
            <a:r>
              <a:rPr b="0" i="1" lang="en-US" sz="1600" spc="-1" strike="noStrike">
                <a:solidFill>
                  <a:srgbClr val="000000"/>
                </a:solidFill>
                <a:latin typeface="Arial"/>
              </a:rPr>
              <a:t> podrá establecer tributos manifiestamente desproporcionados o injust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Los tributos que se recauden, cualquiera que sea su naturaleza, ingresarán al patrimonio de la Nación y no podrán estar afectos a un destino determinad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Sin embargo, la </a:t>
            </a:r>
            <a:r>
              <a:rPr b="0" i="1" lang="en-US" sz="1600" spc="-1" strike="noStrike" u="sng">
                <a:solidFill>
                  <a:srgbClr val="000000"/>
                </a:solidFill>
                <a:uFillTx/>
                <a:latin typeface="Arial"/>
              </a:rPr>
              <a:t>ley</a:t>
            </a:r>
            <a:r>
              <a:rPr b="0" i="1" lang="en-US" sz="1600" spc="-1" strike="noStrike">
                <a:solidFill>
                  <a:srgbClr val="000000"/>
                </a:solidFill>
                <a:latin typeface="Arial"/>
              </a:rPr>
              <a:t> podrá autorizar que determinados tributos puedan estar afectados a fines propios de la defensa nacional. Asimismo, podrá autorizar que los que gravan actividades o bienes que tengan una clara identificación regional o local puedan ser aplicados, dentro de los marcos que la misma ley señale, por las autoridades regionales o comunales para el financiamiento de obras de desarrol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2-13T18:24:03Z</dcterms:modified>
  <cp:revision>53</cp:revision>
  <dc:subject/>
  <dc:title>Derecho Constitucional Económico</dc:title>
</cp:coreProperties>
</file>