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E2AD-3033-4533-AA42-E0C90CD188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4039-BF1D-469C-9B08-EC61A0DE97E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B8D-648C-45D1-A430-AF02890C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9D4-6665-4638-9215-1681E24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79D-F8CC-41E8-934A-556598F6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A6B-73CA-4F54-A491-D56F8A52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C763-CBF0-45D4-943A-560FAD48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AF1E-A675-4C5A-AF61-AB21FA1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DB5D-D3F0-456C-A52D-FEC54B8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F6F7-184F-4E26-9DD6-8D89F50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7BCA-0A84-438B-876B-CB28E40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977B-305D-4160-8234-B8DC9A5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50F-07CA-471C-A845-8F5C499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1D8-5DF9-4516-9DB8-F7F2722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5977-F5F0-42D9-B6DE-93EDD82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FEF-16D7-4A8D-B1D6-B5F5950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2A52-E511-4863-9321-CDCF87E0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714-D1CC-4F0B-8689-E8D9DD2C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CB0-5B03-42D4-9AD9-79471000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5D6-8C24-424D-B78A-94104845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A77-34C2-4ED3-9C4A-F9B8C2A7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22A-1602-4B0C-93BE-B41D957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7F0-78E8-4975-8B7C-6C18F8B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B15-89D5-4C88-BA92-45838C2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863-114B-4CB0-909F-9E2319E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F5E-4B34-4F0C-BBE1-66DB730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C931-D708-4A0F-A641-1910755C5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7FD-C3FF-489F-BBD8-E2AB45C63F7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9: 6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Financiamiento del Cuerpo de Bombe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venciones y aportes (municipal y reg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en caso de accidentes o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 por in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 vita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perse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de bomberos y su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eneficios para las Cía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ificación (perfección de los benef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rmas se enmarcan dentro del art. 19 N° 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onstitucionalidad de distinciones no justificadas razonab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el E° y sus ó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mater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quisitos para discrim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ustificada, no arbit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por ley (determinación y 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directos o indirectos o “gravámenes especi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Gravámenes Especia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lquier medida desfavorable impuesta por el legislador … que deba soportar un particular  que se desenvuelve en un sector económico … a favor del Estado o de otro particul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un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ón que deben soportar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va actividad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dad de gravamen (sujeto activo, pasivo y benefi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canismo de financiamiento de cuerp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iene carácter expropi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ucro” como parámetro entre limitación y privació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pacidad de “llevar a prec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a “prorrat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 es “tribu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odo pago a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VS sólo rec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gres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un hecho propio que devenga el tribu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e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 establecido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crimina arbitrari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busca justificación en la parte consid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ist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 Compañías de Seguro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Pendiente: Recurso de Reclamación por Circular 1902/08 de la SV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Ordena el pago de los aportes contemplados en los artículos 3º y 4º del DL 1.757 de 1977, correspondientes a noviembre de 2008, ascendientes en esa oportunidad al monto de $299.127.06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EB9-4103-4FFF-B090-22A1F83D087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suficientes o bastantes para establecer el grava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 “evidente” para C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5% de 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ibera de 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rrojo”, “coraje”, “generosidad extr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Vinculo lógico – racional entre razones invocadas y medi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endio liga a a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ridad de bomberos y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 sistema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lícitos del legislad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ontravienen las CP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Excesivo e igualdad ante la 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mpone a todas la Cía de Segu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ción del a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levan a prec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Igualdad ante la L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as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son las únicas que soportan cargas en relación a los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agan luz, teléfono,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quemas de Revisión de Igual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 “A”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 “B”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43200"/>
            <a:ext cx="68580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743200"/>
            <a:ext cx="60984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743200"/>
            <a:ext cx="60984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743200"/>
            <a:ext cx="68580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AZONABILIDAD 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Tertium Comparation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5105520"/>
            <a:ext cx="914400" cy="8380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5105520"/>
            <a:ext cx="1371600" cy="914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Voto del Ministro Bertels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Tertium Comparatio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ersonas benificiadas por la actuación de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Varias otras dentro de dicha categoría que no concurren al pago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ículo 3º.- Los beneficios que este decreto ley concede, serán de cargo de las entidades aseguradoras y mutualidades que cubran en Chile el riesgo de incendio, a prorrata de las primas directas en ese riesgo, en el semestre inmediatamente anterior a la fecha en que deban efectuarse los pagos. En caso de incumplimiento de esta obligación, la Superintendencia de Valores y Seguros podrá aplicar las sanciones establecidas en el artículo 27 del decreto ley Nº 3.538, de 1980, a las entidades aseguradoras y mutualidades infracto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3CE-D3E9-4A19-9720-F127AC5E4D0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tículo 4º.- La Superintendencia de Valores y Seguros cobrará a las entidades aseguradoras, en cada oportunidad, las cuotas de prorrateo; pagará los beneficios que concede este decreto ley; cotizará y contratará por cuenta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 sus beneficiarios, según corresponda, rentasvitalicias en compañías de seguros de vida, conforme lo señalado en las letras c) y d) del artículo 1º de este decreto ley, y proveerá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ciones que se mencionan en el artículosiguiente, de los fondos necesarios para los efectos contemplados en este decreto ley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stablecerá la forma y oportunidad en que se deberá acreditar el cumplimiento de los requisitos para acceder a los beneficios contemplados en este decreto ley y podrá suspender el pago de éstos cuando determine, fehacientemente, el incumplimiento de tales requisitos. Para estos efectos, dicha Superintendencia dictará una norma de carácter general previa consulta a la Junt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cional de Cuerpos de Bomberos de Chile, l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berá ser publicada en el Diario Ofici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Requirentes: “carga pública” que infringuirí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 (igual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18 (seguridad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0 (igualdad – cargas públ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2 (igualdad econ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esproporcionada, injustificada y exclus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pensación a favor del Cuerpo de Bomberos, por beneficios para las Cías de Segur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icieron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ipu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ejo de Defensa del E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Naturaleza Jurídica  de los Cuerpos de Bomb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upaciones Inter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jcardenas</cp:lastModifiedBy>
  <dcterms:modified xsi:type="dcterms:W3CDTF">2011-12-05T12:49:26Z</dcterms:modified>
  <cp:revision>52</cp:revision>
  <dc:subject/>
  <dc:title>Derecho Constitucional Económico</dc:title>
</cp:coreProperties>
</file>