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83D8-D9BD-473F-B934-0600A241D9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2CA5-2AE6-4460-A507-FB751BD20BC7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3EE-42EC-4CB7-94C7-7621E590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176-98C8-48DB-918D-1AECEC45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009-2766-48E4-910B-BF26EBA4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D15-8C1D-4300-B67F-ED0D8C0D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6813-32DC-45C7-9FDC-F567455C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7DE3-A67B-4FF8-AA96-C79B1AD3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B62-5522-47C7-B977-378791B0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B757-A56C-4388-94D1-4D065CD2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EE5-6191-4C90-B0AF-F1BA37B4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66CF-AD92-4757-B7B5-23AA44FF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6EC7-5334-4E4C-8B56-68AD98AB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81A-4D43-4B16-AC66-A8E3CAF2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D750-3E86-4FCF-AE31-74D4977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7ACE-3E1E-4BED-BAC2-1F47AE3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20C9-CF90-4E12-96CD-AD92CED6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8751-4873-4466-8002-6ACB4336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E050-7D1F-4C3B-88E3-4E1D356F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87E-7696-471C-8C48-40C3E1E4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C23-5311-441F-A3C4-D67342C8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C58-2624-4ED0-8963-6C16E291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37B-AEE5-4E08-BAB1-7E1C382E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5A4-A2F7-440B-9AC5-29BB1701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C1F-E398-4DAB-A070-0B66B11D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535-D36F-4652-9EF4-057F920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688B-7D2C-4809-82A8-59CADC7AB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8CB7-697E-4896-893C-6F3C701762F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9: 6 de diciembre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Financiamiento del Cuerpo de Bombe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venciones y aportes (municipal y reg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en caso de accidentes o enferme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o por in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ta vital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n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alidad perse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de bomberos y sus fami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eneficios para las Cías de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dificación (perfección de los benef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rmas se enmarcan dentro del art. 19 N° 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onstitucionalidad de distinciones no justificadas razonabl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el E° y sus ó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materias 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quisitos para discrimi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Justificada, no arbit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por ley (determinación y especific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directos o indirectos o “gravámenes especia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Gravámenes Especial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alquier medida desfavorable impuesta por el legislador … que deba soportar un particular  que se desenvuelve en un sector económico … a favor del Estado o de otro particul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un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ligación que deben soportar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va actividad espec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cialidad de gravamen (sujeto activo, pasivo y benefi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canismo de financiamiento de cuerp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iene carácter expropi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Lucro” como parámetro entre limitación y privación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pacidad de “llevar a preci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a “prorrat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 es “tribu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odo pago a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VS sólo reca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ingres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un hecho propio que devenga el tribut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te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á establecido por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discrimina arbitrariament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busca justificación en la parte consid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ist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 Compañías de Seguro Ge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Pendiente: Recurso de Reclamación por Circular 1902/08 de la SV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Ordena el pago de los aportes contemplados en los artículos 3º y 4º del DL 1.757 de 1977, correspondientes a noviembre de 2008, ascendientes en esa oportunidad al monto de $299.127.06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AF15-1404-4E2E-9B40-88C361DE154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suficientes o bastantes para establecer el grava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 “evidente” para C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5% de las ut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ibera de angus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rrojo”, “coraje”, “generosidad extre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Vinculo lógico – racional entre razones invocadas y medid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endio liga a a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guridad de bomberos y famil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a sistema integ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lícitos del legislad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ontravienen las CP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Excesivo e igualdad ante la l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mpone a todas la Cía de Segu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ro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rtificación del a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levan a prec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Igualdad ante la L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odas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son las únicas que soportan cargas en relación a los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agan luz, teléfono, empl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quemas de Revisión de Igual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rma “A”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rma “B”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52120" y="2743200"/>
            <a:ext cx="68580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743200"/>
            <a:ext cx="60984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743200"/>
            <a:ext cx="60984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743200"/>
            <a:ext cx="68580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AZONABILIDAD d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Tertium Comparation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14600" y="5105520"/>
            <a:ext cx="914400" cy="8380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867280" y="5105520"/>
            <a:ext cx="1371600" cy="914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Voto del Ministro Bertels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Tertium Comparatio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ersonas benificiadas por la actuación de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Varias otras dentro de dicha categoría que no concurren al pago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5235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tículo 3º.- Los beneficios que este decreto ley concede, serán de cargo de las entidades aseguradoras y mutualidades que cubran en Chile el riesgo de incendio, a prorrata de las primas directas en ese riesgo, en el semestre inmediatamente anterior a la fecha en que deban efectuarse los pagos. En caso de incumplimiento de esta obligación, la Superintendencia de Valores y Seguros podrá aplicar las sanciones establecidas en el artículo 27 del decreto ley Nº 3.538, de 1980, a las entidades aseguradoras y mutualidades infracto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F760-B6A5-4D5B-8305-B2B2D7347B3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rtículo 4º.- La Superintendencia de Valores y Seguros cobrará a las entidades aseguradoras, en cada oportunidad, las cuotas de prorrateo; pagará los beneficios que concede este decreto ley; cotizará y contratará por cuenta de los volu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 sus beneficiarios, según corresponda, rentasvitalicias en compañías de seguros de vida, conforme lo señalado en las letras c) y d) del artículo 1º de este decreto ley, y proveerá a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stituciones que se mencionan en el artículosiguiente, de los fondos necesarios para los efectos contemplados en este decreto ley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L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stablecerá la forma y oportunidad en que se deberá acreditar el cumplimiento de los requisitos para acceder a los beneficios contemplados en este decreto ley y podrá suspender el pago de éstos cuando determine, fehacientemente, el incumplimiento de tales requisitos. Para estos efectos, dicha Superintendencia dictará una norma de carácter general previa consulta a la Junt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cional de Cuerpos de Bomberos de Chile, l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berá ser publicada en el Diario Ofici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Requirentes: “carga pública” que infringuirí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 (igual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18 (seguridad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0 (igualdad – cargas públ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2 (igualdad econó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esproporcionada, injustificada y exclus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¿Compensación a favor del Cuerpo de Bomberos, por beneficios para las Cías de Segur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hicieron pa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ipu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sejo de Defensa del E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Naturaleza Jurídica  de los Cuerpos de Bomb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idades Priv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upaciones Inter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3:21:03Z</dcterms:created>
  <dc:creator>jlcarden</dc:creator>
  <dc:description/>
  <dc:language>en-US</dc:language>
  <cp:lastModifiedBy>jcardenas</cp:lastModifiedBy>
  <dcterms:modified xsi:type="dcterms:W3CDTF">2011-12-05T12:49:26Z</dcterms:modified>
  <cp:revision>52</cp:revision>
  <dc:subject/>
  <dc:title>Derecho Constitucional Económico</dc:title>
</cp:coreProperties>
</file>