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72AE-1063-4368-95D5-0CD68D1371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07B7-F117-4D98-A43F-E8016693B98D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69C-D572-4DD3-8222-E09A8690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70EC-A38E-4966-AFD3-531A5785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756-7273-420A-835B-7813AD38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E319-DEC6-40DD-8873-B3BF7291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B31C-C278-4AEC-B500-EBC489A6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C73D-2760-4908-A078-D4C4C520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E98B-FED3-443E-A696-CF876945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DE83-F834-4033-9983-395475DE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F7E9-6AF2-4ED7-B9AD-E02F9BFC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043B-23F8-49D9-85DA-3FE3F757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60D5-3F3E-4993-BD33-DBC54A5D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4A73-7C9F-492A-9380-A29A258F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08B6-1BD8-485C-BC8A-04E6BED9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2A5E-D109-4F4A-812D-A2B09BC6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6F29-FD5F-4D57-BB82-7C34D55A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7D22-82F8-429F-95B2-3A938357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F725-A203-47E2-9394-AD69C25C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CB6-B426-4C91-888D-828CEB1A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1B97-1C1A-4F63-8F1A-041F6917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059-8BAB-48A5-A87F-F95D8CF8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89C-DC54-44E5-B96C-E81A6D02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A55-1F30-4857-BDEA-2C94AC5C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0BB-F820-4B78-B96F-18D60963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9E52-7374-422B-9C0D-98945CBA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0DB0-C403-40C8-991D-58374FB33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45EC-5701-4C06-A245-64F602CCBC9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Apli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9: 6 de diciembre d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Financiamiento del Cuerpo de Bomber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i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y de Presu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venciones y aportes (municipal y reg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e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L 1757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eneficios en caso de accidentes o enferme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é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ras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sidio por in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nta vitali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L 1757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ntecedentes de la n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inalidad perseg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tección de bomberos y sus famil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eneficios para las Cías de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odificación (perfección de los benefic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Normas se enmarcan dentro del art. 19 N° 2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constitucionalidad de distinciones no justificadas razonable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el E° y sus órgani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materias econó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quisitos para discrimin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Justificada, no arbitr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por ley (determinación y especific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eneficios directos o indirectos o “gravámenes especia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Gravámenes Especial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ualquier medida desfavorable impuesta por el legislador … que deba soportar un particular  que se desenvuelve en un sector económico … a favor del Estado o de otro particula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s un “gravamen espe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ligación que deben soportar las Cías de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va actividad especí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pecialidad de gravamen (sujeto activo, pasivo y benefi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canismo de financiamiento de cuerpo inter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tiene carácter expropi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Lucro” como parámetro entre limitación y privación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Capacidad de “llevar a preci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s a “prorrat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No es “tribut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todo pago a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VS sólo reca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ingreso púb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y un hecho propio que devenga el tributo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ste “gravamen espe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á establecido por 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discrimina arbitrariament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De acuer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busca justificación en la parte consid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isten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4 Compañías de Seguro Gene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Pendiente: Recurso de Reclamación por Circular 1902/08 de la SV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Ordena el pago de los aportes contemplados en los artículos 3º y 4º del DL 1.757 de 1977, correspondientes a noviembre de 2008, ascendientes en esa oportunidad al monto de $299.127.060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B076-9BAD-43A9-846A-ED96C669C2E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Motivos suficientes o bastantes para establecer el grava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eneficio “evidente” para C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5% de las ut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ibera de angus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rrojo”, “coraje”, “generosidad extre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Vinculo lógico – racional entre razones invocadas y medid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cendio liga a a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guridad de bomberos y famil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a sistema integ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Motivos lícitos del legislado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contravienen las CP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Excesivo e igualdad ante la l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impone a todas la Cía de Segu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pro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ertificación del ac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levan a preci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Igualdad ante la Le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odas las Cías de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son las únicas que soportan cargas en relación a los bomb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pagan luz, teléfono, empl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squemas de Revisión de Igualda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23623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rma “A”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2362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rma “B”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52120" y="2743200"/>
            <a:ext cx="685800" cy="10666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743200"/>
            <a:ext cx="609840" cy="10666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553080" y="2743200"/>
            <a:ext cx="609840" cy="1143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743200"/>
            <a:ext cx="685800" cy="1143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556272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AZONABILIDAD de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Tertium Comparationi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514600" y="5105520"/>
            <a:ext cx="914400" cy="8380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867280" y="5105520"/>
            <a:ext cx="1371600" cy="9144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Voto del Ministro Bertels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Tertium Comparation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personas benificiadas por la actuación de bomb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Varias otras dentro de dicha categoría que no concurren al pago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De acuer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523520"/>
            <a:ext cx="7010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tículo 3º.- Los beneficios que este decreto ley concede, serán de cargo de las entidades aseguradoras y mutualidades que cubran en Chile el riesgo de incendio, a prorrata de las primas directas en ese riesgo, en el semestre inmediatamente anterior a la fecha en que deban efectuarse los pagos. En caso de incumplimiento de esta obligación, la Superintendencia de Valores y Seguros podrá aplicar las sanciones establecidas en el artículo 27 del decreto ley Nº 3.538, de 1980, a las entidades aseguradoras y mutualidades infractora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7581-F93E-469C-B5A5-B31168F0090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rtículo 4º.- La Superintendencia de Valores y Seguros cobrará a las entidades aseguradoras, en cada oportunidad, las cuotas de prorrateo; pagará los beneficios que concede este decreto ley; cotizará y contratará por cuenta de los volu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 sus beneficiarios, según corresponda, rentasvitalicias en compañías de seguros de vida, conforme lo señalado en las letras c) y d) del artículo 1º de este decreto ley, y proveerá a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stituciones que se mencionan en el artículosiguiente, de los fondos necesarios para los efectos contemplados en este decreto ley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La Superintendencia de Valores y Seg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establecerá la forma y oportunidad en que se deberá acreditar el cumplimiento de los requisitos para acceder a los beneficios contemplados en este decreto ley y podrá suspender el pago de éstos cuando determine, fehacientemente, el incumplimiento de tales requisitos. Para estos efectos, dicha Superintendencia dictará una norma de carácter general previa consulta a la Junt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acional de Cuerpos de Bomberos de Chile, la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berá ser publicada en el Diario Oficial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Arial"/>
              </a:rPr>
              <a:t>Requirentes: “carga pública” que infringuiría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2 (igual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18 (seguridad so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20 (igualdad – cargas públi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22 (igualdad económ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esproporcionada, injustificada y exclusiv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¿Compensación a favor del Cuerpo de Bomberos, por beneficios para las Cías de Segur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hicieron par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ipu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onsejo de Defensa del E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Naturaleza Jurídica  de los Cuerpos de Bombe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tidades Priv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upaciones Interme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sidia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3:21:03Z</dcterms:created>
  <dc:creator>jlcarden</dc:creator>
  <dc:description/>
  <dc:language>en-US</dc:language>
  <cp:lastModifiedBy>jcardenas</cp:lastModifiedBy>
  <dcterms:modified xsi:type="dcterms:W3CDTF">2011-12-05T12:49:26Z</dcterms:modified>
  <cp:revision>52</cp:revision>
  <dc:subject/>
  <dc:title>Derecho Constitucional Económico</dc:title>
</cp:coreProperties>
</file>