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C4F2-79A4-4C13-826B-28585116DF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5FE2-9DBD-42FB-A86E-8B88396587B0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E83-D3D1-427B-9D7C-09766869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6BA-D9F3-4144-A447-F21989C6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491-8390-4674-9CDB-368ECE3C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23C-B96B-4BF5-9CBE-68DC4AAC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219B-1CD2-406B-934B-769E84B2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BB9C-18C7-47EE-ABF9-EEA39FA8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8D33-C969-43FC-8A99-5523611F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E1F9-D315-435F-A9E5-C6E21563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E4B6-0877-499A-9D75-C62352A8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CDEF-482D-4978-A597-E5773CF9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9B4E-159C-4212-9D20-23AEF9BE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858-EADC-4A20-A772-2E52682E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4F86-3A8B-43F0-9285-220CD1E6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E938-460E-40A8-AFF2-A3D4A70E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F1B5-5C85-4BDF-9565-3BE58B44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8928-798A-4CF2-BF4A-CD6728A1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5441-C2BC-45F2-B375-88A795DD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64C-D509-4B2C-A2B9-6A61A619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7C2-8DFE-45AA-9A24-DAFB9196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84BB-8B74-48BC-8D25-DF25910B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33A-6CBB-4C8B-82C7-D0C11FBA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7052-C267-481D-AA58-E389B799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BF6-50F5-445F-BE0C-11F2D28A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9EB-C02E-49B9-BCCE-49ADA6EF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17DA-B226-4692-841D-45B462CAD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C88F-958B-4CAB-A1E7-6B46A6D9A882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Apli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9: 6 de diciembre d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Financiamiento del Cuerpo de Bomber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i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y de 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venciones y aportes (municipal y reg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e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L 1757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eneficios en caso de accidentes o enferme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é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ras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sidio por in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ta vitali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L 1757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tecedentes de la n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inalidad perseg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tección de bomberos y sus famil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eneficios para las Cías de Seg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odificación (perfección de los benefic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Normas se enmarcan dentro del art. 19 N° 2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constitucionalidad de distinciones no justificadas razonable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el E° y sus órgani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materias econ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quisitos para discrimin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Justificada, no arbitr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por ley (determinación y especific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eneficios directos o indirectos o “gravámenes especia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Gravámenes Especial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ualquier medida desfavorable impuesta por el legislador … que deba soportar un particular  que se desenvuelve en un sector económico … a favor del Estado o de otro particular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s un “gravamen espe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ligación que deben soportar las Cías de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va actividad especí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pecialidad de gravamen (sujeto activo, pasivo y benefi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canismo de financiamiento de cuerpo interme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tiene carácter expropi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Lucro” como parámetro entre limitación y privación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apacidad de “llevar a preci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s a “prorrat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No es “tribut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todo pago a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VS sólo reca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ingreso púb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y un hecho propio que devenga el tributo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ste “gravamen espe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á establecido por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discrimina arbitrariament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De acuer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busca justificación en la parte conside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isten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4 Compañías de Seguro Gener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Pendiente: Recurso de Reclamación por Circular 1902/08 de la SV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Ordena el pago de los aportes contemplados en los artículos 3º y 4º del DL 1.757 de 1977, correspondientes a noviembre de 2008, ascendientes en esa oportunidad al monto de $299.127.060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7CA5-B2B8-4F8C-9855-7BF71C221A8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Motivos suficientes o bastantes para establecer el grava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eneficio “evidente” para C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ólo 5% de las ut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ibera de angus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rrojo”, “coraje”, “generosidad extre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Vinculo lógico – racional entre razones invocadas y medid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cendio liga a am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guridad de bomberos y famil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a sistema integ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Motivos lícitos del legislado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contravienen las CP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Excesivo e igualdad ante la l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impone a todas la Cía de Segu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pror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ertificación del acci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levan a preci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Igualdad ante la Le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odas las Cías de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son las únicas que soportan cargas en relación a los bomb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pagan luz, teléfono, empl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squemas de Revisión de Igualda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40384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23623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rma “A”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2362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rma “B”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52120" y="2743200"/>
            <a:ext cx="685800" cy="10666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743200"/>
            <a:ext cx="609840" cy="10666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553080" y="2743200"/>
            <a:ext cx="609840" cy="1143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743200"/>
            <a:ext cx="685800" cy="11430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55627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AZONABILIDAD de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Tertium Comparationi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2514600" y="5105520"/>
            <a:ext cx="914400" cy="8380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867280" y="5105520"/>
            <a:ext cx="1371600" cy="9144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Arial"/>
              </a:rPr>
              <a:t>Voto del Ministro Bertels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Arial"/>
              </a:rPr>
              <a:t>Tertium Comparation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personas benificiadas por la actuación de bomb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Varias otras dentro de dicha categoría que no concurren al pago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¿De acuer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523520"/>
            <a:ext cx="7010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tículo 3º.- Los beneficios que este decreto ley concede, serán de cargo de las entidades aseguradoras y mutualidades que cubran en Chile el riesgo de incendio, a prorrata de las primas directas en ese riesgo, en el semestre inmediatamente anterior a la fecha en que deban efectuarse los pagos. En caso de incumplimiento de esta obligación, la Superintendencia de Valores y Seguros podrá aplicar las sanciones establecidas en el artículo 27 del decreto ley Nº 3.538, de 1980, a las entidades aseguradoras y mutualidades infractora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CB29-E955-4D7A-984F-BBB5DC44728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rtículo 4º.- La Superintendencia de Valores y Seguros cobrará a las entidades aseguradoras, en cada oportunidad, las cuotas de prorrateo; pagará los beneficios que concede este decreto ley; cotizará y contratará por cuenta de los volunt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o sus beneficiarios, según corresponda, rentasvitalicias en compañías de seguros de vida, conforme lo señalado en las letras c) y d) del artículo 1º de este decreto ley, y proveerá a 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instituciones que se mencionan en el artículosiguiente, de los fondos necesarios para los efectos contemplados en este decreto ley.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La Superintendencia de Valores y Seg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establecerá la forma y oportunidad en que se deberá acreditar el cumplimiento de los requisitos para acceder a los beneficios contemplados en este decreto ley y podrá suspender el pago de éstos cuando determine, fehacientemente, el incumplimiento de tales requisitos. Para estos efectos, dicha Superintendencia dictará una norma de carácter general previa consulta a la Junt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acional de Cuerpos de Bomberos de Chile, la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eberá ser publicada en el Diario Oficial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205704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Arial"/>
              </a:rPr>
              <a:t>Requirentes: “carga pública” que infringuiría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2 (igual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18 (seguridad so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20 (igualdad – cargas públi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rt. 19 N° 22 (igualdad económ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esproporcionada, injustificada y exclusiv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¿Compensación a favor del Cuerpo de Bomberos, por beneficios para las Cías de Segur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so “Bomberos”: Antecedentes Gene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hicieron par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ipu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nsejo de Defensa del E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so “Bomberos”: Argumentación del T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Naturaleza Jurídica  de los Cuerpos de Bomber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tidades Priv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grupaciones Interme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ubsidi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3:21:03Z</dcterms:created>
  <dc:creator>jlcarden</dc:creator>
  <dc:description/>
  <dc:language>en-US</dc:language>
  <cp:lastModifiedBy>jcardenas</cp:lastModifiedBy>
  <dcterms:modified xsi:type="dcterms:W3CDTF">2011-12-05T12:49:26Z</dcterms:modified>
  <cp:revision>52</cp:revision>
  <dc:subject/>
  <dc:title>Derecho Constitucional Económico</dc:title>
</cp:coreProperties>
</file>