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04A3-BFF6-439E-9E60-3E29209E514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79C6-17B0-457C-939A-E8269425774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15A31-942F-446D-B310-5BBC71BE0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221C0-92EF-4DAD-9C73-C1B5B1130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23A8A-B42D-40FA-9144-FC62506B1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80BB7-5985-4438-8255-733745352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080DF-F70A-489C-922F-030A99C1C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9FFA8-5065-45AB-B33C-577CA41CC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F59B7-DC33-4D69-B57F-FCBD5C1B0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F9155-1FE9-4671-8060-32178789A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4DDC7-43ED-46F3-A072-1AA2D93C7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7C5D5-D016-4AA4-830C-50394EA6D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E8210-57A3-4950-9709-926FB5F11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FD4B7-7108-4F4F-B981-42B580776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1AC36-2C65-49AB-A5C3-8F1B17C2D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180B9-3C51-4ABE-8427-C137AAAC0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32E18-757E-4FFA-8E9B-36CE2E925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25273-8B35-4441-B3E9-AD70E4BE5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7E2A9-1CDA-468F-A33A-0A23ABB81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65D82-EF87-4180-9B07-441EF23B9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C4FDE-6A97-4E70-A575-BD28DBBBE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E1400-F4D3-4620-8FE2-245DA8555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D6DC0-0CB9-40AA-B69F-6C7C017F5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8B0BF-CE44-424B-B8DA-517DD74D9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65042-C2A0-4990-9BED-EE4AE17B8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E0978-CFBA-4178-93DA-E14B00D7C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9961-D503-4F28-BBC3-715E37C119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15F3-6D41-4F1B-B70C-8BDA64511F3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7: 29 de nov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Test de Proporcionalida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a:t>
            </a:r>
            <a:r>
              <a:rPr b="0" lang="es-ES" sz="1900" spc="-1" strike="noStrike">
                <a:solidFill>
                  <a:srgbClr val="000000"/>
                </a:solidFill>
                <a:latin typeface="Arial"/>
              </a:rPr>
              <a:t>la imposición de la obligación de defender a determinadas personas de escasos recursos constituye un fin razonable, pero el medio utilizado por el legislador –la gratuidad- </a:t>
            </a:r>
            <a:r>
              <a:rPr b="0" lang="es-ES" sz="1900" spc="-1" strike="noStrike" u="sng">
                <a:solidFill>
                  <a:srgbClr val="000000"/>
                </a:solidFill>
                <a:uFillTx/>
                <a:latin typeface="Arial"/>
              </a:rPr>
              <a:t>puede transformarse en gravoso</a:t>
            </a:r>
            <a:r>
              <a:rPr b="0" lang="es-ES" sz="1900" spc="-1" strike="noStrike">
                <a:solidFill>
                  <a:srgbClr val="000000"/>
                </a:solidFill>
                <a:latin typeface="Arial"/>
              </a:rPr>
              <a:t> si se piensa que el abogado deberá dedicarse sin contraprestación pecuniaria alguna a atender asuntos en desmedro de aquellos que ha asumido libremente, lo que puede tornarse en una situació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imposible de sostener, y aún de ejecuta satisfactoriamente, más todavía, si se piensa que la</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obligación se mantendrá hasta el término efectivo del</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juicio que puede importar un largo período de tramitació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est de Proporcionalid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ita experiencia comparada que tiende a remunerar</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Sin embargo, si se impone gratuitamente, se transforma en medio desproporcionadamente gravoso, </a:t>
            </a:r>
            <a:r>
              <a:rPr b="0" lang="es-MX" sz="2100" spc="-1" strike="noStrike" u="sng">
                <a:solidFill>
                  <a:srgbClr val="000000"/>
                </a:solidFill>
                <a:uFillTx/>
                <a:latin typeface="Arial"/>
              </a:rPr>
              <a:t>desde el momento</a:t>
            </a:r>
            <a:r>
              <a:rPr b="0" lang="es-MX" sz="2100" spc="-1" strike="noStrike">
                <a:solidFill>
                  <a:srgbClr val="000000"/>
                </a:solidFill>
                <a:latin typeface="Arial"/>
              </a:rPr>
              <a:t> que el fin perseguido no exige ni impone que el abogado deba desempeñarse sin retribución alguna” (considerando 46°)</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ompara con otras “cargas públicas” remunerada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La licitud de los fines perseguidos por el legislador no puede permitir el empleo de </a:t>
            </a:r>
            <a:r>
              <a:rPr b="0" lang="en-US" sz="2100" spc="-1" strike="noStrike" u="sng">
                <a:solidFill>
                  <a:srgbClr val="000000"/>
                </a:solidFill>
                <a:uFillTx/>
                <a:latin typeface="Arial"/>
              </a:rPr>
              <a:t>medios gravosos</a:t>
            </a:r>
            <a:r>
              <a:rPr b="0" lang="en-US" sz="2100" spc="-1" strike="noStrike">
                <a:solidFill>
                  <a:srgbClr val="000000"/>
                </a:solidFill>
                <a:latin typeface="Arial"/>
              </a:rPr>
              <a:t> y que impongan una afectación al patrimonio de los abogados convocados al turno, todos los cuales tienen </a:t>
            </a:r>
            <a:r>
              <a:rPr b="0" lang="en-US" sz="2100" spc="-1" strike="noStrike" u="sng">
                <a:solidFill>
                  <a:srgbClr val="000000"/>
                </a:solidFill>
                <a:uFillTx/>
                <a:latin typeface="Arial"/>
              </a:rPr>
              <a:t>ciertamente</a:t>
            </a:r>
            <a:r>
              <a:rPr b="0" lang="en-US" sz="2100" spc="-1" strike="noStrike">
                <a:solidFill>
                  <a:srgbClr val="000000"/>
                </a:solidFill>
                <a:latin typeface="Arial"/>
              </a:rPr>
              <a:t> el derecho a una justa retribución por su servicio profesional” (considerando 53°)</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Afectación de la Libertad?</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Justa retribución” (art.19 N° 16)</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Trabajo forzado (art. 19 N° 21)</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Como lo recuerda Couture: </a:t>
            </a:r>
            <a:r>
              <a:rPr b="0" i="1" lang="es-MX" sz="2100" spc="-1" strike="noStrike">
                <a:solidFill>
                  <a:srgbClr val="000000"/>
                </a:solidFill>
                <a:latin typeface="Arial"/>
              </a:rPr>
              <a:t>2de asuntos de dinero, el abogado debehablar con su cliente sólo una vez: concluido el litigio, para ajustar en muy pocas palabras, las menos posibles” (considerando 60°)</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Afectación de la Libertad?</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ntes era peor por el bajo número de abogados … (¿desproporción?)</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s realmente despropor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s un análisis </a:t>
            </a:r>
            <a:r>
              <a:rPr b="0" i="1" lang="es-MX" sz="3000" spc="-1" strike="noStrike">
                <a:solidFill>
                  <a:srgbClr val="000000"/>
                </a:solidFill>
                <a:latin typeface="Arial"/>
              </a:rPr>
              <a:t>in concreto</a:t>
            </a:r>
            <a:r>
              <a:rPr b="0" lang="es-MX" sz="3000" spc="-1" strike="noStrike">
                <a:solidFill>
                  <a:srgbClr val="000000"/>
                </a:solidFill>
                <a:latin typeface="Arial"/>
              </a:rPr>
              <a:t> o parece </a:t>
            </a:r>
            <a:r>
              <a:rPr b="0" i="1" lang="es-MX" sz="3000" spc="-1" strike="noStrike">
                <a:solidFill>
                  <a:srgbClr val="000000"/>
                </a:solidFill>
                <a:latin typeface="Arial"/>
              </a:rPr>
              <a:t>in abstracto</a:t>
            </a:r>
            <a:r>
              <a:rPr b="0" lang="es-MX"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ensemos en categorías económic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4"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5"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36"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7"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38"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9"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1"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42"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3"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44"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5"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6"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47"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8"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9"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50"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51"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52"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3"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54"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55"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56"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gratuidad como compensación del monopolio? ¿es el únic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genera un desincentivo a estudiar derecho? ¿necesidad de estadística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Medicina = 7 años + especialidad no remunerad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ra necesario desde el punto de vista del bienestar soci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aso “Abogado de Turno”</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tuidad del turno establecida en el artículo 595 del CO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derechos o garantías se encuentran en tensión? ¿existe una efectiva tensió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4840-9D7F-4B80-8CC5-0F07E416FA8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argumentos generales se utilizar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apartida del monopolio para litig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ón Pública?</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9B72-9C26-4E69-9C1D-D409E14EA7D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gualdad ante la ley:</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100" spc="-1" strike="noStrike">
                <a:solidFill>
                  <a:srgbClr val="000000"/>
                </a:solidFill>
                <a:latin typeface="Arial"/>
              </a:rPr>
              <a:t>consiste en que las normas jurídicas deben ser iguales para todas las personas que se encuentren en las mismas circunstancias y, consecuencialmente, diversas para aquellas que se encuentren en situaciones diferentes. No se trata, por consiguiente, de una igualdad absoluta sino que ha de aplicarse la ley en cada caso conforme a las diferencias constitutivas del mismo. La igualdad supone, por lo tanto, la distinción </a:t>
            </a:r>
            <a:r>
              <a:rPr b="0" i="1" lang="en-US" sz="2100" spc="-1" strike="noStrike" u="sng">
                <a:solidFill>
                  <a:srgbClr val="000000"/>
                </a:solidFill>
                <a:uFillTx/>
                <a:latin typeface="Arial"/>
              </a:rPr>
              <a:t>razonable</a:t>
            </a:r>
            <a:r>
              <a:rPr b="0" i="1" lang="en-US" sz="2100" spc="-1" strike="noStrike">
                <a:solidFill>
                  <a:srgbClr val="000000"/>
                </a:solidFill>
                <a:latin typeface="Arial"/>
              </a:rPr>
              <a:t> entre quienes no se encuentren en la misma condición” (considerando 27°)</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900" spc="-1" strike="noStrike">
                <a:solidFill>
                  <a:srgbClr val="000000"/>
                </a:solidFill>
                <a:latin typeface="Arial"/>
              </a:rPr>
              <a:t>	</a:t>
            </a:r>
            <a:r>
              <a:rPr b="0" lang="es-MX" sz="2100" spc="-1" strike="noStrike">
                <a:solidFill>
                  <a:srgbClr val="000000"/>
                </a:solidFill>
                <a:latin typeface="Arial"/>
              </a:rPr>
              <a:t>“</a:t>
            </a:r>
            <a:r>
              <a:rPr b="0" i="1" lang="es-MX" sz="2100" spc="-1" strike="noStrike">
                <a:solidFill>
                  <a:srgbClr val="000000"/>
                </a:solidFill>
                <a:latin typeface="Arial"/>
              </a:rPr>
              <a:t>la razonabilidad es el cartabón o standard de acuerdo con el cual debe apreciarse la medida de igualdad o la desigualdad” </a:t>
            </a:r>
            <a:r>
              <a:rPr b="0" i="1" lang="es-ES" sz="2100" spc="-1" strike="noStrike">
                <a:solidFill>
                  <a:srgbClr val="000000"/>
                </a:solidFill>
                <a:latin typeface="Arial"/>
              </a:rPr>
              <a:t>(considerando 27°)</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	</a:t>
            </a:r>
            <a:r>
              <a:rPr b="0" lang="es-MX" sz="2100" spc="-1" strike="noStrike">
                <a:solidFill>
                  <a:srgbClr val="000000"/>
                </a:solidFill>
                <a:latin typeface="Arial"/>
              </a:rPr>
              <a:t>¿Cuál es el </a:t>
            </a:r>
            <a:r>
              <a:rPr b="0" i="1" lang="es-MX" sz="2100" spc="-1" strike="noStrike">
                <a:solidFill>
                  <a:srgbClr val="000000"/>
                </a:solidFill>
                <a:latin typeface="Arial"/>
              </a:rPr>
              <a:t>tertium comparationis</a:t>
            </a:r>
            <a:r>
              <a:rPr b="0" lang="es-MX" sz="2100" spc="-1" strike="noStrike">
                <a:solidFill>
                  <a:srgbClr val="000000"/>
                </a:solidFill>
                <a:latin typeface="Arial"/>
              </a:rPr>
              <a:t>? ¿abogados, profesiones liberales, profesiones, actividades remuneradas? ¿qué es lo que razonablemente distingue a los abog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a:t>
            </a:r>
            <a:r>
              <a:rPr b="0" i="1" lang="es-MX" sz="2100" spc="-1" strike="noStrike">
                <a:solidFill>
                  <a:srgbClr val="000000"/>
                </a:solidFill>
                <a:latin typeface="Arial"/>
              </a:rPr>
              <a:t>la garantía jurídica de la igualdad supone, entonces, la </a:t>
            </a:r>
            <a:r>
              <a:rPr b="0" i="1" lang="es-MX" sz="2100" spc="-1" strike="noStrike" u="sng">
                <a:solidFill>
                  <a:srgbClr val="000000"/>
                </a:solidFill>
                <a:uFillTx/>
                <a:latin typeface="Arial"/>
              </a:rPr>
              <a:t>diferenciación razonable</a:t>
            </a:r>
            <a:r>
              <a:rPr b="0" i="1" lang="es-MX" sz="2100" spc="-1" strike="noStrike">
                <a:solidFill>
                  <a:srgbClr val="000000"/>
                </a:solidFill>
                <a:latin typeface="Arial"/>
              </a:rPr>
              <a:t> entre quienes no se encuentren en la misma condición; pues no se impide que la legislación contemple en forma distinta situaciones diferentes, siempre que la discriminación no sea arbitraria ni responda a un propósito de hostilidad contra determinada persona o grupo de personas, </a:t>
            </a:r>
            <a:r>
              <a:rPr b="0" i="1" lang="es-MX" sz="2100" spc="-1" strike="noStrike" u="sng">
                <a:solidFill>
                  <a:srgbClr val="000000"/>
                </a:solidFill>
                <a:uFillTx/>
                <a:latin typeface="Arial"/>
              </a:rPr>
              <a:t>o importe indebido favor o privilegio personal o de grupo</a:t>
            </a:r>
            <a:r>
              <a:rPr b="0" i="1" lang="es-MX" sz="2100" spc="-1" strike="noStrike">
                <a:solidFill>
                  <a:srgbClr val="000000"/>
                </a:solidFill>
                <a:latin typeface="Arial"/>
              </a:rPr>
              <a:t>, debiendo quedar suficientemente claro que el legislador, en ejercicio de sus potestades, puede establecer regímenes especiales, diferenciados y desiguales siempre que ello no revista el carácter de arbitr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est de razonabilidad:</a:t>
            </a: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torgado por la Corte Suprema</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Único para medio para cumplir un objetivo constitucional (art. 19 N° 3)</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uficiente para distinguir de otras profesiones liberales, profesiones,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objetiva y razonabl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2100" spc="-1" strike="noStrike">
                <a:solidFill>
                  <a:srgbClr val="000000"/>
                </a:solidFill>
                <a:latin typeface="Arial"/>
              </a:rPr>
              <a:t>“</a:t>
            </a:r>
            <a:r>
              <a:rPr b="0" lang="es-MX" sz="2100" spc="-1" strike="noStrike">
                <a:solidFill>
                  <a:srgbClr val="000000"/>
                </a:solidFill>
                <a:latin typeface="Arial"/>
              </a:rPr>
              <a:t>para poder determinar si se infringe la igualdad ante la ley, es necesario atender además a la </a:t>
            </a:r>
            <a:r>
              <a:rPr b="0" lang="es-MX" sz="2100" spc="-1" strike="noStrike" u="sng">
                <a:solidFill>
                  <a:srgbClr val="000000"/>
                </a:solidFill>
                <a:uFillTx/>
                <a:latin typeface="Arial"/>
              </a:rPr>
              <a:t>finalidad perseguida por el legislador para intervenir el derecho fundamental de que se trata, la que debe ser adecuada, necesaria y tolerable para el destinatario de la misma</a:t>
            </a:r>
            <a:r>
              <a:rPr b="0" lang="es-MX" sz="2100" spc="-1" strike="noStrike">
                <a:solidFill>
                  <a:srgbClr val="000000"/>
                </a:solidFill>
                <a:latin typeface="Arial"/>
              </a:rPr>
              <a:t>, como lo ha puntualizado la </a:t>
            </a:r>
            <a:r>
              <a:rPr b="0" lang="es-MX" sz="2100" spc="-1" strike="noStrike" u="sng">
                <a:solidFill>
                  <a:srgbClr val="000000"/>
                </a:solidFill>
                <a:uFillTx/>
                <a:latin typeface="Arial"/>
              </a:rPr>
              <a:t>doctrina autorizada</a:t>
            </a:r>
            <a:r>
              <a:rPr b="0" lang="es-MX" sz="2100" spc="-1" strike="noStrike">
                <a:solidFill>
                  <a:srgbClr val="000000"/>
                </a:solidFill>
                <a:latin typeface="Arial"/>
              </a:rPr>
              <a:t>” (considerando 39°)</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o “Abogado de Turno”:</a:t>
            </a:r>
            <a:br>
              <a:rPr sz="4200"/>
            </a:br>
            <a:r>
              <a:rPr b="0" lang="en-US" sz="4200" spc="-1" strike="noStrike">
                <a:solidFill>
                  <a:srgbClr val="000000"/>
                </a:solidFill>
                <a:latin typeface="Arial"/>
              </a:rPr>
              <a:t>¿Desigualda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a:t>
            </a:r>
            <a:r>
              <a:rPr b="0" lang="es-MX" sz="2100" spc="-1" strike="noStrike">
                <a:solidFill>
                  <a:srgbClr val="000000"/>
                </a:solidFill>
                <a:latin typeface="Arial"/>
              </a:rPr>
              <a:t>De este modo, resulta sustancial efectuar un examen de racionalidad de la distinción; a lo que debe agregarse la sujeción a la </a:t>
            </a:r>
            <a:r>
              <a:rPr b="0" lang="es-MX" sz="2100" spc="-1" strike="noStrike" u="sng">
                <a:solidFill>
                  <a:srgbClr val="000000"/>
                </a:solidFill>
                <a:uFillTx/>
                <a:latin typeface="Arial"/>
              </a:rPr>
              <a:t>proporcionalidad</a:t>
            </a:r>
            <a:r>
              <a:rPr b="0" lang="es-MX" sz="2100" spc="-1" strike="noStrike">
                <a:solidFill>
                  <a:srgbClr val="000000"/>
                </a:solidFill>
                <a:latin typeface="Arial"/>
              </a:rPr>
              <a:t>, teniendo en cuenta las situaciones fácticas, la finalidad de la ley y los derechos afectados” (considerando 40°)</a:t>
            </a:r>
            <a:endParaRPr b="0" lang="en-US" sz="21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OJO: Se aleja de la estructura de análisis de una discriminación con el elemento proporcionalidad (reservado para las “igualdades esenciales”)</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1-24T12:03:24Z</dcterms:modified>
  <cp:revision>36</cp:revision>
  <dc:subject/>
  <dc:title>Derecho Constitucional Económico</dc:title>
</cp:coreProperties>
</file>