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108C-5F5C-440A-AF29-95D2834D05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CCF7-77E3-4EC0-BCE0-C864CA7FB9A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970C3-9CE9-4B34-AFA8-890D0B868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71F8D-3E04-4103-B8D0-FC169F1E1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50CA5-CDF4-491A-8831-20050D8B3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D39CA-8508-4FA3-AFF3-9E9A1E785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3DF22-12C4-43DA-8488-2CCA4090D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89BDA-D4D5-4E67-90EC-26AF91BCB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A69CE-8B2D-43B8-874D-CBD8B0D94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93B52-6B72-4B36-B432-C8E5BB9D0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FB0D9-C0F2-4AB8-9202-26DEE04A5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88EF2-BE51-44AB-A8DB-E9C0D44B0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0BC0F-C255-4D5C-A002-6B86A28E9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A2E3C-BA4D-4AE4-BDB9-26E20D994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04DEE-0008-4DE6-B543-E7B0A4D9A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EA41C-D4D0-4A2B-A093-2A6D3042F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DA5C0-183A-4A6A-82C8-BC5525C92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3180B-26B8-44F6-8579-BCEDB1836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3FAA1-82F0-4BF2-BC2D-EDFEBC6E0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E4C72-6D77-4605-8D38-F317D0F6D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C7F96-7068-415E-BB24-6788E172A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8E3A1-1F24-4706-864C-362C952E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4952F-9057-43C1-8E1E-0FCE25C9A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925E-6C79-4CD8-8F3D-43F33D317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A82DF-FC78-413A-8FA0-6DB77851A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65D35-B006-4592-A9D1-769BF2156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AA78-FF81-48CE-BF6C-263CAF77E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EA08-933A-4FBE-A445-8F70AFB6A00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7: 29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st de Proporcionalida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la imposición de la obligación de defender a determinadas personas de escasos recursos constituye un fin razonable, pero el medio utilizado por el legislador –la gratuidad- </a:t>
            </a:r>
            <a:r>
              <a:rPr b="0" lang="es-ES" sz="1900" spc="-1" strike="noStrike" u="sng">
                <a:solidFill>
                  <a:srgbClr val="000000"/>
                </a:solidFill>
                <a:uFillTx/>
                <a:latin typeface="Arial"/>
              </a:rPr>
              <a:t>puede transformarse en gravoso</a:t>
            </a:r>
            <a:r>
              <a:rPr b="0" lang="es-ES" sz="1900" spc="-1" strike="noStrike">
                <a:solidFill>
                  <a:srgbClr val="000000"/>
                </a:solidFill>
                <a:latin typeface="Arial"/>
              </a:rPr>
              <a:t> si se piensa que el abogado deberá dedicarse sin contraprestación pecuniaria alguna a atender asuntos en desmedro de aquellos que ha asumido libremente, lo que puede tornarse en una situació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imposible de sostener, y aún de ejecuta satisfactoriamente, más todavía, si se piensa que la</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obligación se mantendrá hasta el término efectivo de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juicio que puede importar un largo período de tramitació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st de Proporcionalid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ita experiencia comparada que tiende a remunerar</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Sin embargo, si se impone gratuitamente, se transforma en medio desproporcionadamente gravoso, </a:t>
            </a:r>
            <a:r>
              <a:rPr b="0" lang="es-MX" sz="2100" spc="-1" strike="noStrike" u="sng">
                <a:solidFill>
                  <a:srgbClr val="000000"/>
                </a:solidFill>
                <a:uFillTx/>
                <a:latin typeface="Arial"/>
              </a:rPr>
              <a:t>desde el momento</a:t>
            </a:r>
            <a:r>
              <a:rPr b="0" lang="es-MX" sz="2100" spc="-1" strike="noStrike">
                <a:solidFill>
                  <a:srgbClr val="000000"/>
                </a:solidFill>
                <a:latin typeface="Arial"/>
              </a:rPr>
              <a:t> que el fin perseguido no exige ni impone que el abogado deba desempeñarse sin retribución alguna” (considerando 46°)</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ompara con otras “cargas públicas” remunerada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a licitud de los fines perseguidos por el legislador no puede permitir el empleo de </a:t>
            </a:r>
            <a:r>
              <a:rPr b="0" lang="en-US" sz="2100" spc="-1" strike="noStrike" u="sng">
                <a:solidFill>
                  <a:srgbClr val="000000"/>
                </a:solidFill>
                <a:uFillTx/>
                <a:latin typeface="Arial"/>
              </a:rPr>
              <a:t>medios gravosos</a:t>
            </a:r>
            <a:r>
              <a:rPr b="0" lang="en-US" sz="2100" spc="-1" strike="noStrike">
                <a:solidFill>
                  <a:srgbClr val="000000"/>
                </a:solidFill>
                <a:latin typeface="Arial"/>
              </a:rPr>
              <a:t> y que impongan una afectación al patrimonio de los abogados convocados al turno, todos los cuales tienen </a:t>
            </a:r>
            <a:r>
              <a:rPr b="0" lang="en-US" sz="2100" spc="-1" strike="noStrike" u="sng">
                <a:solidFill>
                  <a:srgbClr val="000000"/>
                </a:solidFill>
                <a:uFillTx/>
                <a:latin typeface="Arial"/>
              </a:rPr>
              <a:t>ciertamente</a:t>
            </a:r>
            <a:r>
              <a:rPr b="0" lang="en-US" sz="2100" spc="-1" strike="noStrike">
                <a:solidFill>
                  <a:srgbClr val="000000"/>
                </a:solidFill>
                <a:latin typeface="Arial"/>
              </a:rPr>
              <a:t> el derecho a una justa retribución por su servicio profesional” (considerando 53°)</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Justa retribución” (art.19 N° 16)</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Trabajo forzado (art. 19 N° 21)</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Como lo recuerda Couture: </a:t>
            </a:r>
            <a:r>
              <a:rPr b="0" i="1" lang="es-MX" sz="2100" spc="-1" strike="noStrike">
                <a:solidFill>
                  <a:srgbClr val="000000"/>
                </a:solidFill>
                <a:latin typeface="Arial"/>
              </a:rPr>
              <a:t>2de asuntos de dinero, el abogado debehablar con su cliente sólo una vez: concluido el litigio, para ajustar en muy pocas palabras, las menos posibles” (considerando 60°)</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ntes era peor por el bajo número de abogados … (¿desproporción?)</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 realmente despropor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s un análisis </a:t>
            </a:r>
            <a:r>
              <a:rPr b="0" i="1" lang="es-MX" sz="3000" spc="-1" strike="noStrike">
                <a:solidFill>
                  <a:srgbClr val="000000"/>
                </a:solidFill>
                <a:latin typeface="Arial"/>
              </a:rPr>
              <a:t>in concreto</a:t>
            </a:r>
            <a:r>
              <a:rPr b="0" lang="es-MX" sz="3000" spc="-1" strike="noStrike">
                <a:solidFill>
                  <a:srgbClr val="000000"/>
                </a:solidFill>
                <a:latin typeface="Arial"/>
              </a:rPr>
              <a:t> o parece </a:t>
            </a:r>
            <a:r>
              <a:rPr b="0" i="1" lang="es-MX" sz="3000" spc="-1" strike="noStrike">
                <a:solidFill>
                  <a:srgbClr val="000000"/>
                </a:solidFill>
                <a:latin typeface="Arial"/>
              </a:rPr>
              <a:t>in abstracto</a:t>
            </a:r>
            <a:r>
              <a:rPr b="0" lang="es-MX"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ensemos en categorías económic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4"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5"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6"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8"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2"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3"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4"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5"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6"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7"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8"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9"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50"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51"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2"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3"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4"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5"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6"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ratuidad como compensación del monopolio? ¿es el únic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enera un desincentivo a estudiar derecho? ¿necesidad de estadística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edicina = 7 años + especialidad no remunerad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ra necesario desde el punto de vista del bienestar soc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tuidad del turno establecida en el artículo 595 del CO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derechos o garantías se encuentran en tensión? ¿existe una efectiva tens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1838-667D-4A50-BCB3-A43404A364F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argumentos generales se utilizar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partida del monopolio para litig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Pública?</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E6F8-DFD1-4E44-91F2-A1614699803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gualdad ante la ley:</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1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n-US" sz="2100" spc="-1" strike="noStrike" u="sng">
                <a:solidFill>
                  <a:srgbClr val="000000"/>
                </a:solidFill>
                <a:uFillTx/>
                <a:latin typeface="Arial"/>
              </a:rPr>
              <a:t>razonable</a:t>
            </a:r>
            <a:r>
              <a:rPr b="0" i="1" lang="en-US" sz="2100" spc="-1" strike="noStrike">
                <a:solidFill>
                  <a:srgbClr val="000000"/>
                </a:solidFill>
                <a:latin typeface="Arial"/>
              </a:rPr>
              <a:t> entre quienes no se encuentren en la misma condición” (considerando 27°)</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900" spc="-1" strike="noStrike">
                <a:solidFill>
                  <a:srgbClr val="000000"/>
                </a:solidFill>
                <a:latin typeface="Arial"/>
              </a:rPr>
              <a:t>	</a:t>
            </a:r>
            <a:r>
              <a:rPr b="0" lang="es-MX" sz="2100" spc="-1" strike="noStrike">
                <a:solidFill>
                  <a:srgbClr val="000000"/>
                </a:solidFill>
                <a:latin typeface="Arial"/>
              </a:rPr>
              <a:t>“</a:t>
            </a:r>
            <a:r>
              <a:rPr b="0" i="1" lang="es-MX" sz="2100" spc="-1" strike="noStrike">
                <a:solidFill>
                  <a:srgbClr val="000000"/>
                </a:solidFill>
                <a:latin typeface="Arial"/>
              </a:rPr>
              <a:t>la razonabilidad es el cartabón o standard de acuerdo con el cual debe apreciarse la medida de igualdad o la desigualdad” </a:t>
            </a:r>
            <a:r>
              <a:rPr b="0" i="1" lang="es-ES" sz="2100" spc="-1" strike="noStrike">
                <a:solidFill>
                  <a:srgbClr val="000000"/>
                </a:solidFill>
                <a:latin typeface="Arial"/>
              </a:rPr>
              <a:t>(considerando 27°)</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	</a:t>
            </a:r>
            <a:r>
              <a:rPr b="0" lang="es-MX" sz="2100" spc="-1" strike="noStrike">
                <a:solidFill>
                  <a:srgbClr val="000000"/>
                </a:solidFill>
                <a:latin typeface="Arial"/>
              </a:rPr>
              <a:t>¿Cuál es el </a:t>
            </a:r>
            <a:r>
              <a:rPr b="0" i="1" lang="es-MX" sz="2100" spc="-1" strike="noStrike">
                <a:solidFill>
                  <a:srgbClr val="000000"/>
                </a:solidFill>
                <a:latin typeface="Arial"/>
              </a:rPr>
              <a:t>tertium comparationis</a:t>
            </a:r>
            <a:r>
              <a:rPr b="0" lang="es-MX" sz="2100" spc="-1" strike="noStrike">
                <a:solidFill>
                  <a:srgbClr val="000000"/>
                </a:solidFill>
                <a:latin typeface="Arial"/>
              </a:rPr>
              <a:t>? ¿abogados, profesiones liberales, profesiones, actividades remuneradas? ¿qué es lo que razonablemente distingue a los abog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a:t>
            </a:r>
            <a:r>
              <a:rPr b="0" i="1" lang="es-MX" sz="2100" spc="-1" strike="noStrike">
                <a:solidFill>
                  <a:srgbClr val="000000"/>
                </a:solidFill>
                <a:latin typeface="Arial"/>
              </a:rPr>
              <a:t>la garantía jurídica de la igualdad supone, entonces, la </a:t>
            </a:r>
            <a:r>
              <a:rPr b="0" i="1" lang="es-MX" sz="2100" spc="-1" strike="noStrike" u="sng">
                <a:solidFill>
                  <a:srgbClr val="000000"/>
                </a:solidFill>
                <a:uFillTx/>
                <a:latin typeface="Arial"/>
              </a:rPr>
              <a:t>diferenciación razonable</a:t>
            </a:r>
            <a:r>
              <a:rPr b="0" i="1" lang="es-MX" sz="2100" spc="-1" strike="noStrike">
                <a:solidFill>
                  <a:srgbClr val="000000"/>
                </a:solidFill>
                <a:latin typeface="Arial"/>
              </a:rPr>
              <a:t> entre quienes no se encuentren en la misma condición; pues no se impide que la legislación contemple en forma distinta situaciones diferentes, siempre que la discriminación no sea arbitraria ni responda a un propósito de hostilidad contra determinada persona o grupo de personas, </a:t>
            </a:r>
            <a:r>
              <a:rPr b="0" i="1" lang="es-MX" sz="2100" spc="-1" strike="noStrike" u="sng">
                <a:solidFill>
                  <a:srgbClr val="000000"/>
                </a:solidFill>
                <a:uFillTx/>
                <a:latin typeface="Arial"/>
              </a:rPr>
              <a:t>o importe indebido favor o privilegio personal o de grupo</a:t>
            </a:r>
            <a:r>
              <a:rPr b="0" i="1" lang="es-MX" sz="2100" spc="-1" strike="noStrike">
                <a:solidFill>
                  <a:srgbClr val="000000"/>
                </a:solidFill>
                <a:latin typeface="Arial"/>
              </a:rPr>
              <a:t>, debiendo quedar suficientemente claro que el legislador, en ejercicio de sus potestades, puede establecer regímenes especiales, diferenciados y desiguales siempre que ello no revista el carácter de arbitr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st de razonabilidad:</a:t>
            </a: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orgado por la Corte Suprema</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Único para medio para cumplir un objetivo constitucional (art. 19 N° 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uficiente para distinguir de otras profesiones liberales, profesiones,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objetiva y razonab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100" spc="-1" strike="noStrike">
                <a:solidFill>
                  <a:srgbClr val="000000"/>
                </a:solidFill>
                <a:latin typeface="Arial"/>
              </a:rPr>
              <a:t>“</a:t>
            </a:r>
            <a:r>
              <a:rPr b="0" lang="es-MX" sz="2100" spc="-1" strike="noStrike">
                <a:solidFill>
                  <a:srgbClr val="000000"/>
                </a:solidFill>
                <a:latin typeface="Arial"/>
              </a:rPr>
              <a:t>para poder determinar si se infringe la igualdad ante la ley, es necesario atender además a la </a:t>
            </a:r>
            <a:r>
              <a:rPr b="0" lang="es-MX" sz="2100" spc="-1" strike="noStrike" u="sng">
                <a:solidFill>
                  <a:srgbClr val="000000"/>
                </a:solidFill>
                <a:uFillTx/>
                <a:latin typeface="Arial"/>
              </a:rPr>
              <a:t>finalidad perseguida por el legislador para intervenir el derecho fundamental de que se trata, la que debe ser adecuada, necesaria y tolerable para el destinatario de la misma</a:t>
            </a:r>
            <a:r>
              <a:rPr b="0" lang="es-MX" sz="2100" spc="-1" strike="noStrike">
                <a:solidFill>
                  <a:srgbClr val="000000"/>
                </a:solidFill>
                <a:latin typeface="Arial"/>
              </a:rPr>
              <a:t>, como lo ha puntualizado la </a:t>
            </a:r>
            <a:r>
              <a:rPr b="0" lang="es-MX" sz="2100" spc="-1" strike="noStrike" u="sng">
                <a:solidFill>
                  <a:srgbClr val="000000"/>
                </a:solidFill>
                <a:uFillTx/>
                <a:latin typeface="Arial"/>
              </a:rPr>
              <a:t>doctrina autorizada</a:t>
            </a:r>
            <a:r>
              <a:rPr b="0" lang="es-MX" sz="2100" spc="-1" strike="noStrike">
                <a:solidFill>
                  <a:srgbClr val="000000"/>
                </a:solidFill>
                <a:latin typeface="Arial"/>
              </a:rPr>
              <a:t>” (considerando 39°)</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De este modo, resulta sustancial efectuar un examen de racionalidad de la distinción; a lo que debe agregarse la sujeción a la </a:t>
            </a:r>
            <a:r>
              <a:rPr b="0" lang="es-MX" sz="2100" spc="-1" strike="noStrike" u="sng">
                <a:solidFill>
                  <a:srgbClr val="000000"/>
                </a:solidFill>
                <a:uFillTx/>
                <a:latin typeface="Arial"/>
              </a:rPr>
              <a:t>proporcionalidad</a:t>
            </a:r>
            <a:r>
              <a:rPr b="0" lang="es-MX" sz="2100" spc="-1" strike="noStrike">
                <a:solidFill>
                  <a:srgbClr val="000000"/>
                </a:solidFill>
                <a:latin typeface="Arial"/>
              </a:rPr>
              <a:t>, teniendo en cuenta las situaciones fácticas, la finalidad de la ley y los derechos afectados” (considerando 40°)</a:t>
            </a:r>
            <a:endParaRPr b="0" lang="en-US" sz="21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OJO: Se aleja de la estructura de análisis de una discriminación con el elemento proporcionalidad (reservado para las “igualdades esenciale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4T12:03:24Z</dcterms:modified>
  <cp:revision>36</cp:revision>
  <dc:subject/>
  <dc:title>Derecho Constitucional Económico</dc:title>
</cp:coreProperties>
</file>