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BC12-3935-435A-8934-68C75F88DD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1751-5A1F-4AD1-8848-16494DBA127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B085A-1958-495C-A540-22425EEE2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FF7C7-5991-4AD3-87F1-3B7F331BB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7E030-F02F-4F7A-8FD5-B4492AE6F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5FD1A-AD90-4A63-8FCE-DE3CF7EC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D8733-1431-43F0-879A-2EC1A0761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EDF57-B942-4B59-82F2-592718BA5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5859D-FC2E-426E-A92E-165A69925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5B4FD-288C-44AF-B27A-E9515AB34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220D4-DE10-4B6E-A252-66E71E6EC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F905C-49FA-4D81-AAAF-6C9FB7897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D935B-1ACD-4727-A23B-ED3D9F659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4EFB7-D964-45DC-AD99-4819718D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2BDB-AE96-494C-A6F6-20E7968F6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9185-0D52-45DB-A717-47F370436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6842F-2FBE-4363-9275-BFEC7A83F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E91C9-ECA5-4B03-9E32-D1B8C59B7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51054-3E2F-4D90-AE97-9F0C269D4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4FB06-4B04-4A1E-8874-09BB5C6F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25D7D-1113-4859-A91E-35F27244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B4D4-00C5-499F-9E5B-54FC8C87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637BE-90FB-4049-ACB7-27F4952E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101B-D88A-47B6-BC6D-713EE240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C626-726D-4B9A-89A1-B340CF780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266E-5FFF-4DCC-A385-2DFF42596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9221-576B-499A-854C-E86966722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BB45-44E2-4BF3-879B-207D9EFCD74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29 de nov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no discriminación arbitraria en el trato que deben dar el Estado y sus organismos en materia económica (19 N° 22)</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repartición de los tributos en proporción a las rentas o en la progresión o forma que fije la ley, y la igual repartición de las demás cargas públicas (19 N° 20).</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protección de la ley en el ejercicio de sus derechos (19 N° 3).</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gualdad ante la ley … no discriminación arbitraria (19 N° 2)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es oportunidades = sin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riminaciones =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s distorsiones debe ser compensado por un bien superior (racional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de propiedad en sus diversas especies sobre toda clase de bienes corporales o incorporales (19 N°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piedad Intelectual e Industrial (19 N° 2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Base para una explotación eficien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exclusivo y excluyente para usar, gozar y dispone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Apropiación de los frutos … tratar de obtener más con lo mismo (eficiencia productiva = </a:t>
            </a:r>
            <a:r>
              <a:rPr b="0" i="1" lang="es-MX" sz="3000" spc="-1" strike="noStrike">
                <a:solidFill>
                  <a:srgbClr val="000000"/>
                </a:solidFill>
                <a:latin typeface="Arial"/>
              </a:rPr>
              <a:t>uso</a:t>
            </a:r>
            <a:r>
              <a:rPr b="0" lang="es-MX" sz="3000" spc="-1" strike="noStrike">
                <a:solidFill>
                  <a:srgbClr val="000000"/>
                </a:solidFill>
                <a:latin typeface="Arial"/>
              </a:rPr>
              <a:t> efici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ibertades, Igualdades y Propiedad miran a la eficiencia (creación de rique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ol corrector y redistributivo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4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ctangle 3" descr=""/>
          <p:cNvPicPr/>
          <p:nvPr/>
        </p:nvPicPr>
        <p:blipFill>
          <a:blip r:embed="rId1"/>
          <a:stretch/>
        </p:blipFill>
        <p:spPr>
          <a:xfrm>
            <a:off x="1523880" y="457200"/>
            <a:ext cx="70106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Libertades – Igualdades - Propiedad</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es necesario garantizarlas constitucionalmen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función económica tiene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pasaría en ausencia de estos D°s y Garantí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AACD-C93D-4F7A-95A8-481BAC8348E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9A85-EB80-4B29-AB1B-633972C2B20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Libertades – Igualdades – Propiedad: Racional Económic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Asignación eficiente de recursos</a:t>
            </a:r>
            <a:r>
              <a:rPr b="0" lang="es-ES" sz="2100" spc="-1" strike="noStrike">
                <a:solidFill>
                  <a:srgbClr val="000000"/>
                </a:solidFill>
                <a:latin typeface="Arial"/>
              </a:rPr>
              <a:t> (esca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a:t>
            </a:r>
            <a:r>
              <a:rPr b="0" lang="es-ES" sz="2100" spc="-1" strike="noStrike">
                <a:solidFill>
                  <a:srgbClr val="000000"/>
                </a:solidFill>
                <a:latin typeface="Arial"/>
              </a:rPr>
              <a:t>Una asignación de recursos es eficiente si la producción y la distribución no pueden reorganizarse para aumentar la utilidad de uno o más individuos sin reducir la utilidad de los otros. En este caso se dice que la economía ha alcanzado un óptimo de Pareto” (Joaquín P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Factores se desplacen a quienes pueden producir más con ellos … necesidad de cumplimiento de los supuestos (</a:t>
            </a:r>
            <a:r>
              <a:rPr b="0" i="1" lang="es-MX" sz="2100" spc="-1" strike="noStrike">
                <a:solidFill>
                  <a:srgbClr val="000000"/>
                </a:solidFill>
                <a:latin typeface="Arial"/>
              </a:rPr>
              <a:t>workable competition</a:t>
            </a:r>
            <a:r>
              <a:rPr b="0" lang="es-MX"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ibertad de movimiento de capitales, bienes, servicios y personas (Modelo de la UE) = asignación efic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competitive advantages</a:t>
            </a:r>
            <a:r>
              <a:rPr b="0" lang="es-MX" sz="2100" spc="-1" strike="noStrike">
                <a:solidFill>
                  <a:srgbClr val="000000"/>
                </a:solidFill>
                <a:latin typeface="Arial"/>
              </a:rPr>
              <a:t> (M. Por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mpetitive advantage grows fundamentally from the value a firm is able to create ... Value is what buyers are willing to pay, and superior value stems from offering lower prices than competitors for equivalent benefits or providing unique benefits that more than offset higher prices." (Porter) = costo, diferenciación, et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inimizar obstáculos al </a:t>
            </a:r>
            <a:r>
              <a:rPr b="0" lang="es-MX" sz="3000" spc="-1" strike="noStrike" u="sng">
                <a:solidFill>
                  <a:srgbClr val="000000"/>
                </a:solidFill>
                <a:uFillTx/>
                <a:latin typeface="Arial"/>
              </a:rPr>
              <a:t>libre</a:t>
            </a:r>
            <a:r>
              <a:rPr b="0" lang="es-MX" sz="3000" spc="-1" strike="noStrike">
                <a:solidFill>
                  <a:srgbClr val="000000"/>
                </a:solidFill>
                <a:latin typeface="Arial"/>
              </a:rPr>
              <a:t> circulación de capital, bienes, servicios y personas hacia aquellos con ventajas competitiv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iscriminaciones pueden generar efectos distorsionantes … justific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orema de Coa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Plantea que en un mercado en que los costos de transacción sean bajos o inexistentes, y que los derechos de propiedad establecidos en los fallos judiciales no permitan una solución económica suficiente, se producirá necesariamente una reasignación de estos derechos hacia aquellos que los valoran más, aunque las cortes fallen en contra de éstos. Con todo, son muchos los casos en que los altos costos de transacción impiden una reasignación de los derechos establecidos en los fallos judicial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Necesidad de minimizarlo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económica (19 N° 21)</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para adquirir el dominio de toda clase bienes (19 N° 23)</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trabajo y su protección (19 N° 16)</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opinión y información (19 N° 12)</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 abrir, organizar establecimientos educacionales (19 N° 11)</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la base para la libre circulación de los factores hacia su más eficient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1-24T12:02:08Z</dcterms:modified>
  <cp:revision>34</cp:revision>
  <dc:subject/>
  <dc:title>Derecho Constitucional Económico</dc:title>
</cp:coreProperties>
</file>