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0533-DF19-4FAB-BABD-F14FD78CD5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5E9B-CE62-4739-AF4C-BA6D37DF24B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F7D12-8EC8-4F98-957D-D3D57907F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5A12E-D7D3-4E71-8363-E1A0D725A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1EA72-1B75-40C5-A775-176F042C3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A4975-2707-4565-9D3D-5CC79E736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9297C-AA62-4C4E-BC9E-F46658256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E9227-2720-44D1-9635-7AB6D237F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01104-B117-49F6-9289-134088AA7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84AEB-F3D3-43DC-8BA6-F0D66B634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5B231-8C7B-4CF8-B46D-6917221A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A43CA-92E2-45D5-B4C1-CC146F384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DB329-E57D-4FD3-9EEA-1281B13B6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B6EB-15A0-4ADB-ABE2-21EC3D4B7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EB9FD-8884-4ABA-A214-B54A7B024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07C57-F27E-45B3-AF13-62D7E7167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7835B-0B2A-4491-AB75-84AAF49AC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1BD2B-FEBA-4324-943E-C9D37BF9E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7B99C-DDFE-4355-801B-9B261D9D8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87A00-163B-44CE-B47F-BD455E22D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04D2-888D-4337-A6C2-DB649A4F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65C9C-4F14-4FF9-9305-9FCD1898F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79862-3506-4BA3-9E87-71B5127F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7B7A-B5C2-4D42-835C-0B1C9E4E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EF97-0909-49D7-8C97-DC7B15C5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D57C-00DF-48D7-B9DB-4F08540A9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C07A-240C-4240-974E-EA8CA24D8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EDDC-FD10-4298-870A-BC43DA53CDC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15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316F-1BDB-40EA-95C2-E5C5468CEC9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53C6-98BD-4A44-B63C-C3CBE875D25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FE07-4DA6-48BA-813F-AB73823C9BA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1C91-D477-4F24-AE97-FA274DD81F2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E58D-2B23-49CA-9002-04F96176D07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9287-AAC7-4225-A8A7-058F362E9D5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7575-77F3-4EB3-ACCA-B1C035D7789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D04A-3CCC-40BA-95DE-A8F42C9D4BC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4EB1-3F49-43FF-ACA8-36183DC2880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20E1-FB7E-4E96-83CE-17EF765F8E3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742F-253F-475A-9ADB-34E5323DCF4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09C0-9272-446C-856D-06989164321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FE39-64DE-4521-91A6-63B9276BBD4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15T01:08:37Z</dcterms:modified>
  <cp:revision>25</cp:revision>
  <dc:subject/>
  <dc:title>Derecho Constitucional Económico</dc:title>
</cp:coreProperties>
</file>