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414D-A8A8-41CF-BB1F-3E91EBC242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22C6-2196-4416-B99E-3C9DBEA9C1E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3C6E-2789-4919-86AB-F362D961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93FE-B5FF-4E52-8FCA-F52C50990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D7E7-0675-4FBC-902F-7F6BF8BEB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151-AFDA-47FB-AC16-94A6EFBA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E75A-6BC7-4BC1-BBA0-568940DD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2827-D7F2-4C40-BA1A-ABED3FDF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A70C-ED13-4FEE-9EB8-9751B85C92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5F96-8A7F-47DB-9BAD-29A9DD46F3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BE4B-7AC6-4CA5-B5C8-015DB9F9A2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BD4A-D23C-4692-8623-6F635F94A9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2449-3DA6-41EC-BF3F-998B1ED55A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0841-E702-47FD-9F7D-99B1F04741A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BA2C-952A-45CC-B140-06AA580F66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6723-BCF1-485A-8A56-FEB647E03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1A1E-99F2-498E-A5FD-8622016D3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8676-568E-4954-B9EF-4B80CB176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153F-2515-4E12-8B7F-9836E916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0369-8397-495D-B471-0786DD60B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B4ED-7ED2-42EA-925F-F57816F2B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0933-C3FD-403F-994C-B3F83DD2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D6C-F8B4-401F-AC1E-12756C45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E9A-E220-497E-BE8E-9C3E5FB8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979-AD86-4B1A-8B2C-49DA00AD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42AE-A815-49BF-91A4-BBAA32AF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CC6-EAFF-4AB5-936C-FACF821E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2AD-F986-4088-861F-94A1644B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4DD5-BD63-485E-A214-E7D6E3C9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7E57-8883-4C0D-A44E-88BD9F0A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F0F-4F10-4D96-A008-73EE969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2E3-3537-42CD-A774-9A6912CE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79A1-3E29-474E-8F07-F531C892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DA8D-1128-4BF7-963C-D50F94708DC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Beltrán, Yolanda con Fisco (1997): muerte de hijo de actora, a las 22 hrs. de 15.09.1987 por un Carabinero en estado de ebriedad (ese día el autor efectuó servicio de primer turno desde las 7 a 14.30 hrs. y a las 23.15 se encontraba de franco)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Si el hecho de la muerte de la persona no guarda relación con la labor funcionaria de quien la provocó, pues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no fue cometido en un acto de servicio ni con ocasión del mism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, cabe concluir que se trata de un hecho jurídico de carácter personal, que se rige por el derecho común en lo referente a indemnizaciones y no por el derecho público no obligando, por ende, al Fisco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Los actos personales del funcionario realizados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fuera de su horario de trabajo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no revisten el carácter de actos de servicio, aunque el hecho se haya cometido con u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  <a:ea typeface="Arial"/>
              </a:rPr>
              <a:t>arma fiscal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Que de acuerdo a las normas del derecho común tampoco cabe responsabilidad al Fisco (arts. 2314 y s., 2320, 2322 y 2329 Código Civi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Toda persona es responsable de sus propios actos y si bien los empresarios responden por los actos de sus dependientes, ello ocurre mientras estén bajo su cuidado, es decir, </a:t>
            </a:r>
            <a:r>
              <a:rPr b="1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mientras pueda ejercerse un control sobre el funcionario</a:t>
            </a:r>
            <a:r>
              <a:rPr b="0" lang="es-ES" sz="19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  <a:ea typeface="Arial"/>
              </a:rPr>
              <a:t>encontrándose éste en el ejercicio de sus labores, pero no en los actos de su vida privada.”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3360" y="259920"/>
            <a:ext cx="8216640" cy="62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62 DL 1289/76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La responsabilidad extracontractual procederá, principalmente, para indemnizar los perjuicios que sufran uno o más usuarios de los servicios municipales, cuando estos 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no funcionen debiendo hacerlo, o lo hagan en forma deficiente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rt. 142 LOCM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Las municipalidades incurrirán en responsabilidad por los daños que causen, la que procederá́ principalmente por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de servicio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“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Courier New"/>
              </a:rPr>
              <a:t>No obstante, las municipalidades tendrán derecho a repetir en contra del funcionario que hubiere incurrido en 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Courier New"/>
              </a:rPr>
              <a:t>falta perso</a:t>
            </a:r>
            <a:r>
              <a:rPr b="0" lang="es-ES" sz="2200" spc="-1" strike="noStrike">
                <a:solidFill>
                  <a:srgbClr val="ff0000"/>
                </a:solidFill>
                <a:latin typeface="Arial"/>
                <a:ea typeface="Arial"/>
              </a:rPr>
              <a:t>n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604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Neira Rivas, Gloria y Poupin Neira, Juan con Fisco de Chile (2000): </a:t>
            </a:r>
            <a:r>
              <a:rPr b="1" lang="es-ES_tradnl" sz="2300" spc="-1" strike="noStrike">
                <a:solidFill>
                  <a:srgbClr val="000000"/>
                </a:solidFill>
                <a:latin typeface="Arial"/>
                <a:ea typeface="Arial"/>
              </a:rPr>
              <a:t>detención de Arsenio Poupin por funcionarios militares, que tenían la calidad de servidores públic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699920"/>
            <a:ext cx="854064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t. 38.2 CPR y art. 4 LOCBGAE, contienen el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recho que le asiste a todo particular de ser reparad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frente a las actuaciones que le provoquen daño, sea de una acción u omisión del órgano públic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R establece una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responsabilidad orgánic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: la imputación del daño recae directamente sobre el órgano administrati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i bien en el caso de autos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no se ha podido determinar o precisar la o las personas responsables del hech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ello no obsta que la acción civil pueda prosperar, puesto que, </a:t>
            </a:r>
            <a:r>
              <a:rPr b="1" lang="es-ES_tradnl" sz="2100" spc="-1" strike="noStrike">
                <a:solidFill>
                  <a:srgbClr val="ff0000"/>
                </a:solidFill>
                <a:latin typeface="Arial"/>
              </a:rPr>
              <a:t>no es responsabilidad de estos demandantes que no se los haya podido individual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gueroa Gallardo con Fisco de Chile (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13920"/>
            <a:ext cx="8540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falta de servicio que irroga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directamente responsabilidad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l Estado, en los términos del artículo 44 de la Carta Fundamental (sic), se produ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s órganos administrativos no actúan, debiendo hacerlo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 actuación es tardía 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llos funcionan defectuosamente causando perjuicio a los usuarios o destinatarios del servicio públ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y, si bien estos últimos 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no requieren individualizar ni perseguir al funcionario</a:t>
            </a:r>
            <a:r>
              <a:rPr b="0" lang="es-ES_tradnl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ya acción u omisión personal origina la falta, en cambio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vocar y acredit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existencia de esta falla en la actividad del órgano administrativo, 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ella es l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s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daño experimentado por el patrimonio de la víctima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érez Llona, Ma. Cristina con Municip. Las Condes (199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7360"/>
            <a:ext cx="854064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debe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s municipalidades la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vigilancia y salvaguardi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vías de tránsito públicos en zonas urba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00 Ley Tránsito, Municipalidad debe mantener o hacer mantener señales de advertencia de peligro en caso de ejecución de trabajos en las cal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e art. 137 LOCM (hoy 142), Municipalidad es responsable principalmente por 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falta de servic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 causa del daño es el mal estado de la acera o vereda, lugar que se encontraba sin protección adecuada ni señalización de peligro, solo cabe concluir que Municipalidad es respons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isóstomo, Ma. Luisa con Municip. Concepción (199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71760"/>
            <a:ext cx="8540640" cy="49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ualquiera que sea el ámbito en que se examine la responsabilidad de la Municipalidad por accidentes sufridos por las personas en las vías públicas por ausencia o inadecuada señalización de lugares de peligro para el tránsito de peatones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entienda que es un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responsabilidad objetiva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a que se aplique la teoría de la </a:t>
            </a: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falta de servicio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la debe indemnizar a la víctima, </a:t>
            </a:r>
            <a:r>
              <a:rPr b="0" lang="es-ES_tradnl" sz="2100" spc="-1" strike="noStrike">
                <a:solidFill>
                  <a:srgbClr val="ff0000"/>
                </a:solidFill>
                <a:latin typeface="Arial"/>
              </a:rPr>
              <a:t>desde que ha omitido su deber de mantener un paseo peatonal de manera expedita para su tránsito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, como asimismo de mantener señales de advertencia al público del peligro que corrían en determinados lugares, omisión que ocasionó el accidente de la actora …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ja García, Domingo y otro con Municip. Talcahuano (199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406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nicipalidad es responsable de los daños que produzca en las personas sea por su actividad, sea por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deficiencias en la prestación de sus servicios como en la ausencia de mantención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 un mástil colocado en una plazoleta pública que careciendo de los soportes y debida firmeza, cae sobre un niño, produciéndole la muer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a CPR (art. 38.2), y Ley 18.575 (art. 4) y Ley 18.695 (art. 137) establecen </a:t>
            </a:r>
            <a:r>
              <a:rPr b="1" lang="es-CL" sz="1900" spc="-1" strike="noStrike">
                <a:solidFill>
                  <a:srgbClr val="ff0000"/>
                </a:solidFill>
                <a:latin typeface="Arial"/>
              </a:rPr>
              <a:t>responsabilidad objetiva del Estad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, de sus órganos y de la Municipalida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siendo objetiva la responsabilidad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del Estado, no es obligación del ofendido o del que ha sufrido el daño probar la existencia de dolo o culpa en el autor de ést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no es procedente aplicar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a la responsabilidad del Estado las normas de la responsabilidad extracontractual contenidas en el </a:t>
            </a:r>
            <a:r>
              <a:rPr b="0" lang="es-CL" sz="1900" spc="-1" strike="noStrike">
                <a:solidFill>
                  <a:srgbClr val="ff0000"/>
                </a:solidFill>
                <a:latin typeface="Arial"/>
              </a:rPr>
              <a:t>Código Civil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uesto que ellas son total y absolutamente distintas no sólo en su origen sino también en su propósito o fi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ivera con Municipalidad de La Unión (200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hecho de suscribir una Municipalidad un </a:t>
            </a:r>
            <a:r>
              <a:rPr b="1" lang="es-CL" sz="2100" spc="-1" strike="noStrike">
                <a:solidFill>
                  <a:srgbClr val="ff0000"/>
                </a:solidFill>
                <a:latin typeface="Arial"/>
              </a:rPr>
              <a:t>convenio de ejecución participativa de pavimentación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 con el Serviu, … no la habilita a descargarse de la responsabilidad propi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ni la exime de su obligación de indemniz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de el momento que la municipalidad </a:t>
            </a:r>
            <a:r>
              <a:rPr b="0" lang="es-CL" sz="2100" spc="-1" strike="noStrike">
                <a:solidFill>
                  <a:srgbClr val="ff0000"/>
                </a:solidFill>
                <a:latin typeface="Arial"/>
              </a:rPr>
              <a:t>le corresponde aplicar de manera privativ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las disposiciones sobre construcción y urbanización, debe entonces responder por las pavimentaciones defectuos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plic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Falta de servicio municipal en caso de acción por omisió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Sostiene que los contratos administrativos no liberan de responsabilidad a los órganos administrativos, por incumplimiento de deberes legales privativ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99128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Institucional del Estado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en la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Responsabilidad Institucional en el Estado en la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Administr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Ju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sabilidad del Estado Legislad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 Unicode MS"/>
              </a:rPr>
              <a:t>Art. 1°, inc. 2 L. 18.57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</a:rPr>
              <a:t>La Administración del Estado estará constituida por los Ministerios, las Intendencias, las Gobernaciones y los órganos y servicios públicos creados para el cumplimiento de la función administrativa, incluidos la Contraloría General de la República, el Banco Central, las Fuerzas Armadas y las Fuerzas de Orden y Seguridad Pública, los Gobiernos Regionales, las Municipalidades y las empresas creadas por ley.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Unicode MS"/>
              </a:rPr>
              <a:t>C/Sagredo Pizarro, Jorge, y Topp Collins, Carlos (198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4064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a responsabilidad del Estado, ... debe surgir en este caso ... de la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responsabilidad por el hecho ajen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pero, para que ésta se dé, es necesario que el hechor o hechores estén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bajo el cuidado del tercero demandado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 el caso de autos, supuesto de aceptarse ... que esa relación de cuidado pueda ser también de índole administrativa, es obvio que en este supuesto deba restringirse al </a:t>
            </a:r>
            <a:r>
              <a:rPr b="1" lang="es-CL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cuidado dentro del servicio o respecto de actuaciones ejecutadas con ocasión de él</a:t>
            </a:r>
            <a:r>
              <a:rPr b="0" lang="es-CL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dada la naturaleza de esa dependencia, no pudiendo estimarse que se cumpla con esas exigencias, .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responsabilidad Estado por hecho de quien está a su cuidado (hecho ajeno), debe restringirse a cuidado </a:t>
            </a:r>
            <a:r>
              <a:rPr b="0" lang="es-CL" sz="1800" spc="-1" strike="noStrike">
                <a:solidFill>
                  <a:srgbClr val="ff0000"/>
                </a:solidFill>
                <a:latin typeface="Arial Unicode MS"/>
              </a:rPr>
              <a:t>dentro del servicio o actuaciones ejecutadas con ocasión de é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91680" indent="-33552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los casos concretos de autos, hechores actuar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oras de franco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sin uso uniformes ni de armas fiscal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en hechos que nada tienen que ver con el empleo o función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Unicode MS"/>
              </a:rPr>
              <a:t>hechos que los habrían podido cometer igualmente si en esos momentos ya no hubiesen pertenecido a la institu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6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Art. 7º, inc. 3º, C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¿Art. 38, inc. 2º, CP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Fuentes Lizana con Almonacid y Fisco (1996):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violencia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  <a:ea typeface="Arial"/>
              </a:rPr>
              <a:t>innecesaria haciéndose ejercicio abusivo de función polic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406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ncontrándose acreditada la existencia del delito penal cometido por el demandad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n acto de servicio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como carabinero, …, necesario es declarar que al demandante le asiste el derecho a ser civilmente indemnizado tanto por el funcionario referido como por el Fisco, en cuanto </a:t>
            </a:r>
            <a:r>
              <a:rPr b="1" lang="es-CL" sz="2100" spc="-1" strike="noStrike">
                <a:solidFill>
                  <a:srgbClr val="ff0000"/>
                </a:solidFill>
                <a:latin typeface="Arial Unicode MS"/>
              </a:rPr>
              <a:t>es responsable del hecho de sus órganos o agentes</a:t>
            </a:r>
            <a:r>
              <a:rPr b="0" lang="es-CL" sz="2100" spc="-1" strike="noStrike">
                <a:solidFill>
                  <a:srgbClr val="ff0000"/>
                </a:solidFill>
                <a:latin typeface="Arial Unicode MS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Idea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Responsabilidad solidaria en la comisión de delitos civi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responde con sus funcionarios por los delitos que éstos come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 Unicode MS"/>
              </a:rPr>
              <a:t>Estado tiene responsabilidad orgánica y funcionario responsabilidad subjetiv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eríodo Normativa Pública – 198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000080"/>
            <a:ext cx="837720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ependencia responsabilidad de sujetos públicos y sujetos priv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aplica única y exclusivamente normativa púb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s. 6, 7, 19 N° 20, 19 N° 24, 38, 41 N° 8,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4 y 4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ey 18.5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t. 142 LO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chs y Plath con Fisco (190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mario: cerveza arrojada al m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lica principio d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sabilidad institucion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bierno debe indemnizar perjuicios causados durante una huelga por fuerza armada que, obedeciendo orden superior arroja al mar bebidas para impedir que caiga en poder de huelguist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ber de la autoridad de mantener ante todo el orden público,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no la faculta para adoptar el primer medio que se le presenta ni la exime de la obligación de recurrir entre varios, a los que menos daños ocasione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derecho de los particul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bándose que arrojar al agua mercancía fuese medio necesario y único de impedir su apropiación por huelguistas, debe el Fisco indemnizar el daño causad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asos de indefinición de las normas fundantes del sist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28480"/>
            <a:ext cx="8540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c/ César Miranda Galvez y otros por homicidio de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Nattino, Parada y Guerrero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, se condenó Fisco, fundándose en arts. 5, 6, 7 y 38 CP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Causa </a:t>
            </a:r>
            <a:r>
              <a:rPr b="1" lang="es-ES" sz="2500" spc="-1" strike="noStrike">
                <a:solidFill>
                  <a:srgbClr val="000000"/>
                </a:solidFill>
                <a:latin typeface="Arial"/>
              </a:rPr>
              <a:t>Lionel Beraud</a:t>
            </a: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 condenó Fisco amparándose en el art. 38, inc. 2°, CPR, y en el art. 4 Ley 18.57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1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Hexagon Ltda. con Fisco (1987): 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paralización de las liquidaciones de importación de automóviles marca Pacer y Hornets en 1977</a:t>
            </a:r>
            <a:br>
              <a:rPr sz="2800"/>
            </a:b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40640" cy="52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nera responsabilidad para Estado conforme CPR (arts. 6, 7, 19 Nº 24 y 20) y Ley 18.575 (arts. 4 y 42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ponsabilidad de Estado no emana de Título XXXV del Libro IV C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ciones y omisiones de autoridades públicas, efectuadas en calidad de tales,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son imputables directamente a Administración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responsabilidad orgánic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indemnizar daño a víctima que jurídicamente no está obligada a soportarlo, constituy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l derecho de propiedad al ser privado de lo suy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olación a principio constitucional de la igual repartición de las cargas públicas y de la igualdad ante la 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Rodríguez Guaita, G. con SAG (1993):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SAG dictó medidas para erradicar un foco de fiebre aftosa detectado en la VII Región, prohibiendo el uso de algunos predio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54064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rgánica: víctima siempre puede demandar los perjuicios </a:t>
            </a:r>
            <a:r>
              <a:rPr b="0" lang="es-CL" sz="2300" spc="-1" strike="noStrike">
                <a:solidFill>
                  <a:srgbClr val="ff0000"/>
                </a:solidFill>
                <a:latin typeface="Arial"/>
                <a:ea typeface="Arial"/>
              </a:rPr>
              <a:t>directamente a la Administració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Responsabilidad objetiva: art. 38 CPR consagra el principio de que todo daño ocasionado por la Administración debe ser indemniz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  <a:ea typeface="Arial"/>
              </a:rPr>
              <a:t>Falta person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Arial"/>
              </a:rPr>
              <a:t>el vínculo que puede surgir entre la Administración y el funcionario que incurre en falta personal es una materia 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“</a:t>
            </a:r>
            <a:r>
              <a:rPr b="0" lang="es-ES" sz="2300" spc="-1" strike="noStrike">
                <a:solidFill>
                  <a:srgbClr val="ff0000"/>
                </a:solidFill>
                <a:latin typeface="Arial"/>
                <a:ea typeface="Arial"/>
              </a:rPr>
              <a:t>inter-orgánica</a:t>
            </a:r>
            <a:r>
              <a:rPr b="0" lang="ja-JP" sz="2300" spc="-1" strike="noStrike">
                <a:solidFill>
                  <a:srgbClr val="ff0000"/>
                </a:solidFill>
                <a:latin typeface="Arial"/>
                <a:ea typeface="Arial"/>
              </a:rPr>
              <a:t>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Tirado con Municipalidad de La Rein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  <a:ea typeface="Arial"/>
              </a:rPr>
              <a:t> (1981):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  <a:ea typeface="Arial"/>
              </a:rPr>
              <a:t>daño sufrido de caído en una excavación profunda en una calle de la comuna, que carecía de las señalizaciones de tránsito necesarios para evitar este tipo de accidente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54064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Municipalidad tiene el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deber legal de inspeccionar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s obras de urbanización: deber de velar que las aceras se mantengan expeditas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no puede haber infracción de normas del Código Civil cuando la sentencia ha aplicado principio de </a:t>
            </a: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responsabilidad objetiva del art. 62 Ley Orgánica de Municipalidades,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escartando la responsabilidad por la culpabilida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Arial"/>
              </a:rPr>
              <a:t>no es necesario acreditar que hubo de parte de uno o más funcionarios, empleados u obreros de dicha Municipalidad, negligencia en desempeño de sus obligacion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1-30T12:32:46Z</dcterms:modified>
  <cp:revision>151</cp:revision>
  <dc:subject/>
  <dc:title>CONTROL</dc:title>
</cp:coreProperties>
</file>