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DD45-4331-4171-A191-C7EA421CC49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882C-3DA6-4893-9784-0DCC4D7212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699B-D011-4AD4-83D5-38D7022CA5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083E-2C84-4632-9F2C-E27DD44385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C5C0-8CC5-4051-9C5C-09D739BB11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CB85-175A-401D-A880-CA68C7BA80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A41F-DF52-4C2F-84B4-D0A876F096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08923-941D-48CA-B179-E6B52DE624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79E6-840D-4260-9899-257E140BED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B4278-7E7E-45D7-8342-9140151720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FB82-2F99-482D-8B29-8316E337FF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284E8-AEFA-4ABF-B4EB-0ED5A2DD36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1785-A608-48E7-8A79-A12057D20E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3F54-2FBD-468D-9FC8-EECF172373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8B28-51DB-472D-8DA7-714DC56940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9690-1FDB-4534-B051-EA6988F956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9B86A-9AAA-4F98-BCA0-D1E2474CA5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C8AA-8160-47CE-80A3-2DC2119E59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9A83-F9EA-43B3-A65F-43D1D5832F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B4DE-2B00-49D0-AD33-D2BAC288BB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2B67-8E4C-499A-8F8F-9FD4504739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4063-1DED-42E8-8938-2847A9144E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1E59-1B35-4252-946B-BF2EAE6B5D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398E1-7408-4448-86FA-C93A0F9117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3 Marcador de número de diapositiva"/>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FF9F-4CE2-4CF8-A15A-FB6B1BB475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BE6C-572C-436E-A0C8-6D448A45A4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8EFF-DA7C-4EB7-B785-459910E2E4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331B-0B7E-4039-BA14-DDC327AB38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0864C-8DA7-47B6-AA75-FC5A6FF8E1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4C23-8368-4772-986E-BD244BDC96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66D8-1DBA-465A-80B2-636266CCD3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A1B39-7284-4D4E-AB99-92303DEB28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F47F1-D44B-4FEB-AF3E-D5151AA737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936C-494E-4108-A16E-BB1A26744AD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3A4C-5210-42DE-B050-A4EEA7A8FF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C5C7-5249-4719-8C14-84FF1A5FFD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B506-D97F-4D5B-BAE7-C69B74A00A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13C7-5344-4090-8DD1-2B0EBF0B53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5B2A-9D35-4ED9-8524-F5918960C6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12ADF-1A77-45A6-BD70-89F70E763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50ED9-7B66-4DAE-B01A-B9D7ED228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7F5EE-682C-4516-BB41-143FAC1E6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469CD-D931-43E6-AAF5-7F3CFB656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4D27BD-E0FB-46BC-AF41-4A12744A8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A9934-B1A8-468F-9519-5FC2ACDA7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6E810-E4A0-479B-B2C9-0C9A2A17F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123EF-52CB-4AA8-9983-C4957D891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C62FA-7F2C-4176-81B8-4FC806393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9FEC5-6979-497F-9EB2-C27E56E22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01FFB-B749-4C91-8495-6C5E47DAE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9EB32-E5C9-42FC-9772-F9B868C48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F3C48-AE08-4F23-8DA5-7C0EF612B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AE2F0-AEE4-4D4D-8A3E-D16CBE05C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1B1B1-DDE2-4C9E-90E4-D27662459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7A7CC-859F-44E3-897A-7816003422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45694-D020-4715-B30F-B5009E961A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8F035-DD05-4EFB-9FD4-DE9F58CEB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A958C-8B2A-422B-8D86-1F889A5D8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F9008-61D5-4772-B6A3-5E85ABB15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4C08F-BD7B-4F48-B237-962A1C46E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7D012-F646-4DC5-B984-E6F0CE0F6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44A14-C1EE-437D-9786-F556BF99A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A4F7E-6CAA-4291-B054-13F0E1579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F69DD-C10D-4821-8154-178D31A53A09}"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7AB0-4DCE-42D2-BAD1-ADF44B105A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2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daño indemnizable</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Rectangle 2" descr=""/>
          <p:cNvPicPr/>
          <p:nvPr/>
        </p:nvPicPr>
        <p:blipFill>
          <a:blip r:embed="rId1"/>
          <a:stretch/>
        </p:blipFill>
        <p:spPr>
          <a:xfrm>
            <a:off x="969840" y="2127240"/>
            <a:ext cx="7058160" cy="281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1680" y="1142640"/>
            <a:ext cx="8540640" cy="4956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stitució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habilitació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atisfacció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arantías de no repetición</a:t>
            </a:r>
            <a:endParaRPr b="0" lang="en-US" sz="2800" spc="-1" strike="noStrike">
              <a:solidFill>
                <a:srgbClr val="000000"/>
              </a:solidFill>
              <a:latin typeface="Calibri"/>
            </a:endParaRPr>
          </a:p>
        </p:txBody>
      </p:sp>
      <p:pic>
        <p:nvPicPr>
          <p:cNvPr id="109" name="Rectangle 2" descr=""/>
          <p:cNvPicPr/>
          <p:nvPr/>
        </p:nvPicPr>
        <p:blipFill>
          <a:blip r:embed="rId1"/>
          <a:stretch/>
        </p:blipFill>
        <p:spPr>
          <a:xfrm>
            <a:off x="457200" y="189000"/>
            <a:ext cx="8229600" cy="110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539280" y="333360"/>
            <a:ext cx="8001000" cy="5765760"/>
          </a:xfrm>
          <a:prstGeom prst="rect">
            <a:avLst/>
          </a:prstGeom>
          <a:noFill/>
          <a:ln w="0">
            <a:noFill/>
          </a:ln>
        </p:spPr>
        <p:txBody>
          <a:bodyPr anchor="t">
            <a:normAutofit fontScale="90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Restitució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volver a víctima a la situación anterior a la violación o lesión de sus derechos </a:t>
            </a:r>
            <a:endParaRPr b="0" lang="en-US" sz="24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mprende:</a:t>
            </a:r>
            <a:endParaRPr b="0" lang="en-US" sz="24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stablecimiento de la libertad</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sfrute de los derechos humanos, la identidad, la vida familiar y la ciudadanía</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l regreso a su lugar de residencia </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 reintegración en su empleo</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 devolución de sus bien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68000" y="533520"/>
            <a:ext cx="8072280" cy="5565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Lucida Sans Unicode"/>
              </a:rPr>
              <a:t>Rehabilitación</a:t>
            </a:r>
            <a:r>
              <a:rPr b="1" lang="en-US" sz="3200" spc="-1" strike="noStrike">
                <a:solidFill>
                  <a:srgbClr val="000000"/>
                </a:solidFill>
                <a:latin typeface="Lucida Sans Unicode"/>
              </a:rPr>
              <a:t>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adquisición de una actividad o función perdida o disminuida por traumatismo o enfermedad</a:t>
            </a:r>
            <a:endParaRPr b="0" lang="en-US" sz="2800" spc="-1" strike="noStrike">
              <a:solidFill>
                <a:srgbClr val="000000"/>
              </a:solidFill>
              <a:latin typeface="Calibri"/>
            </a:endParaRPr>
          </a:p>
          <a:p>
            <a:pPr algn="just">
              <a:lnSpc>
                <a:spcPct val="10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be incluir: la atención médica y psicológica, así como servicios jurídicos y soci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68000" y="333360"/>
            <a:ext cx="8496360" cy="576576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Satisfacción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medidas eficaces para conseguir que no continúen violaciones</a:t>
            </a: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verificación de los hechos y revelación pública y completa de la verdad, en la medida en que esa revelación no provoque más daños o amenace la seguridad y los intereses de la víctima, de sus familiares, de los testigos o de personas que han intervenido para ayudar a la víctima o impedir que se produzcan nuevas violaciones</a:t>
            </a: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búsqueda de las personas desaparecidas, de las identidades de los niños secuestrados y de los cadáveres de las personas asesinadas, y la ayuda para recuperarlos, identificarlos y volver a inhumarlos según el deseo explícito o presunto de la víctima o las prácticas culturales de su familia y comunida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78920" y="457200"/>
            <a:ext cx="8713800" cy="564192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Satisfacción</a:t>
            </a:r>
            <a:r>
              <a:rPr b="0" lang="en-US" sz="2800" spc="-1" strike="noStrike">
                <a:solidFill>
                  <a:srgbClr val="000000"/>
                </a:solidFill>
                <a:latin typeface="Lucida Sans Unicode"/>
              </a:rPr>
              <a:t> (2)</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una declaración oficial o decisión judicial que restablezca la dignidad, la reputación y los derechos de la víctima y de las personas estrechamente vinculadas a ella</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una disculpa pública que incluya el reconocimiento de los hechos y la aceptación de responsabilidad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la aplicación de sanciones judiciales o administrativas a los responsables de las violacion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conmemoraciones y homenajes a las víctima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la inclusión de una exposición precisa de las violaciones ocurridas en la enseñanza de las normas internacionales de derechos humanos y del derecho internacional humanitario, así como en el material didáctico a todos los nive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24000" y="333360"/>
            <a:ext cx="8424720" cy="597528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Las garantías de no repetición</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el ejercicio de un control efectivo por las autoridades civiles sobre las fuerzas armadas y de seguridad</a:t>
            </a: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la garantía de que todos los procedimientos civiles y militares se ajustan a las normas internacionales relativas a las garantías procesales, la equidad y la imparcialidad</a:t>
            </a: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ortalecimiento de la independencia del poder judicial</a:t>
            </a: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protección de los profesionales del derecho, la salud y la asistencia sanitaria, la información y otros sectores conexos, así como de los defensores de los derechos humano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68360" y="333360"/>
            <a:ext cx="8424720" cy="576576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Las garantías de no repetición</a:t>
            </a:r>
            <a:r>
              <a:rPr b="0" lang="en-US" sz="2800" spc="-1" strike="noStrike">
                <a:solidFill>
                  <a:srgbClr val="000000"/>
                </a:solidFill>
                <a:latin typeface="Lucida Sans Unicode"/>
              </a:rPr>
              <a:t> (2)</a:t>
            </a:r>
            <a:endParaRPr b="0" lang="en-US" sz="2800" spc="-1" strike="noStrike">
              <a:solidFill>
                <a:srgbClr val="000000"/>
              </a:solidFill>
              <a:latin typeface="Calibri"/>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educación, de modo prioritario y permanente, de todos los sectores de la sociedad respecto de los derechos humanos y del derecho internacional humanitario y la capacitación en esta materia de los funcionarios encargados de hacer cumplir la ley, así como de las fuerzas armadas y de seguridad</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promoción de la observancia de los códigos de conducta y de las normas éticas, en particular las normas internacionales, por los funcionarios públicos, inclusive el personal de las fuerzas de seguridad, los establecimientos penitenciarios, los medios de información, el personal de servicios médicos, psicológicos, sociales y de las fuerzas armadas, además del personal de empresas comerciales</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promoción de mecanismos destinados a prevenir, vigilar y resolver los conflictos sociales</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revisión y reforma de las leyes que contribuyan a las violaciones manifiestas de las normas internacionales de derechos humanos y a las violaciones graves del derecho humanitario o las permitan</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99920"/>
            <a:ext cx="8229600" cy="4537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r>
              <a:rPr b="1" lang="es-ES" sz="2400" spc="-1" strike="noStrike">
                <a:solidFill>
                  <a:srgbClr val="000000"/>
                </a:solidFill>
                <a:latin typeface="Lucida Sans Unicode"/>
              </a:rPr>
              <a:t>E</a:t>
            </a:r>
            <a:r>
              <a:rPr b="0" lang="es-CL" sz="2400" spc="-1" strike="noStrike">
                <a:solidFill>
                  <a:srgbClr val="000000"/>
                </a:solidFill>
                <a:latin typeface="Lucida Sans Unicode"/>
              </a:rPr>
              <a:t>ntre mayo y agosto de 1998, Estado de Chile se niega a brindar a Marcel Claude Reyes, Sebastián Cox Urrejola y Arturo Longton Guerrero toda la información que requerían del Comité de Inversiones Extranjeras, en relación con la empresa forestal Trillium y el Proyecto Río Condor, el cual era un proyecto de deforestación que se llevaría a cabo en la décimo segunda región de Chile y “p[odía] ser perjudicial para el medio ambiente e impedir el desarrollo sostenible de Chile”. </a:t>
            </a:r>
            <a:endParaRPr b="0" lang="en-US" sz="2400" spc="-1" strike="noStrike">
              <a:solidFill>
                <a:srgbClr val="000000"/>
              </a:solidFill>
              <a:latin typeface="Calibri"/>
            </a:endParaRPr>
          </a:p>
        </p:txBody>
      </p:sp>
      <p:pic>
        <p:nvPicPr>
          <p:cNvPr id="117" name="Rectangle 2" descr=""/>
          <p:cNvPicPr/>
          <p:nvPr/>
        </p:nvPicPr>
        <p:blipFill>
          <a:blip r:embed="rId1"/>
          <a:stretch/>
        </p:blipFill>
        <p:spPr>
          <a:xfrm>
            <a:off x="457200" y="304920"/>
            <a:ext cx="8223120" cy="1145880"/>
          </a:xfrm>
          <a:prstGeom prst="rect">
            <a:avLst/>
          </a:prstGeom>
          <a:ln w="0">
            <a:noFill/>
          </a:ln>
        </p:spPr>
      </p:pic>
      <p:sp>
        <p:nvSpPr>
          <p:cNvPr id="118"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2. Reproche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rPr>
              <a:t>	</a:t>
            </a:r>
            <a:r>
              <a:rPr b="0" lang="es-ES" sz="2400" spc="-1" strike="noStrike">
                <a:solidFill>
                  <a:srgbClr val="000000"/>
                </a:solidFill>
                <a:latin typeface="Arial Unicode MS"/>
              </a:rPr>
              <a:t>La </a:t>
            </a:r>
            <a:r>
              <a:rPr b="0" lang="es-CL" sz="2400" spc="-1" strike="noStrike">
                <a:solidFill>
                  <a:srgbClr val="000000"/>
                </a:solidFill>
                <a:latin typeface="Lucida Sans Unicode"/>
              </a:rPr>
              <a:t>Comisión indicó que tal negativa se dio sin que el Estado “argumentar[a] una justificación válida de acuerdo con la legislación chilena”, así como a que supuestamente “no [les] otorgó un recurso judicial efectivo para impugnar una violación del derecho al acceso a la información” y “no [les] aseguró los derechos al acceso a la información y a la protección judicial, ni contó con mecanismos establecidos para garantizar el derecho al acceso a la información pública”.</a:t>
            </a:r>
            <a:endParaRPr b="0" lang="en-US" sz="2400" spc="-1" strike="noStrike">
              <a:solidFill>
                <a:srgbClr val="000000"/>
              </a:solidFill>
              <a:latin typeface="Calibri"/>
            </a:endParaRPr>
          </a:p>
        </p:txBody>
      </p:sp>
      <p:sp>
        <p:nvSpPr>
          <p:cNvPr id="120"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21"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perjuicio indemnizable</a:t>
            </a:r>
            <a:endParaRPr b="0" lang="en-US" sz="36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daño” =&gt; “lesión de derecho” (art. 38.2 CPR) =&gt; “lesión patrimonial”: </a:t>
            </a:r>
            <a:endParaRPr b="0" lang="en-US" sz="24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trimento antijurídico derivado de </a:t>
            </a:r>
            <a:r>
              <a:rPr b="0" lang="es-ES" sz="2000" spc="-1" strike="noStrike">
                <a:solidFill>
                  <a:srgbClr val="ff0000"/>
                </a:solidFill>
                <a:latin typeface="Calibri"/>
              </a:rPr>
              <a:t>acto ilícito </a:t>
            </a:r>
            <a:r>
              <a:rPr b="0" lang="es-ES" sz="2000" spc="-1" strike="noStrike">
                <a:solidFill>
                  <a:srgbClr val="000000"/>
                </a:solidFill>
                <a:latin typeface="Calibri"/>
              </a:rPr>
              <a:t>de autor, o </a:t>
            </a: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orque quien lo sufre </a:t>
            </a:r>
            <a:r>
              <a:rPr b="0" lang="es-ES" sz="2000" spc="-1" strike="noStrike">
                <a:solidFill>
                  <a:srgbClr val="ff0000"/>
                </a:solidFill>
                <a:latin typeface="Calibri"/>
              </a:rPr>
              <a:t>no está en deber soportarlo </a:t>
            </a:r>
            <a:r>
              <a:rPr b="0" lang="es-ES" sz="2000" spc="-1" strike="noStrike">
                <a:solidFill>
                  <a:srgbClr val="000000"/>
                </a:solidFill>
                <a:latin typeface="Calibri"/>
              </a:rPr>
              <a:t>aun sin ser ilegal (CS, Rol N° 2.213-2000, 23.01.2001)</a:t>
            </a:r>
            <a:endParaRPr b="0" lang="en-US" sz="2000" spc="-1" strike="noStrike">
              <a:solidFill>
                <a:srgbClr val="000000"/>
              </a:solidFill>
              <a:latin typeface="Calibri"/>
            </a:endParaRPr>
          </a:p>
          <a:p>
            <a:pPr lvl="1" marL="743040" indent="-2858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lesión patrimonial” no es lo mismo que “disminución patrimonial”</a:t>
            </a:r>
            <a:endParaRPr b="0" lang="en-US" sz="24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menoscabo no debe estar legitimado por el ordenamiento jurídic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l Estado: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 en el plazo de seis meses, entregar la información solicitada por las víctima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l Estado debe publicar, en el plazo de seis meses, en el Diario Oficial y en otro diario de amplia circulación nacional, por una sola vez, el capítulo relativo a los Hechos Probados de esta Sentencia y sobre las violaciones declaradas por la Corte</a:t>
            </a:r>
            <a:endParaRPr b="0" lang="en-US" sz="2400" spc="-1" strike="noStrike">
              <a:solidFill>
                <a:srgbClr val="000000"/>
              </a:solidFill>
              <a:latin typeface="Calibri"/>
            </a:endParaRPr>
          </a:p>
        </p:txBody>
      </p:sp>
      <p:sp>
        <p:nvSpPr>
          <p:cNvPr id="123"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24"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l Estado: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buClr>
                <a:srgbClr val="000000"/>
              </a:buClr>
              <a:buFont typeface="Lucida Sans Unicode"/>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Estado debe adoptar medidas necesarias para garantizar el derecho de acceso a la información bajo el control del Estado, de acuerdo al deber general de adoptar disposiciones de derecho interno establecido en art. 2 de la CADH</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Lucida Sans Unicode"/>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Estado debe realizar la capacitación a los órganos, autoridades y agentes públicos encargados de atender las solicitudes de acceso a información bajo el control del Estado …, que incorpore los parámetros convencionales que deben respetarse en materia de restricciones al acceso a dicha informació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27"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l Estado: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El Estado debe pagar a Marcel Claude Reyes, Arturo Longton Guerrero y Sebastián Cox Urrejola, en el plazo de un año, por concepto de costas y gastos, la cantidad fijada en el párrafo 167 de la presente Sentenci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rá rendir a la Corte un informe sobre las medidas adoptadas para dar cumplimiento a la sentencia</a:t>
            </a:r>
            <a:endParaRPr b="0" lang="en-US" sz="2400" spc="-1" strike="noStrike">
              <a:solidFill>
                <a:srgbClr val="000000"/>
              </a:solidFill>
              <a:latin typeface="Calibri"/>
            </a:endParaRPr>
          </a:p>
        </p:txBody>
      </p:sp>
      <p:sp>
        <p:nvSpPr>
          <p:cNvPr id="129"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30"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699920"/>
            <a:ext cx="8229600" cy="4537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r>
              <a:rPr b="0" lang="es-CL" sz="2000" spc="-1" strike="noStrike">
                <a:solidFill>
                  <a:srgbClr val="000000"/>
                </a:solidFill>
                <a:latin typeface="Lucida Sans Unicode"/>
              </a:rPr>
              <a:t>Luis Almonacid era profesor de enseñanza básica, militante del PC, candidato a regidor del mismo partido, secretario provincial de la Central Unitaria de Trabajadores y dirigente gremial del Magisterio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El 16 de septiembre de 1973 fue detenido en su domicilio ubicado en la población Manso de Velasco, por carabineros, quienes le dispararon, en presencia de su familia, a la salida de su cas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Falleció en el Hospital Regional de Rancagua el día 17 de septiembre de 1973</a:t>
            </a:r>
            <a:endParaRPr b="0" lang="en-US" sz="2000" spc="-1" strike="noStrike">
              <a:solidFill>
                <a:srgbClr val="000000"/>
              </a:solidFill>
              <a:latin typeface="Calibri"/>
            </a:endParaRPr>
          </a:p>
        </p:txBody>
      </p:sp>
      <p:pic>
        <p:nvPicPr>
          <p:cNvPr id="132" name="Rectangle 2" descr=""/>
          <p:cNvPicPr/>
          <p:nvPr/>
        </p:nvPicPr>
        <p:blipFill>
          <a:blip r:embed="rId1"/>
          <a:stretch/>
        </p:blipFill>
        <p:spPr>
          <a:xfrm>
            <a:off x="457200" y="304920"/>
            <a:ext cx="8223120" cy="1145880"/>
          </a:xfrm>
          <a:prstGeom prst="rect">
            <a:avLst/>
          </a:prstGeom>
          <a:ln w="0">
            <a:noFill/>
          </a:ln>
        </p:spPr>
      </p:pic>
      <p:sp>
        <p:nvSpPr>
          <p:cNvPr id="133"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r>
              <a:rPr b="0" lang="es-CL" sz="2000" spc="-1" strike="noStrike">
                <a:solidFill>
                  <a:srgbClr val="000000"/>
                </a:solidFill>
                <a:latin typeface="Lucida Sans Unicode"/>
              </a:rPr>
              <a:t>En 1992 la cónyuge sobreviviente presentó querella criminal ante el 1° Juzgado del Crimen de Rancagua, el que se declaró incompetente en 1993, y ordenó la remisión de la misma a la Fiscalía Militar y de Carabineros de San Fernando</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La Corte revoca la declaratoria de incompetencia, puesto qu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consideró que no se habían agotado las investigaciones y no existía la certeza suficiente para determinar la calidad de civil o militar de las personas que participaron en los hechos. En consecuencia, se mantuvieron abiertas las investigaciones.</a:t>
            </a:r>
            <a:endParaRPr b="0" lang="en-US" sz="2000" spc="-1" strike="noStrike">
              <a:solidFill>
                <a:srgbClr val="000000"/>
              </a:solidFill>
              <a:latin typeface="Calibri"/>
            </a:endParaRPr>
          </a:p>
        </p:txBody>
      </p:sp>
      <p:sp>
        <p:nvSpPr>
          <p:cNvPr id="135"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36"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En 1996 el 2° Juzgado Militar de Santiago pidió al 1° Juzgado del Crimen de Rancagua que se inhibiera de seguir conociendo la causa, en vista de que los procesados Castro Osorio y Neveu Cortesi “a la fecha de los hechos se encontraban en servicio activo, estando sujetos al fuero militar”.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Se traba contienda de competencia entre ambos tribunal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En diciembre 1996, Corte Suprema resolvió el incidente d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Competencia </a:t>
            </a:r>
            <a:r>
              <a:rPr b="0" i="1" lang="es-CL" sz="2000" spc="-1" strike="noStrike">
                <a:solidFill>
                  <a:srgbClr val="000000"/>
                </a:solidFill>
                <a:latin typeface="Lucida Sans Unicode"/>
              </a:rPr>
              <a:t>declarando que “es competente para segui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conociendo el asunto el Segundo Juzgado Militar de Santiago, al cual se deberá remitir” el expediente</a:t>
            </a:r>
            <a:endParaRPr b="0" lang="en-US" sz="2000" spc="-1" strike="noStrike">
              <a:solidFill>
                <a:srgbClr val="000000"/>
              </a:solidFill>
              <a:latin typeface="Calibri"/>
            </a:endParaRPr>
          </a:p>
        </p:txBody>
      </p:sp>
      <p:sp>
        <p:nvSpPr>
          <p:cNvPr id="138"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39"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457200"/>
            <a:ext cx="8229600" cy="5780160"/>
          </a:xfrm>
          <a:prstGeom prst="rect">
            <a:avLst/>
          </a:prstGeom>
          <a:noFill/>
          <a:ln w="0">
            <a:noFill/>
          </a:ln>
        </p:spPr>
        <p:txBody>
          <a:bodyPr anchor="t">
            <a:normAutofit fontScale="99000"/>
          </a:bodyPr>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Unicode MS"/>
              </a:rPr>
              <a:t>1. Hechos: </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n 1997, la 2° Fiscalía de Ejército solicitó al 2° Juzgado Militar que “dicte sobreseimiento total y definitivo [por encontrarse] extinguida la responsabilidad penal” de Castro Osorio y Neveu Cortesi, en virtud del DL 2.19179 (Ley de Amnistía)</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l 28.01.1997, el 2° Juzgado Militar, sin realizar ninguna diligencia probatoria ni establecer que hubiese quedado agotada la investigación, dictó sobreseimiento total y definitivo, en aplicación del DL 2.191.</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l 25.03.1998, la Corte Marcial confirma la resolución</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l 16.04.1998, la CS declara no ha lugar a un recurso de casación interpuesto por la querellante, por extemporáneo</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endParaRPr b="0" lang="en-US" sz="1900" spc="-1" strike="noStrike">
              <a:solidFill>
                <a:srgbClr val="000000"/>
              </a:solidFill>
              <a:latin typeface="Calibri"/>
            </a:endParaRPr>
          </a:p>
        </p:txBody>
      </p:sp>
      <p:sp>
        <p:nvSpPr>
          <p:cNvPr id="141"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42"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685440"/>
            <a:ext cx="8229600" cy="5551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2. Reproche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r>
              <a:rPr b="0" lang="es-CL" sz="2400" spc="-1" strike="noStrike">
                <a:solidFill>
                  <a:srgbClr val="000000"/>
                </a:solidFill>
                <a:latin typeface="Lucida Sans Unicode"/>
              </a:rPr>
              <a:t>Los hechos expuestos por la Comisión en la demanda se refieren a la presunta falta de investigación y sanción de los responsables de la ejecución extrajudicial del señor Almonacid Arellano, a partir de la aplicación del Decreto Ley No. 2.191, ley de amnistía, adoptada en 1978 en Chile, así como a la supuesta falta de reparación adecuada a favor de sus familiares.</a:t>
            </a:r>
            <a:endParaRPr b="0" lang="en-US" sz="2400" spc="-1" strike="noStrike">
              <a:solidFill>
                <a:srgbClr val="000000"/>
              </a:solidFill>
              <a:latin typeface="Calibri"/>
            </a:endParaRPr>
          </a:p>
        </p:txBody>
      </p:sp>
      <p:sp>
        <p:nvSpPr>
          <p:cNvPr id="144"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45"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685440"/>
            <a:ext cx="8229600" cy="5551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 asegurarse que DL 2.191 no siga representando un obstáculo para la continuación de las investigaciones de la ejecución extrajudicial del señor Almonacid Arellano y para la identificación y, en su caso, el castigo de los responsab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 asegurarse que DL 2.191 no siga representando un obstáculo para la investigación, juzgamiento y, en su caso, sanción de los responsables de otras violaciones similares acontecidas en Chile</a:t>
            </a:r>
            <a:endParaRPr b="0" lang="en-US" sz="2400" spc="-1" strike="noStrike">
              <a:solidFill>
                <a:srgbClr val="000000"/>
              </a:solidFill>
              <a:latin typeface="Calibri"/>
            </a:endParaRPr>
          </a:p>
        </p:txBody>
      </p:sp>
      <p:sp>
        <p:nvSpPr>
          <p:cNvPr id="147"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48"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685440"/>
            <a:ext cx="8229600" cy="5551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c. Estado deberá efectuar el reintegro de las costas y gastos dentro del plazo de un año</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d. Estado, como medida de satisfacción, deberá publicar en el Diario Oficial y en otro diario de amplia circulación nacional, por una sola vez, el capítulo relativo a los hechos probados de esta Sentencia y la parte resolutiva de l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51"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El perjuicio indemnizable</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ierto y efectivo</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irecto</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valuable económicamente</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fecta situación jurídica protegida (lesión de derecho subjetivo)</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creditable</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393A5378"/>
          <p:cNvPicPr/>
          <p:nvPr/>
        </p:nvPicPr>
        <p:blipFill>
          <a:blip r:embed="rId1"/>
          <a:stretch/>
        </p:blipFill>
        <p:spPr>
          <a:xfrm>
            <a:off x="915840" y="228600"/>
            <a:ext cx="7312320" cy="1143000"/>
          </a:xfrm>
          <a:prstGeom prst="rect">
            <a:avLst/>
          </a:prstGeom>
          <a:ln w="0">
            <a:noFill/>
          </a:ln>
        </p:spPr>
      </p:pic>
      <p:pic>
        <p:nvPicPr>
          <p:cNvPr id="153" name="Picture 3" descr="4BF00D19"/>
          <p:cNvPicPr/>
          <p:nvPr/>
        </p:nvPicPr>
        <p:blipFill>
          <a:blip r:embed="rId2"/>
          <a:stretch/>
        </p:blipFill>
        <p:spPr>
          <a:xfrm>
            <a:off x="1230480" y="1662120"/>
            <a:ext cx="6683040" cy="2049480"/>
          </a:xfrm>
          <a:prstGeom prst="rect">
            <a:avLst/>
          </a:prstGeom>
          <a:ln w="0">
            <a:noFill/>
          </a:ln>
        </p:spPr>
      </p:pic>
      <p:pic>
        <p:nvPicPr>
          <p:cNvPr id="154" name="Picture 4" descr="82BF078F"/>
          <p:cNvPicPr/>
          <p:nvPr/>
        </p:nvPicPr>
        <p:blipFill>
          <a:blip r:embed="rId3"/>
          <a:stretch/>
        </p:blipFill>
        <p:spPr>
          <a:xfrm>
            <a:off x="3389400" y="3925800"/>
            <a:ext cx="2365200" cy="2173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causalidad</a:t>
            </a:r>
            <a:br>
              <a:rPr sz="3600"/>
            </a:br>
            <a:r>
              <a:rPr b="0" lang="es-CL" sz="3600" spc="-1" strike="noStrike">
                <a:solidFill>
                  <a:srgbClr val="000000"/>
                </a:solidFill>
                <a:latin typeface="Calibri"/>
              </a:rPr>
              <a:t>(el problema de la cercanía entre hecho y daño)</a:t>
            </a:r>
            <a:endParaRPr b="0" lang="en-US" sz="3600" spc="-1" strike="noStrike">
              <a:solidFill>
                <a:srgbClr val="000000"/>
              </a:solidFill>
              <a:latin typeface="Calibri"/>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1240"/>
            <a:ext cx="85406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8" name=""/>
          <p:cNvSpPr txBox="1"/>
          <p:nvPr/>
        </p:nvSpPr>
        <p:spPr>
          <a:xfrm>
            <a:off x="301680" y="838080"/>
            <a:ext cx="8540640" cy="5261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LESSANDRI RODRÍGUEZ: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t>
            </a:r>
            <a:r>
              <a:rPr b="0" lang="es-ES" sz="2800" spc="-1" strike="noStrike">
                <a:solidFill>
                  <a:srgbClr val="000000"/>
                </a:solidFill>
                <a:latin typeface="Calibri"/>
              </a:rPr>
              <a:t>hay relación de causalidad cuando el hecho -o la omisión - doloso o culpable es la causa </a:t>
            </a:r>
            <a:r>
              <a:rPr b="0" i="1" lang="es-ES" sz="2800" spc="-1" strike="noStrike">
                <a:solidFill>
                  <a:srgbClr val="000000"/>
                </a:solidFill>
                <a:latin typeface="Calibri"/>
              </a:rPr>
              <a:t>directa</a:t>
            </a:r>
            <a:r>
              <a:rPr b="0" lang="es-ES" sz="2800" spc="-1" strike="noStrike">
                <a:solidFill>
                  <a:srgbClr val="000000"/>
                </a:solidFill>
                <a:latin typeface="Calibri"/>
              </a:rPr>
              <a:t> y </a:t>
            </a:r>
            <a:r>
              <a:rPr b="0" i="1" lang="es-ES" sz="2800" spc="-1" strike="noStrike">
                <a:solidFill>
                  <a:srgbClr val="000000"/>
                </a:solidFill>
                <a:latin typeface="Calibri"/>
              </a:rPr>
              <a:t>necesaria</a:t>
            </a:r>
            <a:r>
              <a:rPr b="0" lang="es-ES" sz="2800" spc="-1" strike="noStrike">
                <a:solidFill>
                  <a:srgbClr val="000000"/>
                </a:solidFill>
                <a:latin typeface="Calibri"/>
              </a:rPr>
              <a:t> del daño, cuando sin él no se habría producid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unción de la Causalidad</a:t>
            </a:r>
            <a:endParaRPr b="0" lang="en-US" sz="4000" spc="-1" strike="noStrike">
              <a:solidFill>
                <a:srgbClr val="000000"/>
              </a:solidFill>
              <a:latin typeface="Calibri"/>
            </a:endParaRPr>
          </a:p>
        </p:txBody>
      </p:sp>
      <p:sp>
        <p:nvSpPr>
          <p:cNvPr id="160" name=""/>
          <p:cNvSpPr txBox="1"/>
          <p:nvPr/>
        </p:nvSpPr>
        <p:spPr>
          <a:xfrm>
            <a:off x="457200" y="1371240"/>
            <a:ext cx="8229600" cy="4830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1) facilita la determinación de </a:t>
            </a:r>
            <a:r>
              <a:rPr b="0" lang="es-ES_tradnl" sz="3200" spc="-1" strike="noStrike">
                <a:solidFill>
                  <a:srgbClr val="ff0000"/>
                </a:solidFill>
                <a:latin typeface="Calibri"/>
              </a:rPr>
              <a:t>si un resultado dañoso es atribuible,</a:t>
            </a:r>
            <a:r>
              <a:rPr b="0" lang="es-ES_tradnl" sz="3200" spc="-1" strike="noStrike">
                <a:solidFill>
                  <a:srgbClr val="000000"/>
                </a:solidFill>
                <a:latin typeface="Calibri"/>
              </a:rPr>
              <a:t> material u objetivamente, a la acción u omisión de la Administració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2) establece </a:t>
            </a:r>
            <a:r>
              <a:rPr b="0" lang="es-ES_tradnl" sz="3200" spc="-1" strike="noStrike">
                <a:solidFill>
                  <a:srgbClr val="ff0000"/>
                </a:solidFill>
                <a:latin typeface="Calibri"/>
              </a:rPr>
              <a:t>parámetros objetivos </a:t>
            </a:r>
            <a:r>
              <a:rPr b="0" lang="es-ES_tradnl" sz="3200" spc="-1" strike="noStrike">
                <a:solidFill>
                  <a:srgbClr val="000000"/>
                </a:solidFill>
                <a:latin typeface="Calibri"/>
              </a:rPr>
              <a:t>con los cuales determinar la extensión de los daños indemnizab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usalidad material </a:t>
            </a:r>
            <a:br>
              <a:rPr sz="3200"/>
            </a:br>
            <a:r>
              <a:rPr b="0" lang="es-CL" sz="3200" spc="-1" strike="noStrike">
                <a:solidFill>
                  <a:srgbClr val="000000"/>
                </a:solidFill>
                <a:latin typeface="Calibri"/>
              </a:rPr>
              <a:t>(Teoría Equivalencia de las Condiciones)</a:t>
            </a:r>
            <a:endParaRPr b="0" lang="en-US" sz="32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on causas de daños los hechos que </a:t>
            </a:r>
            <a:r>
              <a:rPr b="0" lang="es-ES" sz="3200" spc="-1" strike="noStrike">
                <a:solidFill>
                  <a:srgbClr val="ff0000"/>
                </a:solidFill>
                <a:latin typeface="Calibri"/>
              </a:rPr>
              <a:t>suprimidos mentalmente </a:t>
            </a:r>
            <a:r>
              <a:rPr b="0" lang="es-ES" sz="3200" spc="-1" strike="noStrike">
                <a:solidFill>
                  <a:srgbClr val="000000"/>
                </a:solidFill>
                <a:latin typeface="Calibri"/>
              </a:rPr>
              <a:t>obstan a su producción</a:t>
            </a:r>
            <a:endParaRPr b="0" lang="en-US" sz="32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causa es una cuestión fáctica, libre de valoraciones normativas</a:t>
            </a:r>
            <a:endParaRPr b="0" lang="en-US" sz="28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causa no es una cuestión de “calificación jurídica”: no atiende a determinar responsabilidades de su aut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usalidad jurídica o normativa </a:t>
            </a:r>
            <a:br>
              <a:rPr sz="3200"/>
            </a:br>
            <a:r>
              <a:rPr b="0" lang="es-CL" sz="3200" spc="-1" strike="noStrike">
                <a:solidFill>
                  <a:srgbClr val="000000"/>
                </a:solidFill>
                <a:latin typeface="Calibri"/>
              </a:rPr>
              <a:t>(Teoría de la Causa Adecuada)</a:t>
            </a:r>
            <a:endParaRPr b="0" lang="en-US" sz="32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e escoge una causa material para darle el </a:t>
            </a:r>
            <a:r>
              <a:rPr b="0" lang="es-ES" sz="2800" spc="-1" strike="noStrike">
                <a:solidFill>
                  <a:srgbClr val="ff0000"/>
                </a:solidFill>
                <a:latin typeface="Calibri"/>
              </a:rPr>
              <a:t>carácter de única causa </a:t>
            </a:r>
            <a:r>
              <a:rPr b="0" lang="es-ES" sz="2800" spc="-1" strike="noStrike">
                <a:solidFill>
                  <a:srgbClr val="000000"/>
                </a:solidFill>
                <a:latin typeface="Calibri"/>
              </a:rPr>
              <a:t>del resultado</a:t>
            </a:r>
            <a:endParaRPr b="0" lang="en-US" sz="2800" spc="-1" strike="noStrike">
              <a:solidFill>
                <a:srgbClr val="000000"/>
              </a:solidFill>
              <a:latin typeface="Calibri"/>
            </a:endParaRPr>
          </a:p>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la causa debe ser normalmente apta para provocar el daño</a:t>
            </a:r>
            <a:endParaRPr b="0" lang="en-US" sz="24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funda en un Juicio de Probabilidad</a:t>
            </a:r>
            <a:endParaRPr b="0" lang="en-US" sz="24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roblema: otorga excesiva discrecionalidad al juez</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Franchini Pasten, Gigliola c/ SS.SS. Valdivia - CS 26.06.08 ROL:5667-06</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Rechaza demanda indemnizatoria intentada por familiares de quien falleció en sala de un hospital y demandó al cuerpo médico, toda vez que se descartó en el caso la relación de causalidad entre la muerte y la supuesta falta de servicio del Servicio de Salud, </a:t>
            </a:r>
            <a:r>
              <a:rPr b="0" lang="es-ES" sz="2400" spc="-1" strike="noStrike">
                <a:solidFill>
                  <a:srgbClr val="ff0000"/>
                </a:solidFill>
                <a:latin typeface="Calibri"/>
              </a:rPr>
              <a:t>careciendo de relevancia la apreciación de si se verificó o no la insuficiencia en la prestación requerida al Servicio,</a:t>
            </a:r>
            <a:r>
              <a:rPr b="0" lang="es-ES" sz="2400" spc="-1" strike="noStrike">
                <a:solidFill>
                  <a:srgbClr val="000000"/>
                </a:solidFill>
                <a:latin typeface="Calibri"/>
              </a:rPr>
              <a:t> puesto que no existió relación de causalidad entre la actuación del personal médico del Hospital de Valdivia y el fallecimiento, desde que </a:t>
            </a:r>
            <a:r>
              <a:rPr b="0" lang="es-ES" sz="2400" spc="-1" strike="noStrike">
                <a:solidFill>
                  <a:srgbClr val="ff0000"/>
                </a:solidFill>
                <a:latin typeface="Calibri"/>
              </a:rPr>
              <a:t>la causa de la muerte no fue otra que las lesiones propinadas por agresores</a:t>
            </a:r>
            <a:r>
              <a:rPr b="0" lang="es-E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rueba de la Causalidad</a:t>
            </a:r>
            <a:endParaRPr b="0" lang="en-US" sz="40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Regla general: </a:t>
            </a:r>
            <a:r>
              <a:rPr b="0" i="1" lang="es-ES" sz="3200" spc="-1" strike="noStrike">
                <a:solidFill>
                  <a:srgbClr val="000000"/>
                </a:solidFill>
                <a:latin typeface="Calibri"/>
              </a:rPr>
              <a:t>actori incumbit probatio </a:t>
            </a:r>
            <a:r>
              <a:rPr b="0" lang="es-ES" sz="3200" spc="-1" strike="noStrike">
                <a:solidFill>
                  <a:srgbClr val="000000"/>
                </a:solidFill>
                <a:latin typeface="Calibri"/>
              </a:rPr>
              <a:t>(art. 1698 C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Matización del onus probandi a través de la buena f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l juez le basta la certeza mora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360"/>
            <a:ext cx="8540640" cy="1066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ánchez Otárola, Cruz de Las M. c/ Muni. Los Ángeles – Corte de Concepción - 04.08.08 ROL:1105-03</a:t>
            </a:r>
            <a:endParaRPr b="0" lang="en-US" sz="2400" spc="-1" strike="noStrike">
              <a:solidFill>
                <a:srgbClr val="000000"/>
              </a:solidFill>
              <a:latin typeface="Calibri"/>
            </a:endParaRPr>
          </a:p>
        </p:txBody>
      </p:sp>
      <p:sp>
        <p:nvSpPr>
          <p:cNvPr id="170" name=""/>
          <p:cNvSpPr txBox="1"/>
          <p:nvPr/>
        </p:nvSpPr>
        <p:spPr>
          <a:xfrm>
            <a:off x="301680" y="1066320"/>
            <a:ext cx="8540640" cy="503244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400" spc="-1" strike="noStrike">
                <a:solidFill>
                  <a:srgbClr val="000000"/>
                </a:solidFill>
                <a:latin typeface="Calibri"/>
              </a:rPr>
              <a:t>Debe rechazarse la demanda tendiente a resarcir los perjuicios derivados de un tropezón y caída en la acera por un desnivel intentada contra el municipio, desde que los </a:t>
            </a:r>
            <a:r>
              <a:rPr b="0" lang="es-ES" sz="2400" spc="-1" strike="noStrike">
                <a:solidFill>
                  <a:srgbClr val="ff0000"/>
                </a:solidFill>
                <a:latin typeface="Calibri"/>
              </a:rPr>
              <a:t>dichos de los testigos </a:t>
            </a:r>
            <a:r>
              <a:rPr b="0" lang="es-ES" sz="2400" spc="-1" strike="noStrike">
                <a:solidFill>
                  <a:srgbClr val="000000"/>
                </a:solidFill>
                <a:latin typeface="Calibri"/>
              </a:rPr>
              <a:t>presentados por el actor son insuficientes para acreditar que las lesiones sufridas por ésta se originaron por la caída en el lugar de la acera que se estima defectuosa y de la </a:t>
            </a:r>
            <a:r>
              <a:rPr b="0" lang="es-ES" sz="2400" spc="-1" strike="noStrike">
                <a:solidFill>
                  <a:srgbClr val="ff0000"/>
                </a:solidFill>
                <a:latin typeface="Calibri"/>
              </a:rPr>
              <a:t>inspección del tribunal </a:t>
            </a:r>
            <a:r>
              <a:rPr b="0" lang="es-ES" sz="2400" spc="-1" strike="noStrike">
                <a:solidFill>
                  <a:srgbClr val="000000"/>
                </a:solidFill>
                <a:latin typeface="Calibri"/>
              </a:rPr>
              <a:t>surge que el desnivel es de 5 centímetros, -en el caso, personal del tribunal constató que se trata de una calle con bastante </a:t>
            </a:r>
            <a:r>
              <a:rPr b="0" lang="es-ES" sz="2400" spc="-1" strike="noStrike">
                <a:solidFill>
                  <a:srgbClr val="ff0000"/>
                </a:solidFill>
                <a:latin typeface="Calibri"/>
              </a:rPr>
              <a:t>flujo peatonal y las que transitaban por ese sector ninguna tropezó</a:t>
            </a:r>
            <a:r>
              <a:rPr b="0" lang="es-ES" sz="2400" spc="-1" strike="noStrike">
                <a:solidFill>
                  <a:srgbClr val="000000"/>
                </a:solidFill>
                <a:latin typeface="Calibri"/>
              </a:rPr>
              <a:t>- no habiéndose acreditado la necesaria relación de causalidad entre la falta de servicio imputada y el daño sufrido por el acto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Tipos de perjuicios indemnizables</a:t>
            </a:r>
            <a:endParaRPr b="0" lang="en-US" sz="40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 Daños patrimonial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año emergen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ucro cesante</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 Daños extrapatrimoniales o mor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eparación (consecuencia de la responsabilidad)</a:t>
            </a:r>
            <a:endParaRPr b="0" lang="en-US" sz="2400" spc="-1" strike="noStrike">
              <a:solidFill>
                <a:srgbClr val="000000"/>
              </a:solidFill>
              <a:latin typeface="Calibri"/>
            </a:endParaRPr>
          </a:p>
        </p:txBody>
      </p:sp>
      <p:sp>
        <p:nvSpPr>
          <p:cNvPr id="98" name=""/>
          <p:cNvSpPr txBox="1"/>
          <p:nvPr/>
        </p:nvSpPr>
        <p:spPr>
          <a:xfrm>
            <a:off x="304920" y="1066320"/>
            <a:ext cx="8540640" cy="5413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García V., Mónica y c/ Fisco, Corte de Santiago, 31.12.08  </a:t>
            </a:r>
            <a:r>
              <a:rPr b="0" lang="es-CL" sz="2400" spc="-1" strike="noStrike">
                <a:solidFill>
                  <a:srgbClr val="000000"/>
                </a:solidFill>
                <a:latin typeface="Calibri"/>
              </a:rPr>
              <a:t>ROL:8090-04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ea typeface="Arial Unicode MS"/>
              </a:rPr>
              <a:t>	</a:t>
            </a:r>
            <a:r>
              <a:rPr b="0" lang="es-CL" sz="2400" spc="-1" strike="noStrike">
                <a:solidFill>
                  <a:srgbClr val="000000"/>
                </a:solidFill>
                <a:latin typeface="Calibri"/>
              </a:rPr>
              <a:t>reparar significa eliminar todas las consecuencias del ilícito y consiste en la restitución cuando sea posible y cuando no, la obligación de indemnizar tanto el daño moral que se fundamenta en el sufrimiento causado a las víctimas y sus familiares, como el material que comprende el daño emergente y el lucro cesante.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obligación de indemnizar </a:t>
            </a:r>
            <a:r>
              <a:rPr b="0" lang="es-ES" sz="2200" spc="-1" strike="noStrike">
                <a:solidFill>
                  <a:srgbClr val="ff0000"/>
                </a:solidFill>
                <a:latin typeface="Calibri"/>
              </a:rPr>
              <a:t>no se condiciona a la magnitud del perjuicio</a:t>
            </a:r>
            <a:endParaRPr b="0" lang="en-US" sz="2200" spc="-1" strike="noStrike">
              <a:solidFill>
                <a:srgbClr val="000000"/>
              </a:solidFill>
              <a:latin typeface="Calibri"/>
            </a:endParaRPr>
          </a:p>
          <a:p>
            <a:pPr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obligación de indemnizar supone </a:t>
            </a:r>
            <a:r>
              <a:rPr b="0" lang="es-ES" sz="2200" spc="-1" strike="noStrike">
                <a:solidFill>
                  <a:srgbClr val="ff0000"/>
                </a:solidFill>
                <a:latin typeface="Calibri"/>
              </a:rPr>
              <a:t>resarcir todo el daño</a:t>
            </a:r>
            <a:endParaRPr b="0" lang="en-US" sz="22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Finalidad de la reparación ...</a:t>
            </a:r>
            <a:endParaRPr b="0" lang="en-US" sz="26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800" spc="-1" strike="noStrike">
                <a:solidFill>
                  <a:srgbClr val="000000"/>
                </a:solidFill>
                <a:latin typeface="Calibri"/>
              </a:rPr>
              <a:t>... cuando es adecuada, efectiva y rápida tiene por finalidad promover la justicia, remediando las violaciones manifiestas de las normas internacionales de derechos humanos o las violaciones graves del derecho internacional humanitario (</a:t>
            </a:r>
            <a:r>
              <a:rPr b="0" lang="es-ES" sz="2800" spc="-1" strike="noStrike">
                <a:solidFill>
                  <a:srgbClr val="ff0000"/>
                </a:solidFill>
                <a:latin typeface="Calibri"/>
              </a:rPr>
              <a:t>Resolución ONU 60/147, de 2005</a:t>
            </a:r>
            <a:r>
              <a:rPr b="0" lang="es-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2600" spc="-1" strike="noStrike">
                <a:solidFill>
                  <a:srgbClr val="000000"/>
                </a:solidFill>
                <a:latin typeface="Calibri"/>
              </a:rPr>
              <a:t>Modo tradicional de reparar daños</a:t>
            </a:r>
            <a:br>
              <a:rPr sz="2600"/>
            </a:br>
            <a:endParaRPr b="0" lang="en-US" sz="26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Calibri"/>
              </a:rPr>
              <a:t>“</a:t>
            </a:r>
            <a:r>
              <a:rPr b="0" lang="es-ES" sz="2600" spc="-1" strike="noStrike">
                <a:solidFill>
                  <a:srgbClr val="ff0000"/>
                </a:solidFill>
                <a:latin typeface="Calibri"/>
              </a:rPr>
              <a:t>indemnización” </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be reparar todo el daño sufrido (CS 03.05.2001, Rol 3176-00, Rivera con Municipalidad de La Unión)</a:t>
            </a: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be considerarse, en principio, el valor del daño a la época del hecho que lo causa</a:t>
            </a: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ben aplicarse técnicas correctoras: reajustes e interes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indemnización </a:t>
            </a:r>
            <a:endParaRPr b="0" lang="en-US" sz="2600" spc="-1" strike="noStrike">
              <a:solidFill>
                <a:srgbClr val="000000"/>
              </a:solidFill>
              <a:latin typeface="Calibri"/>
            </a:endParaRPr>
          </a:p>
        </p:txBody>
      </p:sp>
      <p:sp>
        <p:nvSpPr>
          <p:cNvPr id="104" name=""/>
          <p:cNvSpPr txBox="1"/>
          <p:nvPr/>
        </p:nvSpPr>
        <p:spPr>
          <a:xfrm>
            <a:off x="301680" y="1371600"/>
            <a:ext cx="8540640" cy="4727520"/>
          </a:xfrm>
          <a:prstGeom prst="rect">
            <a:avLst/>
          </a:prstGeom>
          <a:noFill/>
          <a:ln w="0">
            <a:noFill/>
          </a:ln>
        </p:spPr>
        <p:txBody>
          <a:bodyPr anchor="t">
            <a:normAutofit/>
          </a:bodyPr>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suma de dinero destinada a pagar perjuicios económicamente avaluables:</a:t>
            </a:r>
            <a:endParaRPr b="0" lang="en-US" sz="2600" spc="-1" strike="noStrike">
              <a:solidFill>
                <a:srgbClr val="00000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año físico o mental</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érdida de oportunidades, en particular, de empleo, educación y prestaciones sociales</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años materiales y la pérdida de ingresos, incluido el lucro cesante</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juicios morales</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gastos asistencia jurídica o de expertos, medicamentos y servicios</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médicos y servicios psicológicos y social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28600"/>
            <a:ext cx="8218440" cy="1039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lores Araya, Claudio c/ Fisco, Corte de Santiago, 06.11.08  ROL:9740-04</a:t>
            </a:r>
            <a:endParaRPr b="0" lang="en-US" sz="2400" spc="-1" strike="noStrike">
              <a:solidFill>
                <a:srgbClr val="000000"/>
              </a:solidFill>
              <a:latin typeface="Calibri"/>
            </a:endParaRPr>
          </a:p>
        </p:txBody>
      </p:sp>
      <p:sp>
        <p:nvSpPr>
          <p:cNvPr id="106" name=""/>
          <p:cNvSpPr txBox="1"/>
          <p:nvPr/>
        </p:nvSpPr>
        <p:spPr>
          <a:xfrm>
            <a:off x="468360" y="1412640"/>
            <a:ext cx="8229600" cy="5040360"/>
          </a:xfrm>
          <a:prstGeom prst="rect">
            <a:avLst/>
          </a:prstGeom>
          <a:noFill/>
          <a:ln w="0">
            <a:noFill/>
          </a:ln>
        </p:spPr>
        <p:txBody>
          <a:bodyPr anchor="t">
            <a:normAutofit fontScale="99000"/>
          </a:bodyPr>
          <a:p>
            <a:pPr marL="452520" indent="-452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a obligación de reparación que cabe al Estado se puede cumplir con diversas medidas, entre otras -como ha ocurrido en Chile- </a:t>
            </a:r>
            <a:endParaRPr b="0" lang="en-US" sz="2400" spc="-1" strike="noStrike">
              <a:solidFill>
                <a:srgbClr val="000000"/>
              </a:solidFill>
              <a:latin typeface="Calibri"/>
            </a:endParaRPr>
          </a:p>
          <a:p>
            <a:pPr marL="452520" indent="-452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la </a:t>
            </a:r>
            <a:r>
              <a:rPr b="0" lang="es-CL" sz="2400" spc="-1" strike="noStrike">
                <a:solidFill>
                  <a:srgbClr val="ff0000"/>
                </a:solidFill>
                <a:latin typeface="Calibri"/>
              </a:rPr>
              <a:t>instalación de entes que traten de establecer la verdad de lo ocurrido</a:t>
            </a:r>
            <a:r>
              <a:rPr b="0" lang="es-CL" sz="2400" spc="-1" strike="noStrike">
                <a:solidFill>
                  <a:srgbClr val="000000"/>
                </a:solidFill>
                <a:latin typeface="Calibri"/>
              </a:rPr>
              <a:t> en ciertos períodos o circunstancias determinadas</a:t>
            </a: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a:t>
            </a:r>
            <a:r>
              <a:rPr b="0" lang="es-CL" sz="2400" spc="-1" strike="noStrike">
                <a:solidFill>
                  <a:srgbClr val="ff0000"/>
                </a:solidFill>
                <a:latin typeface="Calibri"/>
              </a:rPr>
              <a:t>el reconocimiento público de las infracciones o violaciones</a:t>
            </a:r>
            <a:r>
              <a:rPr b="0" lang="es-CL" sz="2400" spc="-1" strike="noStrike">
                <a:solidFill>
                  <a:srgbClr val="000000"/>
                </a:solidFill>
                <a:latin typeface="Calibri"/>
              </a:rPr>
              <a:t> </a:t>
            </a: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el </a:t>
            </a:r>
            <a:r>
              <a:rPr b="0" lang="es-CL" sz="2400" spc="-1" strike="noStrike">
                <a:solidFill>
                  <a:srgbClr val="ff0000"/>
                </a:solidFill>
                <a:latin typeface="Calibri"/>
              </a:rPr>
              <a:t>otorgamiento</a:t>
            </a:r>
            <a:r>
              <a:rPr b="0" lang="es-CL" sz="2400" spc="-1" strike="noStrike">
                <a:solidFill>
                  <a:srgbClr val="000000"/>
                </a:solidFill>
                <a:latin typeface="Calibri"/>
              </a:rPr>
              <a:t> de pensiones, becas o beneficios diversos</a:t>
            </a: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a:t>
            </a:r>
            <a:r>
              <a:rPr b="0" lang="es-CL" sz="2400" spc="-1" strike="noStrike">
                <a:solidFill>
                  <a:srgbClr val="ff0000"/>
                </a:solidFill>
                <a:latin typeface="Calibri"/>
              </a:rPr>
              <a:t>indemnizaciones</a:t>
            </a:r>
            <a:r>
              <a:rPr b="0" lang="es-CL" sz="2400" spc="-1" strike="noStrike">
                <a:solidFill>
                  <a:srgbClr val="000000"/>
                </a:solidFill>
                <a:latin typeface="Calibri"/>
              </a:rPr>
              <a:t>, et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2-13T15:01:38Z</dcterms:modified>
  <cp:revision>170</cp:revision>
  <dc:subject/>
  <dc:title>CONTROL</dc:title>
</cp:coreProperties>
</file>