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EA6A-51DF-4DCE-AD09-9E0FBFC0CA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7847-0786-4567-9FD4-93BE33F82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D088-B824-4667-8B17-7A48C345F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F1C5-0CE4-48D2-9F20-32731B063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0BFF-9C19-457D-8876-05929E179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BA10-FC47-441D-AE99-EAB34F555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22CD-ABA0-431C-AF7A-5628F3FD4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B792-CE62-4084-ACEE-4AB452204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D055-13E3-4AD5-85BD-B62DA4898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46BE-DC88-47D0-BDD1-3F6C65D3D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CF3C-A4E4-4C23-BDE5-3607AAAA7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E317-4736-4DAE-AFDE-F014C3BA6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C388-0AEB-49F4-9980-4F0878DE3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1499E-1532-40C7-9E09-3C2814FC7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ED0B3-233F-4A9A-B95E-0C0A1BD2C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0AFEC-296E-4A5B-87EC-AEF555F0D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22B53-22D5-46B9-9B41-B51A59691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8D49-BE4F-428C-B1F8-32F886652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B3B27-AF60-425A-9C43-BA214444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22FEA-90E0-441D-ABE7-C9CAFB81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26F70-9372-4088-B9B1-248D908E8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173D2-783F-4FA1-9AD8-184E76AB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9474-FB80-4D09-BFC5-BF5A3AF2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255F-AF83-47D6-85FF-035D8827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B7ED-83D2-43E0-B2E3-4E2BEDE61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1A41-6520-44F6-8BCC-BE8689EC700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280" y="620280"/>
            <a:ext cx="8001000" cy="59324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Caso Pavez Jara, Juan con Municipalidad de La Florida </a:t>
            </a:r>
            <a:r>
              <a:rPr b="0" lang="es-ES" sz="2300" spc="-1" strike="noStrike">
                <a:solidFill>
                  <a:srgbClr val="000000"/>
                </a:solidFill>
                <a:latin typeface="Calibri"/>
              </a:rPr>
              <a:t>(caída de niño a piscina, cuyo borde está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Sostiene el libelo que había habido falta de servicio al encontrarse el borde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orte sostuvo que del actuar de la municipalidad había sido perfectamente normal, toda vez que no podía exigírsele que tuviera totalmente secos los bordes de la piscin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Fue la conducta o el hecho (culpable o no, no importa) de la víctima la causante del accidente, puesto que el borde mojado de una pileta no es la consecuencia de omisión municipal alguna, desde </a:t>
            </a:r>
            <a:r>
              <a:rPr b="1" lang="es-ES" sz="2300" spc="-1" strike="noStrike">
                <a:solidFill>
                  <a:srgbClr val="ff0000"/>
                </a:solidFill>
                <a:latin typeface="Calibri"/>
              </a:rPr>
              <a:t>que lo normal es que una piscina esté mojada y resbaladiza</a:t>
            </a:r>
            <a:r>
              <a:rPr b="0" lang="es-ES" sz="2300" spc="-1" strike="noStrike">
                <a:solidFill>
                  <a:srgbClr val="000000"/>
                </a:solidFill>
                <a:latin typeface="Calibri"/>
              </a:rPr>
              <a:t>, de manera que de lo que aquí se trata es de riesgos asumidos por la propia víctim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quisitos del sacrificio especial</a:t>
            </a:r>
            <a:endParaRPr b="0" lang="en-US" sz="3200" spc="-1" strike="noStrike">
              <a:solidFill>
                <a:srgbClr val="000000"/>
              </a:solidFill>
              <a:latin typeface="Calibri"/>
            </a:endParaRPr>
          </a:p>
        </p:txBody>
      </p:sp>
      <p:sp>
        <p:nvSpPr>
          <p:cNvPr id="64" name="PlaceHolder 2"/>
          <p:cNvSpPr>
            <a:spLocks noGrp="1"/>
          </p:cNvSpPr>
          <p:nvPr>
            <p:ph/>
          </p:nvPr>
        </p:nvSpPr>
        <p:spPr>
          <a:xfrm>
            <a:off x="457200" y="1268280"/>
            <a:ext cx="8229600" cy="4857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gravedad </a:t>
            </a:r>
            <a:r>
              <a:rPr b="0" lang="es-CL" sz="2800" spc="-1" strike="noStrike">
                <a:solidFill>
                  <a:srgbClr val="000000"/>
                </a:solidFill>
                <a:latin typeface="Calibri"/>
              </a:rPr>
              <a:t>de la lesión de derecho: afectación del contenido esencial del derecho</a:t>
            </a:r>
            <a:endParaRPr b="0" lang="en-US" sz="28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ción (disminución del derecho) vs. limitación (definición y fijación de los confines del derecho)</a:t>
            </a: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especialidad</a:t>
            </a:r>
            <a:r>
              <a:rPr b="1" lang="es-CL" sz="2800" spc="-1" strike="noStrike">
                <a:solidFill>
                  <a:srgbClr val="000000"/>
                </a:solidFill>
                <a:latin typeface="Calibri"/>
              </a:rPr>
              <a:t> </a:t>
            </a:r>
            <a:r>
              <a:rPr b="0" lang="es-CL" sz="2800" spc="-1" strike="noStrike">
                <a:solidFill>
                  <a:srgbClr val="000000"/>
                </a:solidFill>
                <a:latin typeface="Calibri"/>
              </a:rPr>
              <a:t>de la lesión:</a:t>
            </a:r>
            <a:endParaRPr b="0" lang="en-US" sz="2800" spc="-1" strike="noStrike">
              <a:solidFill>
                <a:srgbClr val="000000"/>
              </a:solidFill>
              <a:latin typeface="Calibri"/>
            </a:endParaRPr>
          </a:p>
          <a:p>
            <a:pPr lvl="1"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se concreta en el patrimonio de la víctima, sin que constituya una carga común que todos los administrados tienen el deber de soport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Soc. Agrícola Lolco Ltda. con Fisco (2003)</a:t>
            </a:r>
            <a:endParaRPr b="0" lang="en-US" sz="33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Que la </a:t>
            </a:r>
            <a:r>
              <a:rPr b="1" lang="es-ES" sz="2400" spc="-1" strike="noStrike">
                <a:solidFill>
                  <a:srgbClr val="ff0000"/>
                </a:solidFill>
                <a:latin typeface="Arial Unicode MS"/>
                <a:ea typeface="Arial Unicode MS"/>
              </a:rPr>
              <a:t>ruptura del principio de igualdad ante las cargas públicas </a:t>
            </a:r>
            <a:r>
              <a:rPr b="0" lang="es-ES" sz="2400" spc="-1" strike="noStrike">
                <a:solidFill>
                  <a:srgbClr val="000000"/>
                </a:solidFill>
                <a:latin typeface="Arial Unicode MS"/>
                <a:ea typeface="Arial Unicode MS"/>
              </a:rPr>
              <a:t>permite que la víctima de un daño causado en el interés general de la colectividad, pueda obtener una reparación, con cargo al Estado, en la medida que la carga pública impuesta en beneficio común la perjudique exclusivamente o afecte a un número determinado de sujetos”</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La responsabilidad sin falta por ruptura del principio de igualdad ante las cargas públicas exige para su configuración de un </a:t>
            </a:r>
            <a:r>
              <a:rPr b="1" lang="es-ES" sz="2400" spc="-1" strike="noStrike">
                <a:solidFill>
                  <a:srgbClr val="ff0000"/>
                </a:solidFill>
                <a:latin typeface="Arial Unicode MS"/>
                <a:ea typeface="Arial Unicode MS"/>
              </a:rPr>
              <a:t>daño anormal, especial y grave</a:t>
            </a:r>
            <a:r>
              <a:rPr b="1" lang="es-ES" sz="2400" spc="-1" strike="noStrike">
                <a:solidFill>
                  <a:srgbClr val="000000"/>
                </a:solidFill>
                <a:latin typeface="Arial Unicode MS"/>
                <a:ea typeface="Arial Unicode MS"/>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alibri"/>
              </a:rPr>
              <a:t>¿otros títulos de imputación de responsabilidad del Estado?” </a:t>
            </a:r>
            <a:endParaRPr b="0" lang="en-US" sz="33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litos terrorista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íctimas de otros delitos especialmente violentos?</a:t>
            </a:r>
            <a:endParaRPr b="0" lang="en-US" sz="3200" spc="-1" strike="noStrike">
              <a:solidFill>
                <a:srgbClr val="000000"/>
              </a:solidFill>
              <a:latin typeface="Calibri"/>
            </a:endParaRPr>
          </a:p>
          <a:p>
            <a:pPr lvl="1"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ＭＳ Ｐゴシック"/>
              </a:rPr>
              <a:t>El caso “Ramsgate” (W. Churchill)</a:t>
            </a:r>
            <a:endParaRPr b="0" lang="en-US" sz="28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 </a:t>
            </a:r>
            <a:endParaRPr b="0" lang="en-US" sz="4000" spc="-1" strike="noStrike">
              <a:solidFill>
                <a:srgbClr val="000000"/>
              </a:solidFill>
              <a:latin typeface="Calibri"/>
            </a:endParaRPr>
          </a:p>
        </p:txBody>
      </p:sp>
      <p:sp>
        <p:nvSpPr>
          <p:cNvPr id="50" name="PlaceHolder 2"/>
          <p:cNvSpPr>
            <a:spLocks noGrp="1"/>
          </p:cNvSpPr>
          <p:nvPr>
            <p:ph/>
          </p:nvPr>
        </p:nvSpPr>
        <p:spPr>
          <a:xfrm>
            <a:off x="539640" y="333000"/>
            <a:ext cx="8136000" cy="621972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1" lang="es-ES" sz="2200" spc="-1" strike="noStrike">
                <a:solidFill>
                  <a:srgbClr val="000000"/>
                </a:solidFill>
                <a:latin typeface="Calibri"/>
              </a:rPr>
              <a:t>Tiscornia con Municipalidad de La Florida </a:t>
            </a:r>
            <a:r>
              <a:rPr b="0" lang="es-ES" sz="2200" spc="-1" strike="noStrike">
                <a:solidFill>
                  <a:srgbClr val="000000"/>
                </a:solidFill>
                <a:latin typeface="Calibri"/>
              </a:rPr>
              <a:t>(deslizamiento de material de Cerro San Cristóbal a A. Vespucio y cae sobre automóviles)</a:t>
            </a:r>
            <a:endParaRPr b="0" lang="en-US" sz="2200" spc="-1" strike="noStrike">
              <a:solidFill>
                <a:srgbClr val="000000"/>
              </a:solidFill>
              <a:latin typeface="Calibri"/>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dentro de todo lo que le era previsible, la Administración ha efectuado todas las actividades exigidas a fin de evitar la ocurrencia del daño</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accidente se debe a </a:t>
            </a:r>
            <a:r>
              <a:rPr b="1" lang="es-ES_tradnl" sz="2100" spc="-1" strike="noStrike">
                <a:solidFill>
                  <a:srgbClr val="ff0000"/>
                </a:solidFill>
                <a:latin typeface="Calibri"/>
              </a:rPr>
              <a:t>causas no le eran previsibles</a:t>
            </a:r>
            <a:r>
              <a:rPr b="0" lang="es-ES_tradnl" sz="2100" spc="-1" strike="noStrike">
                <a:solidFill>
                  <a:srgbClr val="000000"/>
                </a:solidFill>
                <a:latin typeface="Calibri"/>
              </a:rPr>
              <a:t>, y en consecuencia importan una hipótesis de caso fortuito: “los daños demandados no se han debido a falta de servicio o culpa del Estado en los hechos”</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que respecto a la factibilidad técnica de haber previsto los funcionarios del Estado la ocurrencia del derrumbe, los testimonios examinados advierten que en éste pueden haber intervenido procesos geológicos, como sismos, micro sismos, estado de saturación, canales de riego, vandalismo, etc., esto es, imprevistos asimilables a </a:t>
            </a:r>
            <a:r>
              <a:rPr b="0" lang="es-ES_tradnl" sz="2100" spc="-1" strike="noStrike">
                <a:solidFill>
                  <a:srgbClr val="ff0000"/>
                </a:solidFill>
                <a:latin typeface="Calibri"/>
              </a:rPr>
              <a:t>caso fortuito</a:t>
            </a:r>
            <a:r>
              <a:rPr b="0" lang="es-ES_tradnl" sz="2100" spc="-1" strike="noStrike">
                <a:solidFill>
                  <a:srgbClr val="000000"/>
                </a:solidFill>
                <a:latin typeface="Calibri"/>
              </a:rPr>
              <a:t>.</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no es posible atribuir al Fisco de Chile responsabilidad en la ocurrencia del fenómeno producido, considerando la</a:t>
            </a:r>
            <a:r>
              <a:rPr b="1" lang="es-ES_tradnl" sz="2100" spc="-1" strike="noStrike">
                <a:solidFill>
                  <a:srgbClr val="000000"/>
                </a:solidFill>
                <a:latin typeface="Calibri"/>
              </a:rPr>
              <a:t> </a:t>
            </a:r>
            <a:r>
              <a:rPr b="1" lang="es-ES_tradnl" sz="2100" spc="-1" strike="noStrike">
                <a:solidFill>
                  <a:srgbClr val="ff0000"/>
                </a:solidFill>
                <a:latin typeface="Calibri"/>
              </a:rPr>
              <a:t>diversidad de causas</a:t>
            </a:r>
            <a:r>
              <a:rPr b="0" lang="es-ES_tradnl" sz="2100" spc="-1" strike="noStrike">
                <a:solidFill>
                  <a:srgbClr val="000000"/>
                </a:solidFill>
                <a:latin typeface="Calibri"/>
              </a:rPr>
              <a:t> que lo pudo originar, como las asimilables a caso fortuit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3640" y="259920"/>
            <a:ext cx="8569080" cy="6193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viedo Perez con Servicio de Salud de Talcahuano</a:t>
            </a:r>
            <a:r>
              <a:rPr b="0" lang="es-ES" sz="2000" spc="-1" strike="noStrike">
                <a:solidFill>
                  <a:srgbClr val="000000"/>
                </a:solidFill>
                <a:latin typeface="Calibri"/>
              </a:rPr>
              <a:t>  (una persona se opera en hospital público. En período post-operatorio en el mismo hospital, contrajo una infección intrahospitalaria, presente en todos los hospitales del mundo: mue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rte se produjo por </a:t>
            </a:r>
            <a:r>
              <a:rPr b="1" lang="es-ES" sz="2000" spc="-1" strike="noStrike">
                <a:solidFill>
                  <a:srgbClr val="000000"/>
                </a:solidFill>
                <a:latin typeface="Calibri"/>
              </a:rPr>
              <a:t>“la existencia de la negligencia y falta de cuidado en la mantención de las adecuadas o debidas condiciones sanitarias del establecimiento, a fin de precaver sucesos semejantes, es de toda evidencia, pues, de no ser así, aquélla no habría contraído la infección que la llevó a la muerte”</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t>
            </a:r>
            <a:r>
              <a:rPr b="1" lang="es-ES" sz="2000" spc="-1" strike="noStrike">
                <a:solidFill>
                  <a:srgbClr val="000000"/>
                </a:solidFill>
                <a:latin typeface="Calibri"/>
              </a:rPr>
              <a:t>No parece justo</a:t>
            </a:r>
            <a:r>
              <a:rPr b="0" lang="es-ES" sz="2000" spc="-1" strike="noStrike">
                <a:solidFill>
                  <a:srgbClr val="000000"/>
                </a:solidFill>
                <a:latin typeface="Calibri"/>
              </a:rPr>
              <a:t> que una persona que se interna en un hospital para atenderse de una determinada enfermedad, fallezca a consecuencia de otra distinta contraída en el mismo establecimiento,  por mucho que alegue la demandada que no existe hospital en el mundo que tenga un índice de infecciones hospitalarias igual a cero...” </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las infecciones intrahospitalarias existen, es deber del servicio erradicarlas, y, si ello no es completamente posible, debe contar con el personal, equipamiento y los procedimientos adecuados para detectarlas cuando ocurren, a fin de impedir su nefasta acción, y cuando de todas maneras debido a una infección de esa naturaleza el paciente fallece, quiere decir, entonces, que ha habido una </a:t>
            </a:r>
            <a:r>
              <a:rPr b="1" lang="es-ES" sz="2000" spc="-1" strike="noStrike">
                <a:solidFill>
                  <a:srgbClr val="ff0000"/>
                </a:solidFill>
                <a:latin typeface="Calibri"/>
              </a:rPr>
              <a:t>falla estructural del servicio, que no fue capaz de enfrentar cumplidamente la emergencia</a:t>
            </a:r>
            <a:r>
              <a:rPr b="0" lang="es-ES" sz="2000" spc="-1" strike="noStrike">
                <a:solidFill>
                  <a:srgbClr val="000000"/>
                </a:solidFill>
                <a:latin typeface="Calibri"/>
              </a:rPr>
              <a:t>”</a:t>
            </a:r>
            <a:endParaRPr b="0" lang="en-US" sz="2000" spc="-1" strike="noStrike">
              <a:solidFill>
                <a:srgbClr val="000000"/>
              </a:solidFill>
              <a:latin typeface="Calibri"/>
            </a:endParaRPr>
          </a:p>
          <a:p>
            <a:pPr lvl="1"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Calibri"/>
              </a:rPr>
              <a:t>Medios de defensa Administración ante reproche de “falta de servicio”</a:t>
            </a:r>
            <a:endParaRPr b="0" lang="en-US" sz="25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su actuación ha sido diligent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previsibl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de su “incumbencia”</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demostrar que se carece de recursos</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caso fortuito o la fuerza may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falta de medios </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oblema:</a:t>
            </a:r>
            <a:r>
              <a:rPr b="0" lang="es-ES" sz="2600" spc="-1" strike="noStrike">
                <a:solidFill>
                  <a:srgbClr val="000000"/>
                </a:solidFill>
                <a:latin typeface="Calibri"/>
              </a:rPr>
              <a:t> negativa o abstención de un órgano administrativo de otorgar un servicio público por falta de recursos</a:t>
            </a:r>
            <a:endParaRPr b="0" lang="en-US" sz="2600" spc="-1" strike="noStrike">
              <a:solidFill>
                <a:srgbClr val="000000"/>
              </a:solidFill>
              <a:latin typeface="Calibri"/>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negativa no sería ilegal si ley condiciona otorgamiento de prestaciones a los recursos profesionales, técnicos y administrativos de que dispongan los establecimiento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50920" y="333360"/>
            <a:ext cx="8512200" cy="56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a:rPr>
              <a:t>Corte Suprema, recurso de protección Rol 3599-2001: </a:t>
            </a:r>
            <a:r>
              <a:rPr b="0" lang="en-US" sz="2000" spc="-1" strike="noStrike">
                <a:solidFill>
                  <a:srgbClr val="000000"/>
                </a:solidFill>
                <a:latin typeface="Arial Unicode MS"/>
                <a:ea typeface="Arial"/>
              </a:rPr>
              <a:t>enfermos de VIH a quienes un Servicio de Salud denegó la triterapi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Cabe consignar, …, que de conformidad con el art. 11 de la Ley 18.469 (</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Regula el ejercicio del Derecho Constitucional a la protección de la salud y crea un Régimen de Prestación de Salud</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 … tales prestaciones se deben otorgar por los Servicios e Instituciones que dependen del Ministerio de Salud, de acuerdo con el Decreto Ley 2.763 y ellas se concederán por esos organismos a través de sus establecimientos, con los recursos humanos de que disponen.</a:t>
            </a: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es) un problema de Salud Pública, cuyas políticas deben ser definidas y aplicadas por las autoridades pertinentes …, que constituyen el personal idóneo para la fijación de las normas de acceso a las prestaciones que … se pretenden, habida cuenta que en su otorgamiento han de tenerse en cuenta variados parámetros, entre otros, como resulta evidente, el relativo a los costos que ellos involucren y los fondos de que se dispongan para ello</a:t>
            </a:r>
            <a:r>
              <a:rPr b="0" lang="ja-JP" sz="2000" spc="-1" strike="noStrike">
                <a:solidFill>
                  <a:srgbClr val="000000"/>
                </a:solidFill>
                <a:latin typeface="Arial Unicode MS"/>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sumen: forma de verificarse falta de servicio</a:t>
            </a:r>
            <a:endParaRPr b="0" lang="en-US" sz="3000" spc="-1" strike="noStrike">
              <a:solidFill>
                <a:srgbClr val="000000"/>
              </a:solidFill>
              <a:latin typeface="Calibri"/>
            </a:endParaRPr>
          </a:p>
        </p:txBody>
      </p:sp>
      <p:sp>
        <p:nvSpPr>
          <p:cNvPr id="58" name="PlaceHolder 2"/>
          <p:cNvSpPr>
            <a:spLocks noGrp="1"/>
          </p:cNvSpPr>
          <p:nvPr>
            <p:ph/>
          </p:nvPr>
        </p:nvSpPr>
        <p:spPr>
          <a:xfrm>
            <a:off x="457200" y="1341360"/>
            <a:ext cx="8229600" cy="511200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a. Infracción deber de actuación</a:t>
            </a:r>
            <a:r>
              <a:rPr b="0" lang="es-CL" sz="2400" spc="-1" strike="noStrike">
                <a:solidFill>
                  <a:srgbClr val="000000"/>
                </a:solidFill>
                <a:latin typeface="Calibri"/>
              </a:rPr>
              <a:t>: omisión o actividad negativas, actividades extemporáneas o tardías</a:t>
            </a: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b. Infracción deber de cuidado</a:t>
            </a:r>
            <a:r>
              <a:rPr b="0" lang="es-CL" sz="2400" spc="-1" strike="noStrike">
                <a:solidFill>
                  <a:srgbClr val="000000"/>
                </a:solidFill>
                <a:latin typeface="Calibri"/>
              </a:rPr>
              <a:t>: actuación debe realizarse respetando deberes de cuidado</a:t>
            </a:r>
            <a:endParaRPr b="0" lang="en-US" sz="2400" spc="-1" strike="noStrike">
              <a:solidFill>
                <a:srgbClr val="000000"/>
              </a:solidFill>
              <a:latin typeface="Calibri"/>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lpa como expresión de un mal comportamiento o de infracción de ley o reglamento</a:t>
            </a:r>
            <a:endParaRPr b="0" lang="en-US" sz="2300" spc="-1" strike="noStrike">
              <a:solidFill>
                <a:srgbClr val="000000"/>
              </a:solidFill>
              <a:latin typeface="Calibri"/>
            </a:endParaRPr>
          </a:p>
          <a:p>
            <a:pPr lvl="1" marL="7131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preciación de otros factores por el Juez</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Intensidad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robabilidad de ocurrencia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Riesg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osto de evitar el dañ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000000"/>
                </a:solidFill>
                <a:latin typeface="Calibri"/>
              </a:rPr>
              <a:t>Prueba de la falta de servicio</a:t>
            </a:r>
            <a:endParaRPr b="0" lang="en-US" sz="33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ueba es de cargo de la víctima:</a:t>
            </a:r>
            <a:endParaRPr b="0" lang="en-US" sz="3200" spc="-1" strike="noStrike">
              <a:solidFill>
                <a:srgbClr val="000000"/>
              </a:solidFill>
              <a:latin typeface="Calibri"/>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etensión de ser indemnizado requiere acreditar cuál ha sido la actividad de la Administración que específicamente se reputa como irregular</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sco puede acreditar que no ha incurrido en infracción ni falta a deber de cuid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ctividad regular dañosa de la AP: el “sacrificio especial” de la víctima</a:t>
            </a:r>
            <a:endParaRPr b="0" lang="en-US" sz="2600" spc="-1" strike="noStrike">
              <a:solidFill>
                <a:srgbClr val="000000"/>
              </a:solidFill>
              <a:latin typeface="Calibri"/>
            </a:endParaRPr>
          </a:p>
        </p:txBody>
      </p:sp>
      <p:sp>
        <p:nvSpPr>
          <p:cNvPr id="62" name="PlaceHolder 2"/>
          <p:cNvSpPr>
            <a:spLocks noGrp="1"/>
          </p:cNvSpPr>
          <p:nvPr>
            <p:ph/>
          </p:nvPr>
        </p:nvSpPr>
        <p:spPr>
          <a:xfrm>
            <a:off x="457200" y="1267920"/>
            <a:ext cx="8229600" cy="5256360"/>
          </a:xfrm>
          <a:prstGeom prst="rect">
            <a:avLst/>
          </a:prstGeom>
          <a:noFill/>
          <a:ln w="0">
            <a:noFill/>
          </a:ln>
        </p:spPr>
        <p:txBody>
          <a:bodyPr anchor="t">
            <a:normAutofit fontScale="97000"/>
          </a:bodyPr>
          <a:p>
            <a:pPr marL="498960" indent="-498960" algn="just">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do debe responder por actuaciones lícitas, si así se establece en la Ley</a:t>
            </a: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rt. 7 Ley SAG: Corresponderán al Director Nacional las siguientes funciones y atribuciones: </a:t>
            </a:r>
            <a:r>
              <a:rPr b="0" lang="es-ES_tradnl" sz="2200" spc="-1" strike="noStrike">
                <a:solidFill>
                  <a:srgbClr val="000000"/>
                </a:solidFill>
                <a:latin typeface="Calibri"/>
              </a:rPr>
              <a:t>j) Disponer el pago de indemnizaciones a propietarios de bienes o productos no contaminados o sanos, que haya sido necesario sacrificar, beneficiar o destruir, como asimismo por las restricciones de uso de predios rústicos dispuestas por el Servicio, para prevenir, controlar o erradicar alguna enfermedad o plaga, previa autorización otorgada mediante decreto supremo del Ministerio de Agricultura, el que llevará además la firma del Ministro de Hacienda. Las indemnizaciones comprenderán sólo el daño patrimonial efectivamente causado.</a:t>
            </a:r>
            <a:endParaRPr b="0" lang="en-US" sz="2200" spc="-1" strike="noStrike">
              <a:solidFill>
                <a:srgbClr val="000000"/>
              </a:solidFill>
              <a:latin typeface="Calibri"/>
            </a:endParaRPr>
          </a:p>
          <a:p>
            <a:pPr marL="4989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2. Estado debe responder aún por actuaciones lícitas, faltando ley, pero si daño provocado es </a:t>
            </a:r>
            <a:r>
              <a:rPr b="1" lang="es-ES" sz="2200" spc="-1" strike="noStrike">
                <a:solidFill>
                  <a:srgbClr val="000000"/>
                </a:solidFill>
                <a:latin typeface="Calibri"/>
              </a:rPr>
              <a:t>grave y espec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2T14:04:15Z</dcterms:modified>
  <cp:revision>167</cp:revision>
  <dc:subject/>
  <dc:title>CONTROL</dc:title>
</cp:coreProperties>
</file>