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157C-6AED-4423-9092-4C871A4F51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E6BE-903F-4BF8-AD7C-94932560D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9A7D-471A-4B89-8B6C-2BD81383D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D914-9A27-42CD-9EB4-87665C046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0611-9E7E-4AD0-86CB-2D95C71C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719C-5E54-4F31-8A9A-DAD336361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728D-2260-4663-8EE7-343366B53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48B1-3705-4C55-9BC0-E73575CB2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8545-D923-433B-BE11-4C42F0FC4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98B5-058B-4EF5-B6CA-96046B0FA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0010-24BC-48D8-A37B-4D5C36D1A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3795-FDC8-4047-82DC-CD906C8E3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5505-930A-496C-AD06-E1C4BFBF9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7B37-08F7-48BA-A2FB-160AAA138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7573-41CD-4ACA-B782-1858A3156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7B7C-953C-44C0-9D1C-9F8201FB1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4EDA-1A95-4C21-9F04-235120680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398D-E326-48F9-9B0B-D2EC78338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B2AC-CD22-4486-A017-834E99E74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597-CCC3-41EF-84ED-7754E03A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C3F-47D7-4400-8EE4-29A27942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378-2D1C-4824-A58C-4389DF1E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0C5-40EB-4C79-9D87-8185BB62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DF0-B040-41D6-A964-D62CD603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9A6-2032-4113-80A5-339E0D80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034-04E3-445F-9076-B168F1D1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659-DAE9-4EC5-9E77-4F4252EC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BFD-EB53-4CCB-B893-E0A6141D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2BE-6B0B-4682-A844-FF43497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B61-A685-4211-9F25-3E67B83E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057-E82D-49B4-96E8-0945CA04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5376-9C00-4A00-BA3E-F2E20834EE1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¿qué actuaciones pueden comprometer responsabilidad Estad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Responsabilidad por actividad líci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emplo histórico: Expropi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upuestos obje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año indemniz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ctuación de la Administración del 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Factor de atribución: el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“sacrificio especial”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de la víct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alta de servic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emento atributivo de responsabilidad actuación irregular de la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a falta de servicio refleja la “culpa o responsabilidad de la organiza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Introducción de la “falta de servicio” en Chi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L 1289/76, art. 6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"La responsabilidad extracontractual procederá, principalmente, para indemnizar los perjuicios que sufran uno o más usuarios de los servicios municipales, cuando esto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funcionen debiendo hacerlo, o lo hagan en forma defici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. 18.575, art. 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. 18.695, art. 1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finición de “falta de servici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ey no la ha definido, pero en todo caso, el leitmotiv del sistema serí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s órganos de Administración son responsables de daños que causen po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lta de serv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obstante, Estado tendrá acción de repetición contra el funcionario que hubiere incurrido e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lta person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racterísticas “falta de servici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stituida por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rencia tot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prestación del servicio, por un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rganización irregu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por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uncionamiento defectuos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ardí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necesario probar dolo o culpa autor material  daño; sólo es necesari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reditar la falta, deficiente o tardía prestación del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ersona de funcionario no interesa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ponsabilidad recaerá únicamente en el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 funcionario es individualizable, su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ción y omisión puede o no ser constitutiva falta administrativ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siendo ello independiente existencia de falta de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entendimiento doctrinario de “falta de servici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ierry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rt. 42 L. 18.575 resume todo el sistema francés de la “falta de servici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 aplica 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ctividad material y jurídica de Administ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 “culpa del servicio” (resp. subjeti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tendimiento doctrinario de “falta de servicio”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López Sta. Marí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alta de servicio es obje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ce referencia a un resultado ineficiente o daño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García Mendoz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alta de servicio es una nueva y especial forma de responsabilidad pública obje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responsabilidad no obliga a víctima a probar dolo o culpa en autor material daño, basta el dañ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no obstante debe acreditar la falta, deficiente o tardía prestación del servicio, pero ello no le otorgaría algún grado de subjetivi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Calibri"/>
              </a:rPr>
              <a:t>Parámetro de medición de la “falta de servicio”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comparación con patrón de refer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derecho común es el buen padre de familia (art. 44 C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trón para juzgar conducta Administración está referido a lo qu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uede razonablemente exigirse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un comportamiento normal y legal, a un servicio púb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serto en una realidad particula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una situación especial de paí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iderando posibilidades reales de acción de Administ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tendido sus medios, su presupuesto y características prop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00100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Caso Pavez Jara, Juan con Municipalidad de La Florida 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(caída de niño a piscina, cuyo borde está mojado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Sostiene el libelo que había habido falta de servicio al encontrarse el borde moj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Corte sostuvo que del actuar de la municipalidad había sido perfectamente normal, toda vez que no podía exigírsele que tuviera totalmente secos los bordes de la piscin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Fue la conducta o el hecho (culpable o no, no importa) de la víctima la causante del accidente, puesto que el borde mojado de una pileta no es la consecuencia de omisión municipal alguna, desde </a:t>
            </a:r>
            <a:r>
              <a:rPr b="1" lang="es-ES" sz="2300" spc="-1" strike="noStrike">
                <a:solidFill>
                  <a:srgbClr val="ff0000"/>
                </a:solidFill>
                <a:latin typeface="Calibri"/>
              </a:rPr>
              <a:t>que lo normal es que una piscina esté mojada y resbaladiza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, de manera que de lo que aquí se trata es de riesgos asumidos por la propia víctim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ª regl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oda actuación (unilateral) puede comprometer responsabilidad, en tanto sea extracontrac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puede ser positiva o neg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3ª regl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positiva puede s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Formal o juríd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aterial o r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4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negativa puede s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egativa – f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egativa -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5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uede tratarse de actuación irregular o líc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Actuación irregul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rts. 6 y 7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dministración responde por actuaciones ilícitas de sus órganos, es decir, infractoras de normas constitucionales y leg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Quien ejerce el poder, debe hacerlo conforme al ordenamiento juríd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Fundamento general de responsabilidad: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Estado de Derec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Responsabilidad por actividad irregul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upuestos obje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año indemniz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ctuación de la Administración del 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elación de caus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Factor de atribución: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“falta de servici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ctuación regular o líc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rts. 1, inc. 4, y 5, inc. 2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esión de derechos importa antijuridic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erecho justifica el obrar permitido, que por ello es lícito, en cambio no justifica ni legitima que como consecuencia de él se ocasione un da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Fundamento general de responsabilidad: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igualdad de cargas públicas, derecho a la propiedad, la equidad, el bien com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2-06T20:17:12Z</dcterms:modified>
  <cp:revision>163</cp:revision>
  <dc:subject/>
  <dc:title>CONTROL</dc:title>
</cp:coreProperties>
</file>