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6F05-B7DF-4C22-969E-F68B035A94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D4F0-A3FB-456C-9CF7-74B9C2AFC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2215-C0C2-43D6-B3E9-A31D5015F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DE47-D3DA-4DB4-938D-3E192CC45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C1F9-3A24-48C8-ABE6-6F0CA4A76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9D6C-C526-49DE-824A-0365677A3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F6E-2E88-4464-A3BE-01D7C415E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0DE5-6751-42AA-ABC0-630A7EABC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D09C-50C3-4ACD-8311-A7629165B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B3F7-0C12-4FC1-BA58-11820F280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8CC9-B29D-4379-8AC6-138862B1F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72CC-A131-4594-8DCB-A74CC24DB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A181-22E2-47FC-9DAC-CD25FF4CF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82E1-978F-48CC-A6EA-59AB5BC1E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10BF-B08C-4475-B6F7-A0B919B02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4B3C-4A9B-4BCE-B2C3-FC8D33AB2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C0EB-99D6-4389-8E1E-04F42CD1A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8AE3-20EA-46F6-B6FF-191E4D7A3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485C-4955-4C76-A6BE-57C34C551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ACD-D5B3-460F-87AC-4613EFAC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011-7266-4927-AF14-AED417B7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820-CDD8-46C3-A916-C88F5C40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F0E-D1E7-410E-9223-A7399EB4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E3D-02CE-436F-950B-B32F9B4A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1E7-5D04-47BC-8F6B-80C90918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6B9-280D-462E-A375-A1DC6631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770-A8B9-475D-ABE3-EA824DC6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A56-6CD2-4E17-82DF-719A69CF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015-1EEF-4404-A645-C7652A2F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57E-CD6A-4FC5-BA59-3C573B6E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A06-C0B1-4D21-AA72-6A8C4919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4ABA-1076-4C6D-AE29-5E899371044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¿qué actuaciones pueden comprometer responsabilidad Estad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Responsabilidad por actividad líci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emplo histórico: Expropi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upuestos obje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año indemniz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ctuación de la Administración del 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Factor de atribución: el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“sacrificio especial”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de la víct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alta de servic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emento atributivo de responsabilidad actuación irregular de la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a falta de servicio refleja la “culpa o responsabilidad de la organiza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Introducción de la “falta de servicio” en Chi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L 1289/76, art. 6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"La responsabilidad extracontractual procederá, principalmente, para indemnizar los perjuicios que sufran uno o más usuarios de los servicios municipales, cuando esto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funcionen debiendo hacerlo, o lo hagan en forma defici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. 18.575, art. 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. 18.695, art. 1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finición de “falta de servici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ey no la ha definido, pero en todo caso, el leitmotiv del sistema serí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s órganos de Administración son responsables de daños que causen po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lta de serv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obstante, Estado tendrá acción de repetición contra el funcionario que hubiere incurrido e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lta person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racterísticas “falta de servici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stituida por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rencia tot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prestación del servicio, por un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rganización irregu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por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uncionamiento defectuos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ardí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necesario probar dolo o culpa autor material  daño; sólo es necesari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reditar la falta, deficiente o tardía prestación del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ersona de funcionario no interesa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ponsabilidad recaerá únicamente en el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 funcionario es individualizable, su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ción y omisión puede o no ser constitutiva falta administrativ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siendo ello independiente existencia de falta de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entendimiento doctrinario de “falta de servici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ierry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rt. 42 L. 18.575 resume todo el sistema francés de la “falta de servici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 aplica 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ctividad material y jurídica de Administ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 “culpa del servicio” (resp. subjeti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tendimiento doctrinario de “falta de servicio”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López Sta. Marí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alta de servicio es obje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ce referencia a un resultado ineficiente o daño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García Mendoz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alta de servicio es una nueva y especial forma de responsabilidad pública obje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responsabilidad no obliga a víctima a probar dolo o culpa en autor material daño, basta el dañ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no obstante debe acreditar la falta, deficiente o tardía prestación del servicio, pero ello no le otorgaría algún grado de subjetivi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Calibri"/>
              </a:rPr>
              <a:t>Parámetro de medición de la “falta de servicio”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comparación con patrón de refer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derecho común es el buen padre de familia (art. 44 C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trón para juzgar conducta Administración está referido a lo qu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uede razonablemente exigirse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un comportamiento normal y legal, a un servicio púb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serto en una realidad particula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una situación especial de paí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iderando posibilidades reales de acción de Administ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tendido sus medios, su presupuesto y características prop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00100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Caso Pavez Jara, Juan con Municipalidad de La Florida 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(caída de niño a piscina, cuyo borde está mojado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Sostiene el libelo que había habido falta de servicio al encontrarse el borde moj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Corte sostuvo que del actuar de la municipalidad había sido perfectamente normal, toda vez que no podía exigírsele que tuviera totalmente secos los bordes de la piscin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Fue la conducta o el hecho (culpable o no, no importa) de la víctima la causante del accidente, puesto que el borde mojado de una pileta no es la consecuencia de omisión municipal alguna, desde </a:t>
            </a:r>
            <a:r>
              <a:rPr b="1" lang="es-ES" sz="2300" spc="-1" strike="noStrike">
                <a:solidFill>
                  <a:srgbClr val="ff0000"/>
                </a:solidFill>
                <a:latin typeface="Calibri"/>
              </a:rPr>
              <a:t>que lo normal es que una piscina esté mojada y resbaladiza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, de manera que de lo que aquí se trata es de riesgos asumidos por la propia víctim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ª regl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oda actuación (unilateral) puede comprometer responsabilidad, en tanto sea extracontrac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puede ser positiva o neg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3ª regl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positiva puede s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Formal o juríd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aterial o r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4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negativa puede s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egativa – f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egativa -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5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uede tratarse de actuación irregular o líc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Actuación irregul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rts. 6 y 7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dministración responde por actuaciones ilícitas de sus órganos, es decir, infractoras de normas constitucionales y leg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Quien ejerce el poder, debe hacerlo conforme al ordenamiento juríd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Fundamento general de responsabilidad: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Estado de Derec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Responsabilidad por actividad irregul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upuestos obje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año indemniz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ctuación de la Administración del 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elación de caus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Factor de atribución: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“falta de servici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ctuación regular o líc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rts. 1, inc. 4, y 5, inc. 2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esión de derechos importa antijuridic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erecho justifica el obrar permitido, que por ello es lícito, en cambio no justifica ni legitima que como consecuencia de él se ocasione un da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Fundamento general de responsabilidad: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igualdad de cargas públicas, derecho a la propiedad, la equidad, el bien com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2-06T20:17:12Z</dcterms:modified>
  <cp:revision>163</cp:revision>
  <dc:subject/>
  <dc:title>CONTROL</dc:title>
</cp:coreProperties>
</file>